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2954D-E118-4A9C-AA9B-CE97D06B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DA1C-2F52-4679-9A9A-5419F8F7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24FE0-952B-4795-A59B-7BBA7F4C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27686-37F0-48FA-8D22-9AC0DAC4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F953-B455-49A5-8D17-645BA3FD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C68F-FE34-4DFD-8CA9-A10D8C16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38E9-C841-46D6-BAF1-A7CE4046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19C3-F4B0-42F5-9DA8-5DEA7E69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9519-8E89-45A8-987B-4A452C9C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D79A-DE31-43CE-A7B8-A2A48DDA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A5DC-6738-43C9-984C-7CCE10B5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5EF24-342C-4094-8706-330A4619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6BF1-F6A1-40B7-8FA4-9BA5DE36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2EA1-4087-4927-8322-F244FC8A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4DA2-C341-49F8-9EDE-9C6D9439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FE2D-4FB9-4C0C-93A0-6BF49751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CFD9-ED04-4465-A344-DCAE22F6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6F02-274D-4A9D-AAAE-4E10F889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CC1C-B58C-41D2-A871-631FA83F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B420B-667B-49D6-BA3E-C3623B64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03A01-6F6C-4A5B-AC63-193B5A4A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8F42-5BE8-4A8D-8773-9D40E9FC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21E1-A1EE-4933-822D-3BE1F42D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0E809-31DF-47F6-A124-9C730E82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A827-D4B4-46E3-9174-49BB814365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74F9-153B-460E-A7B9-86CAF73DEC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57200" y="426708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ТЕХНИЧЕСКОЕ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СОСТОЯНИЕ ЗДАНИ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аблице 8000 показывают сведения о техническом состоянии всех, состоящих на балансе и арендуемых зданий всех подразделений медицинских организац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ание – это строение, имеющее свой технический паспорт и состоящее на балансе медицинской организации или арендуемое у других организаций на конец отчетного года. Таблица 8000 заполняется на основании технического паспорта здания, актов обследования зданий на необходимость капитального ремонта, актов об аварийном состоянии з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ленное помещение – это помещение технически переобустроенное для определенных целей использования. То, что изначально не входило в типовой про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разде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Техническое состояние зданий» ФФСН №30 следует иметь в ви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80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05"/>
          <p:cNvSpPr/>
          <p:nvPr/>
        </p:nvSpPr>
        <p:spPr>
          <a:xfrm>
            <a:off x="228600" y="380880"/>
            <a:ext cx="8534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ическое состояние зд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80880" y="1066680"/>
          <a:ext cx="8458200" cy="5799240"/>
        </p:xfrm>
        <a:graphic>
          <a:graphicData uri="http://schemas.openxmlformats.org/drawingml/2006/table">
            <a:tbl>
              <a:tblPr/>
              <a:tblGrid>
                <a:gridCol w="1706760"/>
                <a:gridCol w="226800"/>
                <a:gridCol w="239760"/>
                <a:gridCol w="582840"/>
                <a:gridCol w="529920"/>
                <a:gridCol w="517680"/>
                <a:gridCol w="493560"/>
                <a:gridCol w="479520"/>
                <a:gridCol w="468360"/>
                <a:gridCol w="492120"/>
                <a:gridCol w="493560"/>
                <a:gridCol w="430560"/>
                <a:gridCol w="428400"/>
                <a:gridCol w="405000"/>
                <a:gridCol w="407880"/>
                <a:gridCol w="555480"/>
              </a:tblGrid>
              <a:tr h="19872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драздел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зд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площадь зданий  (кв 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ходят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ют виды благоустройства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ходятся в аварийном состоянии, требует снос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буют реконстру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буют капитального ремон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риспособленных помещения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арендованных помещения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опров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ячее водоснабж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тральное отопл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лизаци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ефонную связ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ое энергоснабж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.ч. в рабочем состоя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ения, оказывающие медицинскую помощь в амбулаторных условия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ения, оказывающие медицинскую помощь в стационарных условия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ения, оказывающие медицинскую помощь в амбула-торных и стационарных условиях, расположенные в одном зда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исы врачей общей прак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П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льдшерские пунк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тологоанатомические отде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(сумма строк 1-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05"/>
          <p:cNvSpPr/>
          <p:nvPr/>
        </p:nvSpPr>
        <p:spPr>
          <a:xfrm>
            <a:off x="228600" y="3808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53"/>
          <p:cNvSpPr/>
          <p:nvPr/>
        </p:nvSpPr>
        <p:spPr>
          <a:xfrm>
            <a:off x="685800" y="762120"/>
            <a:ext cx="79246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сли подразделения, оказывающие медицинскую помощь в амбулаторных условиях, расположены в одном или нескольких отдельных зданиях, сведения о них показывают в стр.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сли подразделения, оказывающие медицинскую помощь в стационарных условиях, расположены в одном или нескольких отдельных зданиях, сведения о них показывают в стр. 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сли подразделения, оказывающие медицинскую помощь в амбулаторных и стационарных условиях, расположены в одном или нескольких отдельных зданиях, сведения о них показывают в стр. 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дания, в которых расположены подразделения, указанные в стр. 1-3 показывают в соответствующих строках, независимо от того, все здание или только часть его используется подразделениям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отдельных строках показывают сведения о зданиях офисов врачей общей практики, ФАПов, фельдшерских пунктов и патологоанатомических бюро и отделений (стр. 4-7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дания, в которых расположены все остальные подразделения, показывают суммарно в стр. 8. Учитывают число всех зданий, независимо от того, сколько подразделений в нем расположе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. 9 должна быть равна сумме строк 1-8 по всем графа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ЛАГОДАРЮ ЗА ВНИМАНИ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Sony</cp:lastModifiedBy>
  <dcterms:modified xsi:type="dcterms:W3CDTF">2017-11-26T10:57:28Z</dcterms:modified>
  <cp:revision>6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