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E17E-80AC-4466-8199-C97B8CC136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658-B602-48DC-9177-695D9667A3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AA7-0D1C-4570-954B-C3436384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0A2-ECE6-4E15-88BE-509BF715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CED-7206-4E13-8BBA-235703C3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E5E-1121-4017-8E23-81363FAE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2B02-457E-44AF-B2F0-7D3047A1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C1C5-56C0-4517-A445-899B4E75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7973-04A8-408B-B54D-0DB96B03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525D-A1B3-43BB-97E3-A263FE6F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7C0A-64BC-4C94-9634-061218C2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F690-8537-4B6E-8B0C-9EC990BE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5D16-0A7E-425A-BA9F-18737F4E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EB0-FDAD-400C-B9E5-309FA67B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A353-4DC1-45D5-ABF1-C549DBA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C921-56A0-4DF9-8EA9-F8C37E6A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7486-2F55-4009-BAD4-F223E49A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DC42-B6DB-45FF-9188-7CB2C6E4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D5EC-84EE-4FB9-9D68-E1A89B4A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F8D-F035-47D5-89DB-A9C97407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EB7-7918-4023-9206-413AC2A0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C05-BB51-4228-9CD7-1D8E8ADE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37D-3BF6-481D-94CF-84EF8270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846-0B01-4FC1-A7B2-B1D4F6C0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180-C465-44EC-A9BB-351F64FE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8FF-1EB2-476C-8045-F3DFBB60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F53A-0E23-447B-97DE-D4809AA1DC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50F6-4CF5-4A8C-9B4E-0B17B09B3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1595-17F4-470A-A238-D862E378D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7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403280" y="22766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476360" y="278136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27.12.2016 №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, что в акушерско-гинекологической практике, как правило, сепсис регистрируется не как осложнение аборта, беременности, родов и послеродового периода, а как криптогенное заболевание. Это ведет к сокрытию случаев материнской смер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1413000"/>
          <a:ext cx="8147160" cy="4655880"/>
        </p:xfrm>
        <a:graphic>
          <a:graphicData uri="http://schemas.openxmlformats.org/drawingml/2006/table">
            <a:tbl>
              <a:tblPr/>
              <a:tblGrid>
                <a:gridCol w="1384560"/>
                <a:gridCol w="2117520"/>
                <a:gridCol w="2036880"/>
                <a:gridCol w="2608200"/>
              </a:tblGrid>
              <a:tr h="47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епсис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50920" y="129132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тенокард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клинический синдром, проявляющийся чувством дискомфорта или болью в грудной клетке сжимающего, давящего характера, которая локализуется чаще всего за грудиной и может иррадиировать в левую руку, шею, нижнюю челюсть, эпигастральную область. Стенокардия обусловлена преходящей ишемией миокарда, основой которой является несоответствие между потребностью миокарда в кислороде и его доставкой по коронарным артериям. Стенокардия является  проявлением "ишемической болезни сердца", которая по определению ВОЗ (1971) представляет собой </a:t>
            </a:r>
            <a:r>
              <a:rPr b="1" i="1" lang="ru-RU" sz="2000" spc="-1" strike="noStrike" u="sng">
                <a:solidFill>
                  <a:srgbClr val="c0504d"/>
                </a:solidFill>
                <a:uFillTx/>
                <a:latin typeface="Arial"/>
              </a:rPr>
              <a:t>острую или хроническую дисфункц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озникающую вследствие относительного или абсолютного уменьшения снабжения миокарда артериальной кров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Calibri"/>
              </a:rPr>
              <a:t>СТЕНОКАР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5083200" y="156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16000" y="1341360"/>
          <a:ext cx="6624720" cy="4348080"/>
        </p:xfrm>
        <a:graphic>
          <a:graphicData uri="http://schemas.openxmlformats.org/drawingml/2006/table">
            <a:tbl>
              <a:tblPr/>
              <a:tblGrid>
                <a:gridCol w="2208240"/>
                <a:gridCol w="2206440"/>
                <a:gridCol w="22100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бсолютные величины летальных и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нокарди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20.0-.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её нестабильная стенокардия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Динамика летальности от стенокардии в стационарах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971640" y="1844640"/>
          <a:ext cx="7200720" cy="3635280"/>
        </p:xfrm>
        <a:graphic>
          <a:graphicData uri="http://schemas.openxmlformats.org/drawingml/2006/table">
            <a:tbl>
              <a:tblPr/>
              <a:tblGrid>
                <a:gridCol w="1226880"/>
                <a:gridCol w="1868760"/>
                <a:gridCol w="1800000"/>
                <a:gridCol w="230508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ая Феде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84360" y="981000"/>
          <a:ext cx="7921440" cy="3353040"/>
        </p:xfrm>
        <a:graphic>
          <a:graphicData uri="http://schemas.openxmlformats.org/drawingml/2006/table">
            <a:tbl>
              <a:tblPr/>
              <a:tblGrid>
                <a:gridCol w="1585800"/>
                <a:gridCol w="1582560"/>
                <a:gridCol w="158436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8"/>
          <p:cNvSpPr/>
          <p:nvPr/>
        </p:nvSpPr>
        <p:spPr>
          <a:xfrm>
            <a:off x="1692360" y="189000"/>
            <a:ext cx="611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СИМПТОМ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6" descr=""/>
          <p:cNvPicPr/>
          <p:nvPr/>
        </p:nvPicPr>
        <p:blipFill>
          <a:blip r:embed="rId2"/>
          <a:stretch/>
        </p:blipFill>
        <p:spPr>
          <a:xfrm>
            <a:off x="781200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Пациенты с симптомами заболевания госпитализируются для уточнения диагноза. </a:t>
            </a:r>
            <a:br>
              <a:rPr sz="1400"/>
            </a:b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Если диагноз заболевания не уточнен эти случаи госпитализации следует рассматривать как обследование и должны регистрироваться в строке </a:t>
            </a: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21.0 «Факторы, влияющие на состояние здоровья и обращения в учреждения здравоохранения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ждый случай летального исхода по этому классу 18 МКБ-10 </a:t>
            </a: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(симптомы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6" descr=""/>
          <p:cNvPicPr/>
          <p:nvPr/>
        </p:nvPicPr>
        <p:blipFill>
          <a:blip r:embed="rId3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7" descr=""/>
          <p:cNvPicPr/>
          <p:nvPr/>
        </p:nvPicPr>
        <p:blipFill>
          <a:blip r:embed="rId4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8" descr=""/>
          <p:cNvPicPr/>
          <p:nvPr/>
        </p:nvPicPr>
        <p:blipFill>
          <a:blip r:embed="rId5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9" descr=""/>
          <p:cNvPicPr/>
          <p:nvPr/>
        </p:nvPicPr>
        <p:blipFill>
          <a:blip r:embed="rId6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0" descr=""/>
          <p:cNvPicPr/>
          <p:nvPr/>
        </p:nvPicPr>
        <p:blipFill>
          <a:blip r:embed="rId7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11280" y="1052640"/>
          <a:ext cx="7921440" cy="3528720"/>
        </p:xfrm>
        <a:graphic>
          <a:graphicData uri="http://schemas.openxmlformats.org/drawingml/2006/table">
            <a:tbl>
              <a:tblPr/>
              <a:tblGrid>
                <a:gridCol w="1585800"/>
                <a:gridCol w="1582920"/>
                <a:gridCol w="158400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 с синдромом Дау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53"/>
          <p:cNvSpPr/>
          <p:nvPr/>
        </p:nvSpPr>
        <p:spPr>
          <a:xfrm>
            <a:off x="971640" y="4869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504d"/>
                </a:solidFill>
                <a:uFillTx/>
                <a:latin typeface="Arial"/>
              </a:rPr>
              <a:t>Врождённый порок сердца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- главная причина смерти детей с синдромом Да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ричины смерти взрослых пациентов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чаще всего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соматические болезни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а не синдром Дауна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ь стационара РФ</a:t>
            </a:r>
            <a:br>
              <a:rPr sz="2400"/>
            </a:br>
            <a:r>
              <a:rPr b="1" lang="ru-RU" sz="2400" spc="-1" strike="noStrike">
                <a:solidFill>
                  <a:srgbClr val="cc00cc"/>
                </a:solidFill>
                <a:latin typeface="Calibri"/>
              </a:rPr>
              <a:t>Синдром Дау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СЕМИРНОЙ ОРГАНИЗАЦИЕЙ ЗДРАВООХРАН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атеринская смер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яется как обусловленная беременностью (независимо от ее продолжительности и локализации) смерть женщины, наступившая в период беременности или в теч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2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ней после ее окончания от какой-либо причины, связанной 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ременностью, отягощенной ею или ее ведением, но не от несчастного случая или случайно возникшей 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Смерть, происшедшая во время беременности, родов и в послеродовом период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это смерть женщины во время беременности или в течение 42 дней по окончании беременности, независимо от причины смерти (акушерской или н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ушерско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9"/>
          <p:cNvSpPr/>
          <p:nvPr/>
        </p:nvSpPr>
        <p:spPr>
          <a:xfrm>
            <a:off x="2340000" y="620640"/>
            <a:ext cx="4572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КРИЕРУ ЕМИЛ МИХАЙ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2268360" y="2781360"/>
            <a:ext cx="4572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2484360" y="1557360"/>
            <a:ext cx="345600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226836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МАТЕРИНСКИЕ СМЕРТИ ДОЛЖНЫ РАЗДЕЛЯТЬСЯ НА ДВЕ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1. ПРЯМЫЕ АКУШЕРСКИЕ СМЕРТ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, что явились результатом акушерских осложнений состояния беременности (беременность, роды и послеродовой период) в результате вмешательств, упущений, неправильного лечения, или от цепочки событий в результате любого из вышеупомянутых обстоятель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(при наличии беремен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1676520"/>
          <a:ext cx="8382240" cy="468792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новка серд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46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ное кровотечение после аб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8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лный аборт по медицинским показани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4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12 недель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alibri"/>
              </a:rPr>
              <a:t>2. КОСВЕННЫЕ (НЕПРЯМЫЕ) АКУШЕРСКИЕ СМЕРТ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, которые явились результа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я предшествующего заболева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заболевания, которое  возникло во время беременности, и которое не является следствием прямых акушерских причин, но которое обострилось в связи с физиологическим воздействием берем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 от злокачественного новообразования </a:t>
            </a: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(при наличии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2209680"/>
          <a:ext cx="8382240" cy="388620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тон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удочное кровот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9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к малой кривизны желуд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99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36 нед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(при наличии беременно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676520"/>
          <a:ext cx="8382240" cy="462888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тон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6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роз желчного пузы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8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Желчнокаменная боле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9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ь, холецистэктомия 12.06.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ицинское свидетельство о смерти от травмы (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при наличии беременност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1828800"/>
          <a:ext cx="8382240" cy="4449600"/>
        </p:xfrm>
        <a:graphic>
          <a:graphicData uri="http://schemas.openxmlformats.org/drawingml/2006/table">
            <a:tbl>
              <a:tblPr/>
              <a:tblGrid>
                <a:gridCol w="739800"/>
                <a:gridCol w="6327720"/>
                <a:gridCol w="1314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моррагический 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брюшное кровоте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8.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азрыв селез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3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адение на эскалаторе ме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10.</a:t>
                      </a: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е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Таблица 3000 «Состав новорожденных с заболеваниями, поступивших в возрасте 0-6 дней жизни, и исходы их леч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755640" y="177336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 заболеваниях этих новорожденных показывают в таблице 2000 в соответствующих стро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Таблица 4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1, 03:28 = 14, 4000, 2+3+4+5+6+7+8+9+10+11+12+13+14+15+16=17+18+19+20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8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81+82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2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21П29+210+21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ции на сосудах  (строка 8) и операции на нервной системе (2)  не должны дублироваться. Если данные операции подходят как для строки 8, так и для строки 2, следует  отметить их только в одной стро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чие операции, которые вошли в строки 2 и 8, но не вошли в предлагаемый перечень операций,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едует расшифровать – приложить список операций и их количество. То же касается строки 20 -Прочие операции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данной  расшифровки отчет приниматься не буд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80928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996633"/>
                </a:solidFill>
                <a:uFillTx/>
                <a:latin typeface="Arial"/>
              </a:rPr>
              <a:t>закрещенных и незакрещенных графоклетках в стро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о ук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достовер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ция о проведенных операциях по поводу злокачественных новообразований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рока  7 – 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случаев (операции на сердце), строка 9.7 – 518 случаев (геморр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опер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20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трансплант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 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50920" y="1627200"/>
            <a:ext cx="792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5, 10.6.6 и 10.6.7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рдно-желудочковая (атриовентрикулярная) блока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очковая тахикардия, фибрилляция и трепетание предсердий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являются осложнением «основного заболевания», они в Форму не включаются.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ДЕРЖКА ИЗ УКАЗАНИЯ ПО ЗАПОЛНЕНИЮ ФОРМЫ ФЕДЕРАЛЬНОГО СТАТИСТИЧЕСКОГО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правил проведения патолого-анатомических исследований  (Приложение к приказу МЗ РФ от 24 марта 2016 г. N 179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чет числа проведенных прижизненных патолого-анатомических исследований и связанных с ним показателей производится по числу случаев исследования на основании оформленных Протоколов. Под случаем понимается исследование биопсийного (операционного) материала, полученного от пациента в рамках одного посещения (обращения, госпитализации) по поводу одного заболевания, включающее все этапы, указанные в пункте 16 настоящих Правил, и дополнительные методы исследования, указанные в пункте 17 настоящих Правил (в случае, если данные методы назначены врачом-патологоанатом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" y="11354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аблица  4110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54280"/>
          <a:ext cx="8642160" cy="4435560"/>
        </p:xfrm>
        <a:graphic>
          <a:graphicData uri="http://schemas.openxmlformats.org/drawingml/2006/table">
            <a:tbl>
              <a:tblPr/>
              <a:tblGrid>
                <a:gridCol w="3676680"/>
                <a:gridCol w="1054080"/>
                <a:gridCol w="1058760"/>
                <a:gridCol w="1058760"/>
                <a:gridCol w="17938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Форма №1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Arial"/>
              </a:rPr>
              <a:t>Таблица 4201 Трансплан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ые, представленные в таблице, должно соответствовать данным, представленным в форме 63 ФС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обратить внимание, что строка 1 равна сумме строк 2-9 по всем графам. Строка 10 не сумм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предоставить расшифровку строки 9 – трансплантация 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прочих орга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63640" y="378936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Голубые холмы"/>
          <p:cNvPicPr/>
          <p:nvPr/>
        </p:nvPicPr>
        <p:blipFill>
          <a:blip r:embed="rId1"/>
          <a:stretch/>
        </p:blipFill>
        <p:spPr>
          <a:xfrm>
            <a:off x="1692360" y="907920"/>
            <a:ext cx="5833800" cy="269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1439640" cy="1152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3192480" y="5071320"/>
            <a:ext cx="29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б.т. +7 925 -299-78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НЕКОТОРЫЕ УСЛОВИЯ КОНТРОЛЯ</a:t>
            </a:r>
            <a:br>
              <a:rPr sz="28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(Таблица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ИШЕМИЧЕСКИЕ БОЛЕЗНИ СЕРД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4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 графам 4-12, 13-21,  22-33 должна быть равна сумме строк: 10.4.1 + 10.4.2 + 10.4.3  +10.4.4 +10.4.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ЦЕРЕБРОВАСКУЛЯРНЫЕ БОЛЕ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4-7, 13-16,  22-27 должна быть равна сумме строк: 10.7.1 + 10.7.2 + 10.7.3 + 10.7.4 + 10.7.5 + 10.7.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8-12,  17- 21, 28-33 может быть больше суммы строк: 10.7.1 + 10.7.2 + 10.7.3 + 10.7.4 + 10.7.5 + 10.7.6 за счет рубри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69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«Последствия цереброваскулярных болезн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9280" y="1484280"/>
          <a:ext cx="8642520" cy="4046400"/>
        </p:xfrm>
        <a:graphic>
          <a:graphicData uri="http://schemas.openxmlformats.org/drawingml/2006/table">
            <a:tbl>
              <a:tblPr/>
              <a:tblGrid>
                <a:gridCol w="4248360"/>
                <a:gridCol w="1062000"/>
                <a:gridCol w="915840"/>
                <a:gridCol w="476280"/>
                <a:gridCol w="476280"/>
                <a:gridCol w="399960"/>
                <a:gridCol w="1063800"/>
              </a:tblGrid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болезни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Б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т хронический и неуточненный, эмфизе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0-J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ая хроническая обструктивная легочная болезн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функция яи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ройства менстр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91-N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, роды и послеродов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0-O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ЕКОТОРЫЕ УСЛОВИЯ КОНТРОЛЯ</a:t>
            </a:r>
            <a:br>
              <a:rPr sz="2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продолжение)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Таблица 2000 - ДЕ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67"/>
          <p:cNvSpPr/>
          <p:nvPr/>
        </p:nvSpPr>
        <p:spPr>
          <a:xfrm>
            <a:off x="395280" y="566028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Эти диагнозы не могут быть причиной болезни детей в возрасте до 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псис (А40-41, строка 2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еми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50-D6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ельные нарушения, вовлекающие иммунный механизм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80-D8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жирение (Е66, строка 5.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01-F9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6.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ая ревматическая лихорадк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0-I0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1) –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нические ревматические болезни сердц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5-I0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2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ипп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9-J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2 )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0-J0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ые поражения соединительной ткани (М30-М35, строка 14.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беркулез органов дыхания (А15-А16, строка 2.2) – для детей 0 - 17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ЛОЖНЕ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ЕПС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ТЕНОКАРДИЯ НА ФОНЕ ХРОНИЧЕСКОЙ ФОРМЫ ИШЕМИЧЕСКОЙ БОЛЕЗНИ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57200" y="525384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ждый случай летального исхода при этих осложнениях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Пользователь Windows</cp:lastModifiedBy>
  <dcterms:modified xsi:type="dcterms:W3CDTF">2017-11-15T12:05:39Z</dcterms:modified>
  <cp:revision>237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