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6EF5-97B2-4FCC-A671-8DE55EE748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B104-27EA-49F6-9073-8F621D80F3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CCB4E5-99EB-447C-92C9-DC3CBEF94B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BAB6-D2D6-4DFE-B3FD-1FE54E21A6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2703-64DD-47DA-B415-93E09F277E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D881-32C0-4B8C-8B26-E4522E878B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F7A-B0E6-4E57-AFC0-7D37B32A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433-E5F2-4E73-9E83-1D8F01E0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F65-3AF9-4A61-A2C2-07E76632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49F9-15D9-4CB2-9BA6-AA4764A5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DDB7-3912-4E50-8462-7E44F4EC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EBCD-1400-4B90-AA85-B7FA0387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ED4D-6E43-4412-B430-8D692B32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CE0B-25D3-48FA-8DA6-5601E6B3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CC80-9731-483A-AEFF-3882EC0B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294A-99CA-45C9-98E9-2C03782E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9BC3-2B1B-4B10-AF71-5D0B76F8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1CC8-B9AD-451D-A1EA-53254183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408E-42C0-4355-A868-2BCD0DF4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5158-D609-4592-BE7E-9AF5E095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0C58-068B-4FBE-9B44-B981D931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E7B9-7035-4AC4-A77F-8255314C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C0E5-F9E1-4086-A2DB-AC77A51B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B31-706F-49A6-8CA0-2F60EB2D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A49-72D5-4AF4-BC2D-52AEC340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32E-0F1A-41F2-A4D8-0FA1BFC0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1A2-6B46-43A1-A601-B70248B6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653-734C-48FE-83F9-A3CB3021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0D3-453A-43FE-9CBD-F6DE4C75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F43-1788-4FC7-9CE3-47820C88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B457-DF91-4EB9-984F-EC19516CE0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9721-FD26-4758-9BDC-AEF13248FD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сведений о работе скорой медицинской помощи в форме федерального статистического наблюдения № 30 «Сведения о медицинской организации» за 2017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бригадами скорой медицинской помощи при выездах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медицинская помощь при выездах по возрастам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бригад скорой медицинской помощ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помощь общепрофильными фельдшерскими бригадами – медицинская эвакуация, из них сельских жителе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7120" y="121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, из них сельских жителе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ездов бригад скорой медицинской помощи по времени доезда и затраченному на один выезд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7120" y="121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 «Число станций (отделений) скорой медицинской помощи, оснащенных автоматизированной системой управления приема и обработки вызовов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5345280"/>
            <a:ext cx="8015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езд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628640"/>
          <a:ext cx="7561080" cy="37864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. Категорийность станции (отделения) скорой медицинской помощ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. Категорийность станции (отделения) скорой медицинской помощ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60 заполняют станции скорой медицинской помощи и медицинские организации, имеющие в своем составе отделения скорой медицинской помощ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 (межформенный контроль)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30 табл. 1060 стр.1 гр.3 + стр. 2 гр. 3 + стр.3 гр. 3 + стр. 4 гр. 3 + стр. 5 гр. 3 + стр. 6 гр. 3 + стр. 7 гр. 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форма 47 табл.0400 стр.1 гр. 3 + стр.1 гр.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. Должности и физические лица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03440"/>
                <a:gridCol w="857160"/>
                <a:gridCol w="1000080"/>
                <a:gridCol w="1251000"/>
                <a:gridCol w="1249200"/>
                <a:gridCol w="1251000"/>
                <a:gridCol w="1251000"/>
              </a:tblGrid>
              <a:tr h="315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о-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. Должности и физические лица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214280"/>
            <a:ext cx="83581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Прочий персонал станции (отделения) скорой медицинской помощи – это водители и прочий персона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чий персонал включают фармацевтов, провизоров, специалистов с немедицинским образование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), так и целыми числ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. Должности и физические лица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05 + 30.1105.1.06 + 30.1105.1.07. Число штатных должнос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05 + 30.1105.2.06 + 30.1105.2.07. Число занятых должнос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05 + 30.1105.3.06 + 30.1105.3.07. Число физических лиц основных работников на занятых должностях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4200" y="1214280"/>
          <a:ext cx="8642520" cy="5526360"/>
        </p:xfrm>
        <a:graphic>
          <a:graphicData uri="http://schemas.openxmlformats.org/drawingml/2006/table">
            <a:tbl>
              <a:tblPr/>
              <a:tblGrid>
                <a:gridCol w="2160720"/>
                <a:gridCol w="506520"/>
                <a:gridCol w="663480"/>
                <a:gridCol w="885960"/>
                <a:gridCol w="819000"/>
                <a:gridCol w="714240"/>
                <a:gridCol w="500040"/>
                <a:gridCol w="714600"/>
                <a:gridCol w="857160"/>
                <a:gridCol w="820800"/>
              </a:tblGrid>
              <a:tr h="22716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-зиро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08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ез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медицинская помощь при выезд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в возрасте 55 лет и старш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в возрасте 60 лет и старш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№ 388н  от 20 июня 2013 г.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00040" y="642960"/>
            <a:ext cx="82868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Федеральной службы государственной статистики (Росстата) № 866 от 27 декабря 2016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охраны здоровья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760" y="1999800"/>
            <a:ext cx="82296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ездов бригадами скорой медицинской помощи (стр. 1 гр. 3) не включаются безрезультатные выез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21430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ездов к детям (форма 30 табл. 2120 стр. 2 гр. 3) не должно быть больше числа детей, которым оказана медицинская помощь при выездах (форма 30 табл. 2121    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21430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ездов по поводу госпитализации (форма 30 табл. 2120 стр. 1 гр. 10) не должно быть больше числа госпитализированных лиц (форма 30 табл. 2120 стр. 3 гр. 10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214308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ездов в связи с медицинской эвакуации (форма 30 табл. 2120 стр. 1 гр. 7) = форма 47 табл. 0400 стр. 1 гр. 8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400" y="2143080"/>
            <a:ext cx="83581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лиц бригадами скорой медицинской помощи (форма 30 табл. 2120 стр. 3 гр. 10) = форма 47 табл. 0400 стр. 1 гр. 1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при выездах, всего  1 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(55 лет и старше)  5 ______________, мужчины (60 лет и старше)  6 ____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341360"/>
            <a:ext cx="8424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при выездах всего (форма 30 табл. 2121 стр. 1 гр. 1) =  форма 30 табл. 2121 стр. 1 гр. 3 + форма 30 табл. 2121 стр. 1 гр. 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при выездах, всего (форма 30 табл. 2121 стр. 1 гр. 1) =  форма 30 табл. 2120 стр. 3 гр. 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1413000"/>
          <a:ext cx="8715600" cy="5256000"/>
        </p:xfrm>
        <a:graphic>
          <a:graphicData uri="http://schemas.openxmlformats.org/drawingml/2006/table">
            <a:tbl>
              <a:tblPr/>
              <a:tblGrid>
                <a:gridCol w="4429080"/>
                <a:gridCol w="509760"/>
                <a:gridCol w="1017720"/>
                <a:gridCol w="1306440"/>
                <a:gridCol w="1452600"/>
              </a:tblGrid>
              <a:tr h="9144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помощ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000080" y="357120"/>
            <a:ext cx="77868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приказа Министерства здравоохранения Российской Федерации № 33н от 22 января 2016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28548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3640" y="1500120"/>
            <a:ext cx="833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50012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571400"/>
            <a:ext cx="840744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4200" y="16426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8920" y="1571400"/>
            <a:ext cx="8479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8920" y="1571400"/>
            <a:ext cx="8479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скорой медицинской помощи (форма 30 табл. 2200 стр. 1 гр. 5 + стр. 2 гр. 5 + стр. 3 гр. 5 +   стр. 4 гр. 5) =  форма 30 табл. 2120 стр. 3 гр. 3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85724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бригады скорой медицинской помо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.1.03. + 30.2200.1.2.03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.1.04. + 30.2200.1.2.0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.1.05. + 30.2200.1.2.0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500120"/>
            <a:ext cx="83012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. = 30.2200.2.1.03. + 30.2200.2.2.03. + 30.2200.2.3.03. + 30.2200.2.4.03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. = 30.2200.2.1.04. + 30.2200.2.2.04. + 30.2200.2.3.04. + 30.2200.2.4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. = 30.2200.2.1.05. + 30.2200.2.2.05. + 30.2200.2.3.05. + 30.2200.2.4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1500120"/>
            <a:ext cx="83012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экстренные консультатив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3.03. = 30.2200.3.1.03. + 30.2200.3.2.03. + 30.2200.3.3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3.04. = 30.2200.3.1.04. + 30.2200.3.2.04. + 30.2200.3.3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3.05. = 30.2200.3.1.05. + 30.2200.3.2.05. + 30.2200.3.3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876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лиц, которым оказана помощь общепрофильными фельдшерскими бригадам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едицинская эвакуация пациентов 1 ______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 амбулаторных условиях 1 ___________, из них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х жителей  2 ____________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амбулаторная медицинская помощь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ездах (форма 47 табл. 0400 стр.1 гр. 9) = форма 30 табл. 2120 стр. 3 гр. 3 + табл. 2202 стр.1 гр.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. Число выездов бригад скорой медицинской помощи по времени доезда и затраченному на один выезд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71680" y="1714680"/>
          <a:ext cx="8143560" cy="451152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404720"/>
                <a:gridCol w="140652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бригад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один выез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ы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рожно-транспортное происше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один выезд на выз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. Число выездов бригад скорой медицинской помощи по времени доезда и затраченному на один выезд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876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 по времени доезда (табл. 2300 сумма строк гр. 3 и гр. 4) = число выездов бригад скорой медицинской помощи, затраченному на один выезд (табл. 2300 сумма строк    гр. 5 и гр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 по времени доезда (табл. 2300 сумма строк по гр. 3 и гр. 4) = число выполненных выездов (табл.2120 стр. 1 гр. 3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, затраченному на один выезд (табл. 2300 сумма строк гр. 5 и гр.6) = число выполненных выездов (табл.2120 стр. 1 гр. 3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14200" y="571680"/>
          <a:ext cx="8643960" cy="59212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785880"/>
                <a:gridCol w="10713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 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е скор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ы в региональные сосудист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ервичные сосудистые от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 смерть наступила в автомобиле скорой  медицинс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ы в региональные сосудист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ервичные сосудистые от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ездов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за необоснованностью вы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едано в другие медицинские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бригад скорой медицинской помощи к пациентам, пострадавших в ДТП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в ДТП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езд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втомобиле 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ы в травмоцентры 1 и 2 уров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по медицинскому обеспечению спортивных и других массовых мероприятий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медицинской орган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85880" y="1752480"/>
            <a:ext cx="7818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9036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медицинскими работниками выездных бригад скорой медицинской помощи по месту вызова бригады, а также в транспортном средстве при медицинской эвакуа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82520" indent="-90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262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результатные выезд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учаи, ког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а не оказалось на мест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был ложным (по данному адресу скорую медицинскую помощь не вызывали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йден адрес, указанный при выз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казался практически здоровым и не нуждался в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мер до приезда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везён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бслужен врачом поликлиники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тказался от помощи (осмотра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отменё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440" y="2071800"/>
            <a:ext cx="82630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ано за необоснованностью вызов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переадресация непрофильных вызовов в другую медицинскую организ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500120"/>
            <a:ext cx="8301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ереданных в другие медицинские организации необоснованные вызова (строка 4.1. графа 3 и 4) следует расшифровать и предоставить в пояснительной записк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ов бригад скорой медицинской помощи к пациентам, пострадавшим в дорожно-транспортных происшествиях, ед. (строка 5 графа 3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0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341000"/>
            <a:ext cx="8301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1.03. = 30.5450.1.1.04. + 30.5450.1.1.05. + 30.5450.1.1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2.03. = 30.5450.1.2.04. + 30.5450.1.2.05. + 30.5450.1.2.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С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3.03. = 30.5450.1.3.04. + 30.5450.1.3.05. + 30.5450.1.3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С для новорожденных и детей раннего возрас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3.1.03. = 30.5450.1.3.1.04.+30.5450.1.3.1.05.+ 30.5450.1.3.1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4.03. = 30.5450.1.4.04. + 30.5450.1.4.05. + 30.5450.1.4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3640" y="1341000"/>
            <a:ext cx="833436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1.03. + 30.5450.1.2.03. + 30.5450.1.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.1.04. + 30.5450.1.2.04. + 30.5450.1.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.1.05. + 30.5450.1.2.05. + 30.5450.1.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.1.06. + 30.5450.1.2.06. + 30.5450.1.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17 г. по сравнению с 2016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№ 752 от 1 декабря 2005 г.             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для транспортировки или санитарные автомобили оснащены аппаратом искусственной вентиляции легких, кислородным ингалятором, тележкой-каталкой со съемными кресельными носилками, приемным устройством для безопасной погрузки-выгрузки пациента, комплектом шин транспортных складных, фельдшерским набор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4240" y="1773360"/>
            <a:ext cx="794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скорая, в том числе скорая специализированная, медицинская помощь пациентам, которым не требуется круглосуточного медицинского наблюдения и ле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экстренной медицинской помощи или автомобили скорой медицинской помощи, предназначенные для проведения лечебных мероприятий скорой медицинской помощи силами общепрофильной врачебной (фельдшерской) бригады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С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еанимобили или автомобили скорой медицинской помощи, предназначенные для проведения лечебных мероприятий скорой медицинской помощи силами реанимационной или специализированной бригады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2876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автоматизированной системой управления приема и обработки вызовов   1____________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1028"/>
          <p:cNvSpPr txBox="1"/>
          <p:nvPr/>
        </p:nvSpPr>
        <p:spPr>
          <a:xfrm rot="65400">
            <a:off x="1066680" y="175248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Благодарю за внимание !</a:t>
            </a:r>
            <a:endParaRPr b="1" lang="en-US" sz="7200" spc="1" strike="noStrike">
              <a:ln w="0">
                <a:noFill/>
              </a:ln>
              <a:solidFill>
                <a:srgbClr val="ff3300">
                  <a:alpha val="50000"/>
                </a:srgbClr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ая отделением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14240" y="1773360"/>
            <a:ext cx="794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 осуществляется медицинскими работниками стационарного отделения скорой медицинской помощи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8400" y="1142640"/>
            <a:ext cx="8235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уплении пациента в медицинскую организацию для оказания скорой медицинской помощи в стационарных условиях в стационарном отделении скорой медицинской помощи осуществляется уточнение диагноза, диагностика, динамическое наблюдение и проведение лечебно-диагностических мероприятий на койках скорой медицинской помощи суточного пребывания и, при наличии медицинских показаний, краткосрочное лечение длительностью не более 3 суто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71432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dcterms:modified xsi:type="dcterms:W3CDTF">2017-12-11T22:01:43Z</dcterms:modified>
  <cp:revision>244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