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5CB-C8F6-4FA8-A07C-374121E6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9C9-F02C-4894-B4B6-B03069F3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1CF-C520-41FB-BDD5-F0BF6AFF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9C1-D37F-43B0-91DA-A3997F54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AE42-DA8A-40D5-889C-201BACBF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01BE-0603-4493-8C8B-2D245489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E599-EBA2-4FF4-88FC-47A83C3A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5A46-D13B-45DD-8BEF-78F9ECFC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FB34-4100-46FC-A784-FD136E66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2B04-D8C7-4B66-91B5-AF4DBD7C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2171-06A5-4D25-AD7B-DE68F7A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0C0-21FF-4FEC-9EB1-01617D10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E282-30AD-4A96-BCBE-BFED2CD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1CD7-F92C-414D-A132-7A767E3B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BCF-E0B4-45D9-A5AB-43409793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1AAD-8324-44D3-AA13-68EB1ADA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E75A-2438-4597-9CF5-F4C5D1BF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274-D6B1-4B8E-A28D-7061C51F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D53-C33C-4C48-AEC1-DAE9BD63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318-9F20-4A37-8473-2312518B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C1C-3EC7-43C6-B1BD-D46F58E1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D34-1849-44C7-9A1B-961DD6CB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AAE-D89D-4161-8647-5125D448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6DF-E41E-4FFF-ADBE-EFB0B980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2D43-89E9-4155-84F5-3A19DAD061FC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B798-3566-49B0-9553-8D2BD65FA416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9044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оменклатура медицинских организа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иказ Министерства здравоохранения Российской Федерации от 06.08.2013 N 529н "Об утверждении номенклатуры медицинских организац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Зарегистрировано в Минюсте России 13.09.2013 N 299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оменклатура кое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иказ Минздравсоцразвития России от 17.05.2012 N 555н "Об утверждении номенклатуры коечного фонда по профилям медицинской помощ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Зарегистрировано в Минюсте России 04.06.2012 N 24440), изменения в редакции приказа Министерства здравоохранения Российской Федерации от 16.12.2014 N 843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оменклатура должност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иказ Министерства здравоохранения Российской Федерации от 20.12.2012 N 1183н "Об утверждении номенклатуры должностей медицинских и фармацевтических работник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Зарегистрировано в Минюсте России 10.03.2013 N 27723), с изменениями на 01.08.2014 года Приказ Минздрава России №420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Реестр административно-территориальных единиц субъек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Штатные расписания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Устав и лицензии 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бщероссийский классификатор единиц изме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4572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ованные док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1752480"/>
          <a:ext cx="8686800" cy="3581640"/>
        </p:xfrm>
        <a:graphic>
          <a:graphicData uri="http://schemas.openxmlformats.org/drawingml/2006/table">
            <a:tbl>
              <a:tblPr/>
              <a:tblGrid>
                <a:gridCol w="2590920"/>
                <a:gridCol w="6095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медицинской помощ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рофиль койки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реабилитац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онные соматически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онные для больных с заболеваниями центральной нервной системы и органов чувств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онные для больных с заболеваниями опорно-двигательного аппарата и периферической нервной системы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абилитационные наркологическ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соматически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атопсихиатрически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 для судебно-психиатрической экспертиз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сихиатрия-нарколог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ркологическ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39"/>
          <p:cNvSpPr/>
          <p:nvPr/>
        </p:nvSpPr>
        <p:spPr>
          <a:xfrm>
            <a:off x="7368480" y="114300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3716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Отчет составляется по профилям ко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коечного фонда по профилям медицинской помощ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9"/>
          <p:cNvSpPr/>
          <p:nvPr/>
        </p:nvSpPr>
        <p:spPr>
          <a:xfrm>
            <a:off x="7444800" y="45720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04920" y="9907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ичный учет – форма 007/у – по отделению, в том числе по профилям в данном отдел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04920" y="19051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деятельности отдел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полняется на уровне 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920" y="2819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деятельности по профилям кое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полняется на уровн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а управления субъекта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ext Box 5" descr=""/>
          <p:cNvPicPr/>
          <p:nvPr/>
        </p:nvPicPr>
        <p:blipFill>
          <a:blip r:embed="rId1"/>
          <a:stretch/>
        </p:blipFill>
        <p:spPr>
          <a:xfrm>
            <a:off x="1438200" y="4846680"/>
            <a:ext cx="6042240" cy="1243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5"/>
          <p:cNvSpPr/>
          <p:nvPr/>
        </p:nvSpPr>
        <p:spPr>
          <a:xfrm>
            <a:off x="916200" y="46483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9"/>
          <p:cNvSpPr/>
          <p:nvPr/>
        </p:nvSpPr>
        <p:spPr>
          <a:xfrm>
            <a:off x="7368480" y="99072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04920" y="350532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я к среднему медицинскому персоналу указываются при условии осуществления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самостоятельного амбулаторного прие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фельдшерами, акушерками, в смотровых кабинетах, в кабинетах доврачебного приема, кабинетах неотложной помощи, фельдшерами пунктов неотложной помощи на дому. Сведения о посещениях среднего медицинского персонала заполняются на основании данных таблиц 2101 и 2700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4920" y="16002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я к врачам включают сведения о работе врачей осуществляющих прием пациентов в амбулаторных условиях и на дому, а также консультативный прием, включая деятельность врачей отделений (кабинетов) платных услуг. Сведения о врачебных посещениях заполняются на основании данных таблиц 2100 и 2105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981080" y="609480"/>
            <a:ext cx="5105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дения о посещен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10663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тверждена приказом №1183н от 01.08.2011 года Министерством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дравоохранения Российской Федерации с изменениями в редакции Приказа Минздрава России от 01.08.2014 года №420н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990033"/>
                </a:solidFill>
                <a:latin typeface="Times New Roman"/>
              </a:rPr>
              <a:t>Номенклатура представлена двумя разделами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898640" y="380880"/>
            <a:ext cx="517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дицински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рмацевтических работ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2590920"/>
            <a:ext cx="4343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ие работни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724280" y="2590920"/>
            <a:ext cx="4191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рмацевтические работ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28600" y="2971800"/>
            <a:ext cx="43434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1 Должности руководи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2 Должности специалистов с высших профессиональным (медицинским) образованием (врач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3 Должности специалистов с высших профессиональным (немедицинским) образова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4 Должности специалистов со средним профессиональным (медицинским) образованием (средний медицинский персона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5 Иные должности медицинских работников (младший медицинский персона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724280" y="2971800"/>
            <a:ext cx="41911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1 Должности руководи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2 Должности специалистов с высших профессиональным (фармацевтическим) образованием (провизор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3 Должности специалистов со средним профессиональным (фармацевтическим) образованием (средний фармацевтический персона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4 Иные должности фармацевтических работников (младший фармацевтический персона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04920" y="60948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Правильному подбору и расстановке кадров, а также обеспечению единства подходов при определении должностных обязанностей этих категорий работников и предъявляемых к ним квалификационных требований способствует Единый квалификационный справочник должностей руководителей, специалистов и служащих, утвержденный приказом Министерства здравоохранения и социального развития Российской Федерации от 23.07.2010 года №541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28600" y="2743200"/>
            <a:ext cx="8686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е регистраторы (медицинские дезинфекторы), имеющие медицинское образование и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опуск к занимаемо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и (профстандарт), показываются в числе среднего медицинского персонала. В случае отсутствия медицинского образования или специального допуска к занимаемой должности, они показываются как занятые должности и физические лица по строке «Прочий персонал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очий персонал включаются: экономисты, программисты, инженеры, юристы, операторы, бухгалтеры, завхозы, работники кухонь, водители и другие категории работников, не относящиеся к медицинскому персона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 о должностях в форме могут показываться как целыми, так и дробными числами в соответствии с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равилами округ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0,75, 0,5, 0,25 дол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3809880"/>
          <a:ext cx="8382240" cy="2163960"/>
        </p:xfrm>
        <a:graphic>
          <a:graphicData uri="http://schemas.openxmlformats.org/drawingml/2006/table">
            <a:tbl>
              <a:tblPr/>
              <a:tblGrid>
                <a:gridCol w="827280"/>
                <a:gridCol w="3963960"/>
                <a:gridCol w="35910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п/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ное число должнос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округ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расываются 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-0,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-0,6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-0,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0,7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яются до 1,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3"/>
          <p:cNvSpPr/>
          <p:nvPr/>
        </p:nvSpPr>
        <p:spPr>
          <a:xfrm>
            <a:off x="304920" y="1371600"/>
            <a:ext cx="8610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ила округления при расчете штатной численности работ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28600" y="175248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 штатные расписания могут вводиться штатные должности: целая единица штатной должности, 0,25 единицы штатной должности, 0,5 единицы штатной должности или 0,75 единицы штатной долж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28600" y="2438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кругление по одноименным должностям может производиться как по отдельным структурным подразделениям, так и по нескольким структурным подразделениям или по медицинской организации в целом, в следующем порядке: итоговые числа менее 0,13 отбрасываются, числа 0,13-0,37 округляются до 0,25; числа 0,38-0,62 округляются до числа 0,5; числа 0,63-0,87 округляются до 0,75, а свыше 0,87 - до единицы в соответствии с таблице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152280" y="6019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таком же порядке допускается округление по категориям персонала (врачи, средний медицинский персонал, младший медицинский персонал) в целом по учреждению здравоохран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6858000" cy="1143000"/>
          </a:xfrm>
          <a:prstGeom prst="rect">
            <a:avLst/>
          </a:prstGeom>
          <a:solidFill>
            <a:srgbClr val="ed7d31">
              <a:alpha val="2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136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дминистрация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еестр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ых единиц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состоянию на 01.01.201    г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1905120"/>
          <a:ext cx="7010280" cy="1957320"/>
        </p:xfrm>
        <a:graphic>
          <a:graphicData uri="http://schemas.openxmlformats.org/drawingml/2006/table">
            <a:tbl>
              <a:tblPr/>
              <a:tblGrid>
                <a:gridCol w="5213520"/>
                <a:gridCol w="1796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административно-территориальных едини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, е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посел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населенные пунк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52280" y="4114800"/>
          <a:ext cx="8839440" cy="2301840"/>
        </p:xfrm>
        <a:graphic>
          <a:graphicData uri="http://schemas.openxmlformats.org/drawingml/2006/table">
            <a:tbl>
              <a:tblPr/>
              <a:tblGrid>
                <a:gridCol w="774720"/>
                <a:gridCol w="1054080"/>
                <a:gridCol w="1219320"/>
                <a:gridCol w="1447920"/>
                <a:gridCol w="1828800"/>
                <a:gridCol w="1218960"/>
                <a:gridCol w="12956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истрационный 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 регист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района/населенного пун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административного цен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ближайшей жд станции и расстояние до нее в к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сельских населенных пун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городских населенных пун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3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--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А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3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---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 Б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3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---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.п. Б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так дале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3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. К----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ско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3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 Л---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ской о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3"/>
          <p:cNvSpPr/>
          <p:nvPr/>
        </p:nvSpPr>
        <p:spPr>
          <a:xfrm>
            <a:off x="152280" y="380988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Перечень райо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152280" y="160020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Число административно-территориальных едини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ного государственного (муниципального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реждения здравоохран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 районная боль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600200" y="182880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Общие по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28600" y="251460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Областное государственное (муниципальное) бюджетное учреждение здравоохранения _________ районная больница является некоммерческой организ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Полное наименование учреждения: 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. Учреждение считается созданным как юридическое лиц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 дня внесения соответствующей записи в Единый государственный реестр юридических лиц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. Учреждение имеет в своем составе следующ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особлен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дразделения без права юридического 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действующ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 основа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твержденных руководителем учрежде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e7e6e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участковая больница», расположенная по адресу: 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e7e6e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амбулатория», расположенная по адресу: 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e7e6e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филиал» (структурное подразделение, поликлиническое отделение) расположенный по адресу: 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5410080" y="762120"/>
            <a:ext cx="3505320" cy="175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озникает вопрос – Наименования обособленных структурных подразделений  должны быть уникальны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Используйте их при заполнении ФРМО, ФРМР, Геопорт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533520"/>
            <a:ext cx="5562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ЦЕНЗ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990720"/>
            <a:ext cx="861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осуществление медицинск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15238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реса мест осуществления лицензируемо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да деятельности, выполняем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ы, оказываемые услуг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28600" y="22860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рес: 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28600" y="2819520"/>
            <a:ext cx="8686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существлении доврачебной медицинской помощи по:  акушерскому делу, анестезиологии и реаниматологии, медицинской статистике, медицинскому массажу, физиотерапии, функциональной диагности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существлении амбулаторно-поликлинической медицинской помощи, в том числе: а) при осуществлении первичной медико-санитарной помощи по: неврологии, офтальмологии, терапии, урологии, педиатрии, хирург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существлении стационарной медицинской помощи по: анестезиологии и реаниматологии, педиатрии, хирургии, по акушерству и гинекологии, терап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существлении доврачебной медицинской помощи по: лабораторной диагностике, по лечебной физкультур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существлении амбулаторно-поликлинической медицинской помощи, в том числе: по клинической лабораторной диагности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228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ники ВУЗов и НИИ показываются в таблицах формы в итоговых строках по подчинению и в строках (графах)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«Кроме того, клиники ВУЗов и Н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 о числе посещений, проведенных пациентами койко-днях, число среднегодовых коек, о плановой мощности (число посещений в смену) показываются в целых числ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ельское население — население, проживающее в сельских населенных пунктах. К ним относятся: сельские районы,  поселки, сёла, деревни, станицы, хутора, аулы и т. 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строки «Медицинские организации, расположенные в сельской местности» таблиц формы, включаются сведения по медицинским организациям, их структурным подразделениям и филиалам, расположенным в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сельских муниципальных образованиях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, а также в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сельских населенных пунктах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входящих в состав городских поселений или городских окру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990033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533520" y="5335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пы организаций системы здравоохра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3520" y="1143000"/>
            <a:ext cx="3657600" cy="125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дицинские организа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ГБУ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ОГАУ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ФГБУ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724280" y="1143000"/>
            <a:ext cx="3810240" cy="73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медицинские организации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АУ, ОГУП, ФГУ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2133720" y="24382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ed7d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6324480" y="243828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d7d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33520" y="2971800"/>
            <a:ext cx="36576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базе сведений по медицинским организациям формируется свод по субъекту по ФФСН №47 «Сведения о сети и деятельности медицинских организаци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724280" y="3048120"/>
            <a:ext cx="3657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 входя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свод субъекта по ФФСН №47 «Сведения о сети и деятельности медицинских организаци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33520" y="533412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ГАУЗ Больница №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ГБУЗ НИИ Кардиолог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724280" y="434340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ГУ Центр фарм 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ГАУ Центр сертифик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ГАУ Аптечный скла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тверждена приказом №529н от 06.08.2013 года Министерство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здравоохранения Российской Федераци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оменклатура медицинских организаций представлена двумя разделами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051280" y="380880"/>
            <a:ext cx="50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52280" y="2057400"/>
            <a:ext cx="541044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менклатура медицинских организ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виду медицинской деятель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Медицинские организации, в которых располагаются структурные подразделения образовательных и научных организаций, на базе которых осуществляется практическая подготовка медицинских работников (клинические базы), включают в свое наименование слово "клинический"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Лечебно-профилактические медицинские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Медицинские организации особого ти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Медицинские организации по надзору в сфере защиты прав потребителей и благополучия 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791320" y="2057400"/>
            <a:ext cx="29718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менклатура медицинских организаций государственной и муниципальной систем здравоохранения по территориальному призна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2"/>
          <p:cNvSpPr/>
          <p:nvPr/>
        </p:nvSpPr>
        <p:spPr>
          <a:xfrm>
            <a:off x="1066680" y="5486400"/>
            <a:ext cx="2590920" cy="6094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360" y="45684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 лечебно-профилактическим медицинским организациям относятся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. Больница (в том числе детская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2. Больница скорой медицинской помощ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3. Участковая больниц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4. Специализированные больницы (в том числе по профилю медицинской помощи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5. Родильный д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6. Госпитал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7. Медико-санитарная часть, в том числе центральна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8. Дом (больница) сестринского ухо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9. Хоспи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0. Лепрозор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1. Диспансер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2. Амбулатори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3. Поликлиники (в том числе детские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4. Женская консультац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5. Дом ребенка, в том числе специализированны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6. Молочная кухн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17. Центры (в том числе детские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990033"/>
                </a:solidFill>
                <a:latin typeface="Times New Roman"/>
              </a:rPr>
              <a:t>1.18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990033"/>
                </a:solidFill>
                <a:latin typeface="Times New Roman"/>
              </a:rPr>
              <a:t>Медицинские организации скорой медицинской помощи и переливания кров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990033"/>
                </a:solidFill>
                <a:latin typeface="Times New Roman"/>
              </a:rPr>
              <a:t>1.19. Санаторно-курортные организ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191120" y="914400"/>
            <a:ext cx="8380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7e6e6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09480" y="2590560"/>
            <a:ext cx="327672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рачебно-физкультурны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ардиологическ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ожно-венерологическ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ркологическ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нкологическ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фтальмологический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тивотуберкулезный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сихоневрологический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ндокринологическ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600200" y="654480"/>
            <a:ext cx="58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11. Диспанс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800600" y="2590920"/>
            <a:ext cx="32004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ачебно-физкультурный с Ц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дионевролог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нарколог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хоматоз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952880" y="2666880"/>
            <a:ext cx="3048120" cy="2743200"/>
          </a:xfrm>
          <a:prstGeom prst="line">
            <a:avLst/>
          </a:prstGeom>
          <a:ln w="2844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4952520" y="2666880"/>
            <a:ext cx="2971800" cy="2743200"/>
          </a:xfrm>
          <a:prstGeom prst="line">
            <a:avLst/>
          </a:prstGeom>
          <a:ln w="2844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838080" y="1828800"/>
            <a:ext cx="3124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равильное наименов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800600" y="1828800"/>
            <a:ext cx="3200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!!!!!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6091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 медицинским организациям  особого типа относятся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1. Центры: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ской профилактики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ы катастроф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ский мобилизационных резервов "Резерв"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ский информационно-аналитический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ский биофизический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оенно-врачебной экспертизы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удебно-медицинской экспертиз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2. Бюро: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ко-социальной экспертизы 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цинской статистики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атолого-анатомическое 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удебно-медицинской экспертиз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3. Лаборатории: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линико-диагностическая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бактериологическая, в том числе по диагностике туберкулез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4. Медицинский отряд, в том числе специального назначения (военного округа, флот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4191120" y="990720"/>
            <a:ext cx="8380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7e6e6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1760" y="2286000"/>
            <a:ext cx="33526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ой профилак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ы катастро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й мобилизационных резервов «Резер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й информационно-аналит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цинский биофиз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енно-врачебной эксперти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9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дебно-медицинской эксперти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33520" y="608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1. Центр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едицинские организации особого тип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876920" y="2286000"/>
            <a:ext cx="327636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т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т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пато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952880" y="2362320"/>
            <a:ext cx="3124440" cy="2666880"/>
          </a:xfrm>
          <a:prstGeom prst="line">
            <a:avLst/>
          </a:prstGeom>
          <a:ln w="2844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H="1">
            <a:off x="4876920" y="2362320"/>
            <a:ext cx="3200400" cy="2743200"/>
          </a:xfrm>
          <a:prstGeom prst="line">
            <a:avLst/>
          </a:prstGeom>
          <a:ln w="2844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33520" y="1523880"/>
            <a:ext cx="3581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равильное наименов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876920" y="1523880"/>
            <a:ext cx="3276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!!!!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85800" y="53341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При реорганизации наименование медицинской организации особого типа остается таким, к которому присоединяются и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5331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медицинским организациям по надзору в сфере защиты прав потребителей и благополучия человека относя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ы гигиены и эпидемиологи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2. Противочумный центр (станции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3. Дезинфекционный центр (станция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4. Центр гигиенического образования насе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5. Центр государственного санитарно-эпидемиологического надз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38098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II. Номенклатура медицинских организаций государственной и муниципальной систем здравоохранения по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территориальному призна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219320" y="4800600"/>
            <a:ext cx="708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1. Федер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2. Краевые, республиканские, областные, окруж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3. Муницип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4. Межрай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5. Рай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6. Город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114800" y="1295280"/>
            <a:ext cx="8380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7e6e6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248520" y="137160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Если переданы в подчинение субъекта, то показать как «прочие» в особом типе и расшифрова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каз Минздравсоцразвития России от 17.05.2012 N 555н  «Об утверждении номенклатуры коечного фонда по профилям медицинской помощи» (зарегистрировано в Минюсте России 04.06.2012 N 24440), изменения в редакции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риказа Министерства здравоохранения Российской Федерации от 16.12.2014 года № 843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8600" y="2362320"/>
          <a:ext cx="8763120" cy="4500360"/>
        </p:xfrm>
        <a:graphic>
          <a:graphicData uri="http://schemas.openxmlformats.org/drawingml/2006/table">
            <a:tbl>
              <a:tblPr/>
              <a:tblGrid>
                <a:gridCol w="3236760"/>
                <a:gridCol w="5526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иль медицинской помощ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Профиль койки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ушерское дело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беременных и рожениц, патологии беременности,           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йки сестринского ухода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ушерство и гинекология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беременных и рожениц, патологии беременности,           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некологические, гинекологические для детей,       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некологические для вспомогательных                   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продуктивных технологий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лергология и иммунология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лергологические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естезиология и реаниматология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нимационные, реанимационные для новорожденных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нсивной терапии, интенсивной терапии для новорожденных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строэнтерология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строэнтерологические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матология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матологические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иатрия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нтологические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рматовенер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рматологические, венерологические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3"/>
          <p:cNvSpPr/>
          <p:nvPr/>
        </p:nvSpPr>
        <p:spPr>
          <a:xfrm>
            <a:off x="304920" y="16765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енклатура коечного фон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рофилям медицинской помощ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9"/>
          <p:cNvSpPr/>
          <p:nvPr/>
        </p:nvSpPr>
        <p:spPr>
          <a:xfrm>
            <a:off x="7513560" y="1828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user</cp:lastModifiedBy>
  <dcterms:modified xsi:type="dcterms:W3CDTF">2017-11-30T06:15:58Z</dcterms:modified>
  <cp:revision>6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