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E547-984A-4A6E-85A9-04C1F3E4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4F5F-4E22-4072-ADB3-F687511B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610F-84BC-4D71-B8C5-3FFA73F6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003C-6115-4858-BD71-4A60DE87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C70A-A2DB-4162-B694-A8600C5B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B9C-2880-4F86-BAD4-61CD23DB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F399-9318-4EF7-9700-2C72BDF9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CD2-F1A8-49ED-AA58-904F42F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935-8BCD-4992-97F8-E752FAF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331-56B8-456F-BB73-8C63047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789C-BEAB-4F6D-B455-99A6164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F368-3F2A-449A-B226-1519298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001B-5C88-4EB6-B76E-98A29AC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083-6D4B-4490-990F-64B840F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7092-B3A4-41B9-958D-13177FF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97E0-7FD5-479B-80AA-4112798D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52E-6466-494F-9A61-68F7E834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2009-CDA9-44E5-BD07-990DE388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2ED5-DFE4-4B3E-BB2A-3EF2A5FD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D2E1-40A0-4884-A076-038DCFD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0417-1DFC-459F-BDEB-C2B7245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ADCF-902F-45CB-8CDA-18C2943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0F7A-6A64-4DFC-9875-A05F9FC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CD7E-7684-4790-B2F0-37A7034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2FCB-BA28-44EE-96BB-72FF520E99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B8D-F3CE-4DB2-A156-E310CF24CB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42670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ДЕЯТЕЛЬН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ДИЦИНСК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РГАНИЗАЦИИ ПО ОКАЗАНИ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ОЙ ПОМОЩИ 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ТАЦИОНАРНЫ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016-у"/>
          <p:cNvPicPr/>
          <p:nvPr/>
        </p:nvPicPr>
        <p:blipFill>
          <a:blip r:embed="rId1"/>
          <a:stretch/>
        </p:blipFill>
        <p:spPr>
          <a:xfrm>
            <a:off x="-774720" y="-35244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72200" y="-152280"/>
            <a:ext cx="29718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ругой 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80880" y="4724280"/>
            <a:ext cx="792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31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05"/>
          <p:cNvSpPr/>
          <p:nvPr/>
        </p:nvSpPr>
        <p:spPr>
          <a:xfrm>
            <a:off x="1219320" y="914400"/>
            <a:ext cx="6324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ечный фонд и его исполь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1905120"/>
          <a:ext cx="8610840" cy="3919320"/>
        </p:xfrm>
        <a:graphic>
          <a:graphicData uri="http://schemas.openxmlformats.org/drawingml/2006/table">
            <a:tbl>
              <a:tblPr/>
              <a:tblGrid>
                <a:gridCol w="2895840"/>
                <a:gridCol w="761760"/>
                <a:gridCol w="1524240"/>
                <a:gridCol w="1941480"/>
                <a:gridCol w="14875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доминаль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928"/>
          <p:cNvSpPr/>
          <p:nvPr/>
        </p:nvSpPr>
        <p:spPr>
          <a:xfrm>
            <a:off x="4876920" y="1295280"/>
            <a:ext cx="42670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 коек в графе 3 указывается по состоянию на 31.12. отчет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929"/>
          <p:cNvSpPr/>
          <p:nvPr/>
        </p:nvSpPr>
        <p:spPr>
          <a:xfrm>
            <a:off x="380880" y="380880"/>
            <a:ext cx="807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310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930"/>
          <p:cNvSpPr/>
          <p:nvPr/>
        </p:nvSpPr>
        <p:spPr>
          <a:xfrm>
            <a:off x="3809880" y="4038480"/>
            <a:ext cx="518184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 коек 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графе 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казывается по медицинским организациям и их структурным подразделениям, расположенным в сельской местности, то есть в сельских поселениях сельских муниципальных образованиях и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трелка вверх 8"/>
          <p:cNvSpPr/>
          <p:nvPr/>
        </p:nvSpPr>
        <p:spPr>
          <a:xfrm>
            <a:off x="6019920" y="3276720"/>
            <a:ext cx="609480" cy="76176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cccc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0" y="55627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 движ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циентов соответствующе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дети /взрослые) по профилям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для взрослых» и «для дете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320" y="457200"/>
          <a:ext cx="8915400" cy="5151600"/>
        </p:xfrm>
        <a:graphic>
          <a:graphicData uri="http://schemas.openxmlformats.org/drawingml/2006/table">
            <a:tbl>
              <a:tblPr/>
              <a:tblGrid>
                <a:gridCol w="846000"/>
                <a:gridCol w="372960"/>
                <a:gridCol w="685800"/>
                <a:gridCol w="609840"/>
                <a:gridCol w="609480"/>
                <a:gridCol w="609480"/>
                <a:gridCol w="685800"/>
                <a:gridCol w="609840"/>
                <a:gridCol w="533160"/>
                <a:gridCol w="609840"/>
                <a:gridCol w="609480"/>
                <a:gridCol w="762120"/>
                <a:gridCol w="761760"/>
                <a:gridCol w="60984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и закрытия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тупивших (гр.6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36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0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85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9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029200" y="4876920"/>
          <a:ext cx="3886200" cy="2041560"/>
        </p:xfrm>
        <a:graphic>
          <a:graphicData uri="http://schemas.openxmlformats.org/drawingml/2006/table">
            <a:tbl>
              <a:tblPr/>
              <a:tblGrid>
                <a:gridCol w="1219320"/>
                <a:gridCol w="685800"/>
                <a:gridCol w="198108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роки,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? - 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457200"/>
          <a:ext cx="8610840" cy="450540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1828800"/>
                <a:gridCol w="1676520"/>
                <a:gridCol w="1371600"/>
              </a:tblGrid>
              <a:tr h="488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гинекологические для вспомогательных 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453"/>
          <p:cNvSpPr/>
          <p:nvPr/>
        </p:nvSpPr>
        <p:spPr>
          <a:xfrm>
            <a:off x="3733920" y="1676520"/>
            <a:ext cx="5181480" cy="32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оке «Всего» показывается число коек, движение пациентов и использование коечного фонда в целом по стациона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следующих строках показываются суммарные сведения по профилям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должна быть равна сумме строк со 2 по 77 по всем графам, за исключением входящих ст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ойки для абортов» должны входить в состав гинекологических коек - строка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44"/>
          <p:cNvSpPr/>
          <p:nvPr/>
        </p:nvSpPr>
        <p:spPr>
          <a:xfrm>
            <a:off x="152280" y="50292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 случае перевод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оворожденного (больного) на койки патологии новорожденных в педиатрические стационары он показывается как выписанны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вод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з родильных отделений акушерских стациона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44"/>
          <p:cNvSpPr/>
          <p:nvPr/>
        </p:nvSpPr>
        <p:spPr>
          <a:xfrm>
            <a:off x="152280" y="5867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акушерских стационарах медицинских организаций люб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овня должны быть предусмотрены койки дл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нимации новорожденных, которые показываются по строке 45.1 или 4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838080"/>
          <a:ext cx="8610480" cy="4724640"/>
        </p:xfrm>
        <a:graphic>
          <a:graphicData uri="http://schemas.openxmlformats.org/drawingml/2006/table">
            <a:tbl>
              <a:tblPr/>
              <a:tblGrid>
                <a:gridCol w="4541760"/>
                <a:gridCol w="716040"/>
                <a:gridCol w="981000"/>
                <a:gridCol w="1390680"/>
                <a:gridCol w="9810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рди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еврологические для больных с остр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ми мозгового крово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сихо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524"/>
          <p:cNvSpPr/>
          <p:nvPr/>
        </p:nvSpPr>
        <p:spPr>
          <a:xfrm>
            <a:off x="5562720" y="2514600"/>
            <a:ext cx="33526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9 может быть больше суммы строк 19.1 + 19.2 за счет карди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25"/>
          <p:cNvSpPr/>
          <p:nvPr/>
        </p:nvSpPr>
        <p:spPr>
          <a:xfrm>
            <a:off x="5562720" y="3886200"/>
            <a:ext cx="33526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 может быть больше суммы строк 22.1 + 22.2 за счет невр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25"/>
          <p:cNvSpPr/>
          <p:nvPr/>
        </p:nvSpPr>
        <p:spPr>
          <a:xfrm>
            <a:off x="228600" y="56386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наличии реанимационных коек в отделениях ПСО (первичные сосудистые отделения) и РСЦ (региональные сосудистые центры) сведения по ним показываем по строке 45 «реанимационные кой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838080"/>
          <a:ext cx="8534160" cy="3184560"/>
        </p:xfrm>
        <a:graphic>
          <a:graphicData uri="http://schemas.openxmlformats.org/drawingml/2006/table">
            <a:tbl>
              <a:tblPr/>
              <a:tblGrid>
                <a:gridCol w="3200400"/>
                <a:gridCol w="838080"/>
                <a:gridCol w="1371600"/>
                <a:gridCol w="2151000"/>
                <a:gridCol w="973080"/>
              </a:tblGrid>
              <a:tr h="59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тологии новорожденных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ношенных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407"/>
          <p:cNvSpPr/>
          <p:nvPr/>
        </p:nvSpPr>
        <p:spPr>
          <a:xfrm>
            <a:off x="4343400" y="2362320"/>
            <a:ext cx="44956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числа педиатрических коек приказом руководителя медицинской организации могут быть выделены койки патологии новорожденных и недоношенных, койки для новорожденных, которые показывают в строке 35.1 и 35.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13"/>
          <p:cNvSpPr/>
          <p:nvPr/>
        </p:nvSpPr>
        <p:spPr>
          <a:xfrm>
            <a:off x="304920" y="510552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йки для новорожденных (строка 35.1) развертываются для оказания медицинской помощи больным новорожденным в организация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ровня -  перинатальных цент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также в  педиатрических стационар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914400"/>
          <a:ext cx="8458200" cy="4314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295280"/>
                <a:gridCol w="1676520"/>
                <a:gridCol w="1828800"/>
              </a:tblGrid>
              <a:tr h="57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краткоср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сут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Rectangle 349"/>
          <p:cNvSpPr/>
          <p:nvPr/>
        </p:nvSpPr>
        <p:spPr>
          <a:xfrm>
            <a:off x="4038480" y="2743200"/>
            <a:ext cx="4800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нимационные койки показывают в строке 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йки интенсивной терапии включают в состав реанимационных коек и показывают в строке 45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4"/>
          <p:cNvSpPr/>
          <p:nvPr/>
        </p:nvSpPr>
        <p:spPr>
          <a:xfrm>
            <a:off x="304920" y="53341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ушерски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ционар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юб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усмотре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анимацион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й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рожденных или интенсивной терапии для новорожде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685800"/>
          <a:ext cx="876312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762120"/>
                <a:gridCol w="1676160"/>
                <a:gridCol w="2362320"/>
                <a:gridCol w="167652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ых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(стр. 01) - платны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344"/>
          <p:cNvSpPr/>
          <p:nvPr/>
        </p:nvSpPr>
        <p:spPr>
          <a:xfrm>
            <a:off x="228600" y="4572000"/>
            <a:ext cx="86104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. 78 показывают «движение» больных новорожденны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относится к новорожденным,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одившимися больными или заболевшим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акушерских стациона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еревод пациента не проводился и случай считается законченным в акушерском стационаре, то пациент показывается как выписанный (или умерший). Если новорожденный переводится, то показываетс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ыписанны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водо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ую медицинскую организацию для долечива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51"/>
          <p:cNvSpPr/>
          <p:nvPr/>
        </p:nvSpPr>
        <p:spPr>
          <a:xfrm>
            <a:off x="3200400" y="1981080"/>
            <a:ext cx="57913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или прочих коек, показанные в строках 76 и 77, должны быть расшифров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52"/>
          <p:cNvSpPr/>
          <p:nvPr/>
        </p:nvSpPr>
        <p:spPr>
          <a:xfrm>
            <a:off x="3200400" y="2514600"/>
            <a:ext cx="57913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тные койки включают в таблицу 3100 по строкам, соответствующим их профилям. Кроме того, сумму всех платных коек показывают в дополнительной стр.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1"/>
          <p:cNvSpPr/>
          <p:nvPr/>
        </p:nvSpPr>
        <p:spPr>
          <a:xfrm>
            <a:off x="4267080" y="3886200"/>
            <a:ext cx="38862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стр. 78 графы 3-5 не заполня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й койки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вертывание коек в связи с рем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обстоятель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рыв во времени между выпиской и поступ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филактическая дез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пациентов данного проф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достатки организации госпитализации пациентов (неравномерное поступление пациентов по дням недели или отдельные сез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должной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обоснованное число больничных коек, введенное под штат медицинского персонала, а не под объективную потребность в данном виде медицинского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8600" y="434340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стой кой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только сокращает объем стационарной помощи, но 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зывает значительные экономические потер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, средства на содержание больничной койки затрачиваются и в тех случаях, когда койка не функциониру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траты на пустующую койку составляют 2/3 стоимости содерж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ой койки. Более низкая стоимость одного койко-дня приходится на те больницы, где коечный фонд используется наиболее интенсив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й койки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вертывание коек в связи с ремо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чие обстоятель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зрыв во времени между выпиской и поступ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филактическая дез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пациентов данного проф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достатки организации госпитализации пациентов (неравномерное поступление пациентов по дням недели или отдельные сез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тсутствие должной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обоснованное число больничных коек, введенное под штат медицинского персонала, а не под объективную потребность в данном виде медицинского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28600" y="4114800"/>
            <a:ext cx="849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обходимо обратить внимание на показатель деятельност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тационара:          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Работа ко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анный показатель не должен превышать рекомендованный по ТПГГ (330 дней) в целом по субъекту РФ и, соответственно, рекомендованные по профилям ко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оставить пояснительные записки (за подписью начальника департамента здравоохранения субъекта РФ) по работе койки по профилю ниже 280 дн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се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ими организациями, входящими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менклатур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их организаций (приказ Минздрава России от 06.08.2013 № 529н, зарегистрирован в Министерстве юстиции Российской Федерации 13.09.2013 № 2995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линики ВУЗов и НИИ также заполняют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профили коек должны соответствовать приказу Минздравсоцразвития России от 17.05.2012 N 555н «Об утверждении номенклатуры коечного фонда по профилям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а коечного фонда должна быт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твержде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рганом исполнительной власти в сфере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ой местностью  понимаю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ь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еления, расположенные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ьскими жител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сельские населенные пункты, входящие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Деятельность медицинской организации по оказанию медицинской помощи в стационарных условиях» ФФСН №30 следует иметь в в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1, расчета среднегодовой работы к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6320" y="838080"/>
          <a:ext cx="8839080" cy="2195640"/>
        </p:xfrm>
        <a:graphic>
          <a:graphicData uri="http://schemas.openxmlformats.org/drawingml/2006/table">
            <a:tbl>
              <a:tblPr/>
              <a:tblGrid>
                <a:gridCol w="2869920"/>
                <a:gridCol w="797040"/>
                <a:gridCol w="2352600"/>
                <a:gridCol w="457200"/>
                <a:gridCol w="23623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6320" y="3048120"/>
          <a:ext cx="8839080" cy="2346120"/>
        </p:xfrm>
        <a:graphic>
          <a:graphicData uri="http://schemas.openxmlformats.org/drawingml/2006/table">
            <a:tbl>
              <a:tblPr/>
              <a:tblGrid>
                <a:gridCol w="1706400"/>
                <a:gridCol w="542880"/>
                <a:gridCol w="493920"/>
                <a:gridCol w="533160"/>
                <a:gridCol w="533520"/>
                <a:gridCol w="533520"/>
                <a:gridCol w="533160"/>
                <a:gridCol w="533520"/>
                <a:gridCol w="457200"/>
                <a:gridCol w="533520"/>
                <a:gridCol w="533160"/>
                <a:gridCol w="457200"/>
                <a:gridCol w="609840"/>
                <a:gridCol w="838080"/>
              </a:tblGrid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во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21"/>
          <p:cNvSpPr/>
          <p:nvPr/>
        </p:nvSpPr>
        <p:spPr>
          <a:xfrm flipV="1">
            <a:off x="8229600" y="1981080"/>
            <a:ext cx="228600" cy="32767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22"/>
          <p:cNvSpPr/>
          <p:nvPr/>
        </p:nvSpPr>
        <p:spPr>
          <a:xfrm flipH="1" flipV="1">
            <a:off x="6019920" y="1981080"/>
            <a:ext cx="1752480" cy="32004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23"/>
          <p:cNvSpPr/>
          <p:nvPr/>
        </p:nvSpPr>
        <p:spPr>
          <a:xfrm>
            <a:off x="152280" y="54864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Гастроэнтерологические для дет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(0+70+65+65+65+65+60+60+60+60+60+60) / 12 =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4"/>
          <p:cNvSpPr/>
          <p:nvPr/>
        </p:nvSpPr>
        <p:spPr>
          <a:xfrm>
            <a:off x="152280" y="6248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огично расчет ведется по остальным профилям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2392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расчета среднегодовой работы к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838080"/>
          <a:ext cx="8839440" cy="1830600"/>
        </p:xfrm>
        <a:graphic>
          <a:graphicData uri="http://schemas.openxmlformats.org/drawingml/2006/table">
            <a:tbl>
              <a:tblPr/>
              <a:tblGrid>
                <a:gridCol w="2946600"/>
                <a:gridCol w="796680"/>
                <a:gridCol w="2352960"/>
                <a:gridCol w="457200"/>
                <a:gridCol w="2286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91540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457200"/>
                <a:gridCol w="457200"/>
                <a:gridCol w="53352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838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во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7ef"/>
                    </a:solidFill>
                  </a:tcPr>
                </a:tc>
              </a:tr>
            </a:tbl>
          </a:graphicData>
        </a:graphic>
      </p:graphicFrame>
      <p:sp>
        <p:nvSpPr>
          <p:cNvPr id="223" name="Line 1092"/>
          <p:cNvSpPr/>
          <p:nvPr/>
        </p:nvSpPr>
        <p:spPr>
          <a:xfrm flipV="1">
            <a:off x="8458200" y="1904760"/>
            <a:ext cx="152280" cy="2971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93"/>
          <p:cNvSpPr/>
          <p:nvPr/>
        </p:nvSpPr>
        <p:spPr>
          <a:xfrm flipH="1" flipV="1">
            <a:off x="6095520" y="1980720"/>
            <a:ext cx="1752840" cy="297180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94"/>
          <p:cNvSpPr/>
          <p:nvPr/>
        </p:nvSpPr>
        <p:spPr>
          <a:xfrm>
            <a:off x="152280" y="5181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Гастроэнтерологические для детей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((0*10+50*21)/31+55+57+(58*14+60*16)/30+65+65+60+60+60+60+60+60) / 12 =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95"/>
          <p:cNvSpPr/>
          <p:nvPr/>
        </p:nvSpPr>
        <p:spPr>
          <a:xfrm>
            <a:off x="1522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огично расчет ведется по остальным профилям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ПРОФИЛЯМ МЕДИЦИНСКОЙ ПОМОЩ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320" y="1695600"/>
          <a:ext cx="8915400" cy="5084640"/>
        </p:xfrm>
        <a:graphic>
          <a:graphicData uri="http://schemas.openxmlformats.org/drawingml/2006/table">
            <a:tbl>
              <a:tblPr/>
              <a:tblGrid>
                <a:gridCol w="2658960"/>
                <a:gridCol w="6256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я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и новорожденных и недоношенных детей,  для новорожденных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286000"/>
          <a:ext cx="7848360" cy="3962520"/>
        </p:xfrm>
        <a:graphic>
          <a:graphicData uri="http://schemas.openxmlformats.org/drawingml/2006/table">
            <a:tbl>
              <a:tblPr/>
              <a:tblGrid>
                <a:gridCol w="2313000"/>
                <a:gridCol w="3043080"/>
                <a:gridCol w="24922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ей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СН №30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"/>
          <p:cNvSpPr/>
          <p:nvPr/>
        </p:nvSpPr>
        <p:spPr>
          <a:xfrm>
            <a:off x="45720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ажно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3520" y="9907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Таблица 3100 заполняется по профилям коек, а не по наимен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тд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ойки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бщего профиля должны быть перепрофилированы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и показаны по соответствующему профилю в соответствии с приказом Минздравсоцразвития России от 12.05.2012  № 555н (терапевтические, сестринского ухода, паллиативные ил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ойки одноименного профиля, развернутые в различных отделениях медицинской организации, показывают суммарно одной стр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в городской больнице на конец отчетного года работ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рапевтическом отделен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ек по профилю «интенсивной терап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ирургическом отделен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ек по профилю «интенсивной терап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, в таблице 3100 по графе 3 строке 45.2 «интенсивной терапии» стави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заполняется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16/у-0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«Листков ежедневного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07/у-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и перевода пациентов из любого профильного отделения в другое этой же медицинской организации показывают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е перево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ациенты, направленные в дневной стационар, в другую медицинскую организацию или из них, считаю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писанны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ом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ступивши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еводом, а не перевед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4572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А*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371600"/>
          <a:ext cx="358164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AutoShape 59"/>
          <p:cNvSpPr/>
          <p:nvPr/>
        </p:nvSpPr>
        <p:spPr>
          <a:xfrm rot="18991800">
            <a:off x="685800" y="2209320"/>
            <a:ext cx="1457280" cy="692280"/>
          </a:xfrm>
          <a:prstGeom prst="rightArrow">
            <a:avLst>
              <a:gd name="adj1" fmla="val 50000"/>
              <a:gd name="adj2" fmla="val 52626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1"/>
          <p:cNvSpPr/>
          <p:nvPr/>
        </p:nvSpPr>
        <p:spPr>
          <a:xfrm>
            <a:off x="3809880" y="1676520"/>
            <a:ext cx="1600200" cy="485640"/>
          </a:xfrm>
          <a:prstGeom prst="rightArrow">
            <a:avLst>
              <a:gd name="adj1" fmla="val 50000"/>
              <a:gd name="adj2" fmla="val 82376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вед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410080" y="1371600"/>
          <a:ext cx="3581640" cy="127944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2"/>
          <p:cNvSpPr/>
          <p:nvPr/>
        </p:nvSpPr>
        <p:spPr>
          <a:xfrm>
            <a:off x="2743200" y="3505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8"/>
          <p:cNvSpPr/>
          <p:nvPr/>
        </p:nvSpPr>
        <p:spPr>
          <a:xfrm rot="5400000">
            <a:off x="4381560" y="-102852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3962520"/>
          <a:ext cx="7543800" cy="2225520"/>
        </p:xfrm>
        <a:graphic>
          <a:graphicData uri="http://schemas.openxmlformats.org/drawingml/2006/table">
            <a:tbl>
              <a:tblPr/>
              <a:tblGrid>
                <a:gridCol w="2362320"/>
                <a:gridCol w="753840"/>
                <a:gridCol w="1257480"/>
                <a:gridCol w="1468440"/>
                <a:gridCol w="170172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AutoShape 59"/>
          <p:cNvSpPr/>
          <p:nvPr/>
        </p:nvSpPr>
        <p:spPr>
          <a:xfrm rot="2509200">
            <a:off x="7511760" y="230328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Прямая со стрелкой 11"/>
          <p:cNvCxnSpPr/>
          <p:nvPr/>
        </p:nvCxnSpPr>
        <p:spPr>
          <a:xfrm>
            <a:off x="2666880" y="2057040"/>
            <a:ext cx="2363040" cy="396324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28" name="Прямая со стрелкой 12"/>
          <p:cNvCxnSpPr/>
          <p:nvPr/>
        </p:nvCxnSpPr>
        <p:spPr>
          <a:xfrm flipH="1">
            <a:off x="6552360" y="2057040"/>
            <a:ext cx="839160" cy="342972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04920" y="4572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ибольничный перевод в дневной стационар в А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523880"/>
          <a:ext cx="3581280" cy="137160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переводом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10080" y="1523880"/>
          <a:ext cx="3581640" cy="131148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ой стационар при поликли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2"/>
          <p:cNvSpPr/>
          <p:nvPr/>
        </p:nvSpPr>
        <p:spPr>
          <a:xfrm>
            <a:off x="1828800" y="3581280"/>
            <a:ext cx="365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0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углосуточны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410080" y="1143000"/>
            <a:ext cx="358164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4114800"/>
          <a:ext cx="6782040" cy="2133720"/>
        </p:xfrm>
        <a:graphic>
          <a:graphicData uri="http://schemas.openxmlformats.org/drawingml/2006/table">
            <a:tbl>
              <a:tblPr/>
              <a:tblGrid>
                <a:gridCol w="2238480"/>
                <a:gridCol w="565200"/>
                <a:gridCol w="1289160"/>
                <a:gridCol w="1158840"/>
                <a:gridCol w="153036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9" name="Прямая со стрелкой 11"/>
          <p:cNvCxnSpPr/>
          <p:nvPr/>
        </p:nvCxnSpPr>
        <p:spPr>
          <a:xfrm>
            <a:off x="2361960" y="2133360"/>
            <a:ext cx="2515320" cy="38106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40" name="Прямая со стрелкой 13"/>
          <p:cNvCxnSpPr/>
          <p:nvPr/>
        </p:nvCxnSpPr>
        <p:spPr>
          <a:xfrm>
            <a:off x="3428640" y="2133360"/>
            <a:ext cx="2591640" cy="388692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41" name="Прямая со стрелкой 15"/>
          <p:cNvCxnSpPr/>
          <p:nvPr/>
        </p:nvCxnSpPr>
        <p:spPr>
          <a:xfrm>
            <a:off x="3429000" y="2133360"/>
            <a:ext cx="4191840" cy="38106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42" name="Скругленный прямоугольник 18"/>
          <p:cNvSpPr/>
          <p:nvPr/>
        </p:nvSpPr>
        <p:spPr>
          <a:xfrm>
            <a:off x="6172200" y="28954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28600" y="2286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, перевод в другую медицинскую организ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523880"/>
          <a:ext cx="3581280" cy="134172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AutoShape 20"/>
          <p:cNvSpPr/>
          <p:nvPr/>
        </p:nvSpPr>
        <p:spPr>
          <a:xfrm rot="18991800">
            <a:off x="685800" y="2361960"/>
            <a:ext cx="1457280" cy="691920"/>
          </a:xfrm>
          <a:prstGeom prst="rightArrow">
            <a:avLst>
              <a:gd name="adj1" fmla="val 50000"/>
              <a:gd name="adj2" fmla="val 52653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609480" y="3581280"/>
            <a:ext cx="33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8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** район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4120" y="1143000"/>
            <a:ext cx="3581280" cy="380880"/>
          </a:xfrm>
          <a:prstGeom prst="rect">
            <a:avLst/>
          </a:prstGeom>
          <a:solidFill>
            <a:srgbClr val="9dc2d7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** област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410080" y="1523880"/>
          <a:ext cx="3581640" cy="1279800"/>
        </p:xfrm>
        <a:graphic>
          <a:graphicData uri="http://schemas.openxmlformats.org/drawingml/2006/table">
            <a:tbl>
              <a:tblPr/>
              <a:tblGrid>
                <a:gridCol w="1676520"/>
                <a:gridCol w="190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я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2d7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8600" y="3962520"/>
          <a:ext cx="4038480" cy="1982520"/>
        </p:xfrm>
        <a:graphic>
          <a:graphicData uri="http://schemas.openxmlformats.org/drawingml/2006/table">
            <a:tbl>
              <a:tblPr/>
              <a:tblGrid>
                <a:gridCol w="1719360"/>
                <a:gridCol w="436320"/>
                <a:gridCol w="870120"/>
                <a:gridCol w="10126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2"/>
          <p:cNvSpPr/>
          <p:nvPr/>
        </p:nvSpPr>
        <p:spPr>
          <a:xfrm>
            <a:off x="5257800" y="35812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76920" y="3962520"/>
          <a:ext cx="4038480" cy="1996920"/>
        </p:xfrm>
        <a:graphic>
          <a:graphicData uri="http://schemas.openxmlformats.org/drawingml/2006/table">
            <a:tbl>
              <a:tblPr/>
              <a:tblGrid>
                <a:gridCol w="1719000"/>
                <a:gridCol w="436680"/>
                <a:gridCol w="870120"/>
                <a:gridCol w="10126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AutoShape 27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9dc2d7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переводом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85800" y="6095880"/>
            <a:ext cx="2819520" cy="457200"/>
          </a:xfrm>
          <a:prstGeom prst="rect">
            <a:avLst/>
          </a:prstGeom>
          <a:solidFill>
            <a:srgbClr val="9d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3101 –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кругленный прямоугольник 14"/>
          <p:cNvSpPr/>
          <p:nvPr/>
        </p:nvSpPr>
        <p:spPr>
          <a:xfrm>
            <a:off x="3276720" y="15228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болезни стационарного больного закр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Прямая со стрелкой 15"/>
          <p:cNvCxnSpPr/>
          <p:nvPr/>
        </p:nvCxnSpPr>
        <p:spPr>
          <a:xfrm>
            <a:off x="2895120" y="2133720"/>
            <a:ext cx="229320" cy="350568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58" name="Прямая со стрелкой 17"/>
          <p:cNvCxnSpPr/>
          <p:nvPr/>
        </p:nvCxnSpPr>
        <p:spPr>
          <a:xfrm>
            <a:off x="3428640" y="2057400"/>
            <a:ext cx="686520" cy="358200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59" name="Прямая со стрелкой 21"/>
          <p:cNvCxnSpPr/>
          <p:nvPr/>
        </p:nvCxnSpPr>
        <p:spPr>
          <a:xfrm flipH="1">
            <a:off x="7543080" y="2209680"/>
            <a:ext cx="305640" cy="335376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60" name="Прямая со стрелкой 22"/>
          <p:cNvCxnSpPr/>
          <p:nvPr/>
        </p:nvCxnSpPr>
        <p:spPr>
          <a:xfrm>
            <a:off x="8076960" y="2209680"/>
            <a:ext cx="533880" cy="3353760"/>
          </a:xfrm>
          <a:prstGeom prst="straightConnector1">
            <a:avLst/>
          </a:prstGeom>
          <a:ln w="633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61" name="AutoShape 59"/>
          <p:cNvSpPr/>
          <p:nvPr/>
        </p:nvSpPr>
        <p:spPr>
          <a:xfrm rot="2509200">
            <a:off x="7641720" y="2760840"/>
            <a:ext cx="1457640" cy="691920"/>
          </a:xfrm>
          <a:prstGeom prst="rightArrow">
            <a:avLst>
              <a:gd name="adj1" fmla="val 50000"/>
              <a:gd name="adj2" fmla="val 52666"/>
            </a:avLst>
          </a:prstGeom>
          <a:solidFill>
            <a:srgbClr val="9dc2d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ис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007U"/>
          <p:cNvPicPr/>
          <p:nvPr/>
        </p:nvPicPr>
        <p:blipFill>
          <a:blip r:embed="rId1"/>
          <a:stretch/>
        </p:blipFill>
        <p:spPr>
          <a:xfrm>
            <a:off x="-774720" y="-352440"/>
            <a:ext cx="10693440" cy="756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5867280" y="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4876920"/>
            <a:ext cx="6248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90720" y="5257800"/>
            <a:ext cx="624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5562720"/>
            <a:ext cx="624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990720" y="594360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ведения о движении пациентов пойдут в строку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TyurinaEM</cp:lastModifiedBy>
  <dcterms:modified xsi:type="dcterms:W3CDTF">2017-11-30T17:32:54Z</dcterms:modified>
  <cp:revision>6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