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963-0A85-4884-9CCC-09D58FCA2C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A26-09FF-4C9E-9915-7882A8ACF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FE9-67A0-4FE6-9D68-75A2F03AC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D79-37DC-41BF-8746-E27B9A9CD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0821-8BAA-4031-9508-6AE17B50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7F35-386B-45F3-A06D-1EFA5D6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FE69-E9F3-4225-B0B9-48B64471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73CC-EC98-4FEC-8C41-0AAA1F9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6FE0-926C-49D1-AD20-9345357F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573-3548-4B48-9DAF-CBFBE7C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9B68-A397-4B79-BF2E-617DA005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DBD9-AA76-493A-B5FA-6329B95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656E-B66D-4215-8D6E-39C2F2A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E45E-0ECE-4971-8E64-05741AC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F00-E7AC-43A9-A8E0-6F74578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B4D4-3D51-49D9-AB78-2CC45A6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339-43CF-440B-AE3A-75651EF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F334-773F-445D-91D4-24FF148B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2640-9942-4BF9-A792-DE58DCE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D23-8A25-4831-9B33-04A2991C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9D6-9270-4F5C-905C-5CDD2A7B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13C-F1EA-4A83-A296-7A587ABB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72E4-F875-41EB-9984-AF77AF7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92BB-9876-49F1-98AB-B2575A4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BB9C-B87E-4F71-9F77-E54B503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A8BD-0784-4B23-90A4-DDA6008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F823-A552-426E-A18D-06BE69E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B3C1-B7A1-4027-A8F3-CB9DA9C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586-F8F0-410F-9D09-36FF17DD0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D9CE-746D-4CED-A21B-B70D9C015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457200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II.  ШТА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МЕДИЦИНСКО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79132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486400" y="5334120"/>
            <a:ext cx="685800" cy="3808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8305920" y="5334120"/>
            <a:ext cx="685800" cy="3808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657600"/>
            <a:ext cx="1752480" cy="1143000"/>
          </a:xfrm>
          <a:prstGeom prst="wedgeRoundRectCallout">
            <a:avLst>
              <a:gd name="adj1" fmla="val 88768"/>
              <a:gd name="adj2" fmla="val 9472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имеют сертификат 31 вра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572000"/>
            <a:ext cx="1752840" cy="1143000"/>
          </a:xfrm>
          <a:prstGeom prst="wedgeRoundRectCallout">
            <a:avLst>
              <a:gd name="adj1" fmla="val 161050"/>
              <a:gd name="adj2" fmla="val 6527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ом числе женщины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6324480"/>
            <a:ext cx="7620120" cy="457200"/>
          </a:xfrm>
          <a:prstGeom prst="flowChartTerminator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нный контроль применим для всех строк и подстроч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152280" y="4572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: медицинскими организациями не отмечается в строках наличие специальности, сертификатов во входящих строк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Овал 5"/>
          <p:cNvSpPr/>
          <p:nvPr/>
        </p:nvSpPr>
        <p:spPr>
          <a:xfrm>
            <a:off x="5410080" y="1371600"/>
            <a:ext cx="60984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Овал 5"/>
          <p:cNvSpPr/>
          <p:nvPr/>
        </p:nvSpPr>
        <p:spPr>
          <a:xfrm>
            <a:off x="8305920" y="1295280"/>
            <a:ext cx="60948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7048080" y="8758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714"/>
                </a:lnTo>
                <a:cubicBezTo>
                  <a:pt x="10800" y="8614"/>
                  <a:pt x="16200" y="9514"/>
                  <a:pt x="21600" y="9514"/>
                </a:cubicBezTo>
                <a:cubicBezTo>
                  <a:pt x="16200" y="9514"/>
                  <a:pt x="10800" y="10414"/>
                  <a:pt x="10800" y="11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1905120"/>
            <a:ext cx="76176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5146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152280" y="457200"/>
            <a:ext cx="876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троке 126 (имеют 2 и более сертификатов специалист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рафа 9 (число физических лиц) не заполняется либо значительно отличается от итогов предыдущего г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. 208 (прочий средний медицинский персона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огда включают главных медицинских сестер, медицинских дезинфекторов, медицинских сестер различных кабинетов, хотя для этих специалистов есть строки 163 (медицинские сестры), стр.190 (медицинские дезинфектор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круг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асчете штатных, занятых должностей – например, 0,60 шт.ед, 0,1 шт.е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из данного раздела включают сведения о должностях врачей, специалистов с высшим немедицинским образованием и среднего медицинского персонала, провизоров, фармацевтов, а также младшего (в соответствии с приказом Минздрава России от 20.12.2012 г. № 1183н) и прочего персонала, а также о физических лицах всех работников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 основных работников показываются один раз по основной должности, физические лица внешних совместителей не п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их совместителей показывают как физические лица только один раз по основной занимаемой должности (занятые должности без указания физического 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 работает на неполную ставку и его трудовая книжка находится в медицинской организации, то его показывают как основного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, помимо основной должности, занимает по совместительству часть штатной должности в одном из структурных подразделений организации, то занятая им должность по совместительству показывается по соответствующей строке, без указания физ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 медицинские организации заполняют таблицы раздела в соответствии со штатным расписанием, утвержденным руководителем медицинской организации в установлен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едения о должностях в форме могут показываться как целыми, так и дробными числами в соответствии с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правилами округл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0,75, 0,5, 0,25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4920" y="137160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ила округления при расчете штатной численности работ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28600" y="16765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штатные расписания могут вводиться штатные должности: целая единица штатной должности, 0,25 единицы штатной должности, 0,5 единицы штатной должности или 0,75 единицы штатной дол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28600" y="24382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кругление по одноименным должностям может производиться как по отдельным структурным подразделениям, так и по нескольким структурным подразделениям или на учреждение здравоохранения в целом в следующем порядке: итоговые числа менее 0,13 отбрасываются, числа 0,13-0,37 округляются до 0,25; числа 0,38-0,62 округляются до числа 0,5; числа 0,63-0,87 округляются до 0,75, а свыше 0,87 - до единицы в соответствии с таблиц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3809880"/>
          <a:ext cx="8382240" cy="2163960"/>
        </p:xfrm>
        <a:graphic>
          <a:graphicData uri="http://schemas.openxmlformats.org/drawingml/2006/table">
            <a:tbl>
              <a:tblPr/>
              <a:tblGrid>
                <a:gridCol w="827280"/>
                <a:gridCol w="3963960"/>
                <a:gridCol w="3591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п/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ое число должнос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круг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расываются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-0,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-0,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-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25"/>
          <p:cNvSpPr/>
          <p:nvPr/>
        </p:nvSpPr>
        <p:spPr>
          <a:xfrm>
            <a:off x="152280" y="6019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аком же порядке допускается округление по категориям персонала (врачи, средний медицинский персонал, младший медицинский персонал) в целом по учреждению здравоохран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1066680"/>
          <a:ext cx="8763120" cy="4741920"/>
        </p:xfrm>
        <a:graphic>
          <a:graphicData uri="http://schemas.openxmlformats.org/drawingml/2006/table">
            <a:tbl>
              <a:tblPr/>
              <a:tblGrid>
                <a:gridCol w="1371600"/>
                <a:gridCol w="304920"/>
                <a:gridCol w="838080"/>
                <a:gridCol w="762120"/>
                <a:gridCol w="766800"/>
                <a:gridCol w="631800"/>
                <a:gridCol w="677880"/>
                <a:gridCol w="614160"/>
                <a:gridCol w="966960"/>
                <a:gridCol w="914400"/>
                <a:gridCol w="914400"/>
              </a:tblGrid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96"/>
          <p:cNvSpPr/>
          <p:nvPr/>
        </p:nvSpPr>
        <p:spPr>
          <a:xfrm>
            <a:off x="1905120" y="3657600"/>
            <a:ext cx="7086600" cy="29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составл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штатные должности организаций особого типа, при э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такая организация имеет поликлинику (стационар),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ликлиники (стационара) показываются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е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штатные должности центров, станций отделений скор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ой помощи и переливания кров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тологоанатомических бюро и отдел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санато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ортные организации, дома ребенка, молочные кухн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огично для граф по занятым должностям и физическ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7"/>
          <p:cNvSpPr/>
          <p:nvPr/>
        </p:nvSpPr>
        <p:spPr>
          <a:xfrm>
            <a:off x="744444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7539120" y="457200"/>
            <a:ext cx="160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990720"/>
          <a:ext cx="8839440" cy="5303880"/>
        </p:xfrm>
        <a:graphic>
          <a:graphicData uri="http://schemas.openxmlformats.org/drawingml/2006/table">
            <a:tbl>
              <a:tblPr/>
              <a:tblGrid>
                <a:gridCol w="1503360"/>
                <a:gridCol w="406440"/>
                <a:gridCol w="833400"/>
                <a:gridCol w="752760"/>
                <a:gridCol w="752400"/>
                <a:gridCol w="750960"/>
                <a:gridCol w="771480"/>
                <a:gridCol w="750600"/>
                <a:gridCol w="793800"/>
                <a:gridCol w="68580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611"/>
          <p:cNvSpPr/>
          <p:nvPr/>
        </p:nvSpPr>
        <p:spPr>
          <a:xfrm>
            <a:off x="2286000" y="4114800"/>
            <a:ext cx="6629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3"/>
          <p:cNvSpPr/>
          <p:nvPr/>
        </p:nvSpPr>
        <p:spPr>
          <a:xfrm>
            <a:off x="2286000" y="5638680"/>
            <a:ext cx="6629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й врач, заместитель главного врача больничной организации и общебольничный персонал показываются из граф 3, 4, 9 по графам 7, 8,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должностях, физических лицах отделений (кабинетов) платных услуг, станций (отделений) скорой медицинской помощи, медицинских организаций особ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графы 9, 10 и 11 «Число физических лиц основных работников на занятых должностях» включаются только основные работники (т.е. те, кто имеет трудовые книжки в данной организа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ца, находящиеся в декретном отпуске или длительной командировке, указываются по тем должностям, с которых состоялся декретный отпуск, команд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нешние совместители в графы с 9 по 11 не вклю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сло физических лиц специалистов с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м немедицинским  образовани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сновных работников, занимающих должности врачей клинической лабораторной диагностики, врачей-статистиков и врачей по лечебной физкультуре указывается в строках 223-225 в графе 9. Штатные и занятые должности, занимаемые ими показываются по соответствующим строкам врачебных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кантные должности в поликлинике или в стационаре (разность между штатными и занятыми должностями) не может быть больше, чем в целом по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533520" y="4572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1100 следует иметь в вид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, имеющих в своем составе подразделения (для оказания медицинской помощи в амбулаторных, стационарных условиях), в графах 3 и 4 показывают общую штатную численность персонала юридического лица в целом по организации в соответствии со штатным распис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графах 5 и 6 (из граф 3 и 4 соответственно) - штатную численность подразделений,  оказывающих медицинскую помощь в амбулаторных условиях, включая вспомогательные отделения и 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графах 7 и 8 (из граф 3 и 4) – штатную численность подразделений, оказывающих медицинскую помощь в стационарных  условиях, включая вспомогательные отделения и каби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туберкулезных больницах,  противотуберкулезных диспансерах, фтизиопульмонологических центрах (кроме должностей вспомогательных отделений  - рентгеновского, физиотерапевтического, лабораторий и т.д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специалистов-консультантов не фтизиатр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туберкулезных отделениях (кабинетах) больниц и поликлиник относятся к должностям фтизиат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онкологических диспансерах и онкологических больницах (кроме должностей радиолого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других должностей консультантов-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онкологических отделениях и кабинетах других больниц и поликлиник относятся к должностям врачей-онко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ей - заведующих отделениями (кабинетами) показывают как специалистов в соответствующих строках (терапевтическими отделениями – как терапевтов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066680"/>
          <a:ext cx="8686800" cy="3033720"/>
        </p:xfrm>
        <a:graphic>
          <a:graphicData uri="http://schemas.openxmlformats.org/drawingml/2006/table">
            <a:tbl>
              <a:tblPr/>
              <a:tblGrid>
                <a:gridCol w="3619800"/>
                <a:gridCol w="706320"/>
                <a:gridCol w="990360"/>
                <a:gridCol w="959040"/>
                <a:gridCol w="1057320"/>
                <a:gridCol w="1353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538"/>
          <p:cNvSpPr/>
          <p:nvPr/>
        </p:nvSpPr>
        <p:spPr>
          <a:xfrm>
            <a:off x="228600" y="4267080"/>
            <a:ext cx="8763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афы 12-14 заполняются на основании удостоверений о присвоении квалификационной категории медицинские и фармацевтические работники, имеющие категории по нескольким специальностям, показываются в отчете 1 раз – по основной дол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афа 15 заполняется на основании сертификатов специалист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удостоверения об аккредитации специали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41"/>
          <p:cNvSpPr/>
          <p:nvPr/>
        </p:nvSpPr>
        <p:spPr>
          <a:xfrm>
            <a:off x="7139520" y="2286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04920" y="45720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762120" y="380880"/>
            <a:ext cx="795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татное расписание медицинской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907920"/>
            <a:ext cx="8713800" cy="15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атное расписание является документом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составлении, в первую очередь, учитывается установленный фонд оплаты труда и нормативная численность структурных подразде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19"/>
          <p:cNvSpPr/>
          <p:nvPr/>
        </p:nvSpPr>
        <p:spPr>
          <a:xfrm>
            <a:off x="1908000" y="2492280"/>
            <a:ext cx="5112000" cy="50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татное распис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разде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6300720" y="3284640"/>
            <a:ext cx="215748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латные медицинские 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Стрелка вправо 25"/>
          <p:cNvSpPr/>
          <p:nvPr/>
        </p:nvSpPr>
        <p:spPr>
          <a:xfrm rot="7908000">
            <a:off x="2530080" y="3058920"/>
            <a:ext cx="522000" cy="3603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Стрелка вправо 26"/>
          <p:cNvSpPr/>
          <p:nvPr/>
        </p:nvSpPr>
        <p:spPr>
          <a:xfrm rot="5400000">
            <a:off x="4122720" y="3065400"/>
            <a:ext cx="650880" cy="362160"/>
          </a:xfrm>
          <a:prstGeom prst="rightArrow">
            <a:avLst>
              <a:gd name="adj1" fmla="val 50000"/>
              <a:gd name="adj2" fmla="val 62004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трелка вправо 27"/>
          <p:cNvSpPr/>
          <p:nvPr/>
        </p:nvSpPr>
        <p:spPr>
          <a:xfrm rot="2604000">
            <a:off x="6208200" y="3054240"/>
            <a:ext cx="522360" cy="360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Овал 28"/>
          <p:cNvSpPr/>
          <p:nvPr/>
        </p:nvSpPr>
        <p:spPr>
          <a:xfrm>
            <a:off x="3581280" y="3581280"/>
            <a:ext cx="201636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М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Овал 29"/>
          <p:cNvSpPr/>
          <p:nvPr/>
        </p:nvSpPr>
        <p:spPr>
          <a:xfrm>
            <a:off x="838080" y="3200400"/>
            <a:ext cx="2016360" cy="1584360"/>
          </a:xfrm>
          <a:prstGeom prst="ellipse">
            <a:avLst/>
          </a:prstGeom>
          <a:gradFill rotWithShape="0">
            <a:gsLst>
              <a:gs pos="0">
                <a:srgbClr val="6d91a6"/>
              </a:gs>
              <a:gs pos="100000">
                <a:srgbClr val="8fbfdb"/>
              </a:gs>
            </a:gsLst>
            <a:lin ang="16200000"/>
          </a:gradFill>
          <a:ln w="9360">
            <a:solidFill>
              <a:srgbClr val="98be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0"/>
          <p:cNvSpPr/>
          <p:nvPr/>
        </p:nvSpPr>
        <p:spPr>
          <a:xfrm>
            <a:off x="3581280" y="5638680"/>
            <a:ext cx="506412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устанавливается главным врач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влияет на показатели укомплектова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ребует детальной прораб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31"/>
          <p:cNvSpPr/>
          <p:nvPr/>
        </p:nvSpPr>
        <p:spPr>
          <a:xfrm>
            <a:off x="609480" y="5589720"/>
            <a:ext cx="209088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устанавливается учредител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Прямая со стрелкой 34"/>
          <p:cNvCxnSpPr/>
          <p:nvPr/>
        </p:nvCxnSpPr>
        <p:spPr>
          <a:xfrm>
            <a:off x="1692000" y="4941360"/>
            <a:ext cx="1080" cy="57564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cxnSp>
        <p:nvCxnSpPr>
          <p:cNvPr id="127" name="Прямая со стрелкой 35"/>
          <p:cNvCxnSpPr/>
          <p:nvPr/>
        </p:nvCxnSpPr>
        <p:spPr>
          <a:xfrm flipH="1">
            <a:off x="6947640" y="4941720"/>
            <a:ext cx="288360" cy="64836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cxnSp>
        <p:nvCxnSpPr>
          <p:cNvPr id="128" name="Прямая со стрелкой 36"/>
          <p:cNvCxnSpPr/>
          <p:nvPr/>
        </p:nvCxnSpPr>
        <p:spPr>
          <a:xfrm>
            <a:off x="5148000" y="5084280"/>
            <a:ext cx="361080" cy="505800"/>
          </a:xfrm>
          <a:prstGeom prst="straightConnector1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</p:cxnSp>
      <p:sp>
        <p:nvSpPr>
          <p:cNvPr id="129" name=""/>
          <p:cNvSpPr/>
          <p:nvPr/>
        </p:nvSpPr>
        <p:spPr>
          <a:xfrm>
            <a:off x="457200" y="3581280"/>
            <a:ext cx="8153280" cy="3080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атная  численность, с учетом норм труда, должна обеспечивать потребности в оказании государственных услуг, а именно – объемы медицинской помощи, включенные в Программу государственных гарантий бесплатного оказания гражданам медицинской помо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кредитация специалистов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стоматолог" (специальность "Стоматология общей практики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терапевт участковый" (специальность "Лечебное дело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педиатр участковый" (специальность "Педиатр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 клинической лабораторной диагностики" (специальность "Медицинская биохим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 функциональной диагностики" (специальность "Медицинская биофизика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статистик" (специальность "Медицинская кибернетика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рач-эпидемиолог" и "Врач по общей гигиене" (специальность "Медико-профилактическое дело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Провизор" и "Провизор-технолог" (специальность "Фармация"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1143000"/>
          <a:ext cx="8763120" cy="3292560"/>
        </p:xfrm>
        <a:graphic>
          <a:graphicData uri="http://schemas.openxmlformats.org/drawingml/2006/table">
            <a:tbl>
              <a:tblPr/>
              <a:tblGrid>
                <a:gridCol w="1447920"/>
                <a:gridCol w="533160"/>
                <a:gridCol w="609840"/>
                <a:gridCol w="685800"/>
                <a:gridCol w="685800"/>
                <a:gridCol w="609480"/>
                <a:gridCol w="685800"/>
                <a:gridCol w="609480"/>
                <a:gridCol w="1067040"/>
                <a:gridCol w="914400"/>
                <a:gridCol w="91440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08"/>
          <p:cNvSpPr/>
          <p:nvPr/>
        </p:nvSpPr>
        <p:spPr>
          <a:xfrm>
            <a:off x="228600" y="45720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поко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клинической специально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ую врач име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0948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28600" y="1143000"/>
          <a:ext cx="8763120" cy="3535200"/>
        </p:xfrm>
        <a:graphic>
          <a:graphicData uri="http://schemas.openxmlformats.org/drawingml/2006/table">
            <a:tbl>
              <a:tblPr/>
              <a:tblGrid>
                <a:gridCol w="1447920"/>
                <a:gridCol w="533160"/>
                <a:gridCol w="609840"/>
                <a:gridCol w="685800"/>
                <a:gridCol w="685800"/>
                <a:gridCol w="609480"/>
                <a:gridCol w="685800"/>
                <a:gridCol w="609480"/>
                <a:gridCol w="1067040"/>
                <a:gridCol w="914400"/>
                <a:gridCol w="91440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"/>
          <p:cNvSpPr/>
          <p:nvPr/>
        </p:nvSpPr>
        <p:spPr>
          <a:xfrm>
            <a:off x="609480" y="457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38"/>
          <p:cNvSpPr/>
          <p:nvPr/>
        </p:nvSpPr>
        <p:spPr>
          <a:xfrm>
            <a:off x="2286000" y="3962520"/>
            <a:ext cx="6629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76320" y="533520"/>
          <a:ext cx="8915400" cy="5029200"/>
        </p:xfrm>
        <a:graphic>
          <a:graphicData uri="http://schemas.openxmlformats.org/drawingml/2006/table">
            <a:tbl>
              <a:tblPr/>
              <a:tblGrid>
                <a:gridCol w="1633320"/>
                <a:gridCol w="500040"/>
                <a:gridCol w="617760"/>
                <a:gridCol w="657000"/>
                <a:gridCol w="706680"/>
                <a:gridCol w="639720"/>
                <a:gridCol w="691920"/>
                <a:gridCol w="623880"/>
                <a:gridCol w="86364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подро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534"/>
          <p:cNvSpPr/>
          <p:nvPr/>
        </p:nvSpPr>
        <p:spPr>
          <a:xfrm>
            <a:off x="152280" y="57150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астковые терапевты, работающих в амбулаториях, показываются по строке 97 и в 99 строку не вход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99 заполняется если в амбулатории есть должности терапев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38"/>
          <p:cNvSpPr/>
          <p:nvPr/>
        </p:nvSpPr>
        <p:spPr>
          <a:xfrm>
            <a:off x="2743200" y="3581280"/>
            <a:ext cx="56386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52280" y="533520"/>
          <a:ext cx="8763120" cy="56451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866520"/>
                <a:gridCol w="879480"/>
                <a:gridCol w="1025640"/>
              </a:tblGrid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федеральных организаци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AutoShape 627"/>
          <p:cNvSpPr/>
          <p:nvPr/>
        </p:nvSpPr>
        <p:spPr>
          <a:xfrm>
            <a:off x="2286000" y="4876920"/>
            <a:ext cx="6553080" cy="685800"/>
          </a:xfrm>
          <a:prstGeom prst="wedgeRoundRectCallout">
            <a:avLst>
              <a:gd name="adj1" fmla="val 15648"/>
              <a:gd name="adj2" fmla="val 8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28"/>
          <p:cNvSpPr/>
          <p:nvPr/>
        </p:nvSpPr>
        <p:spPr>
          <a:xfrm>
            <a:off x="2514600" y="3886200"/>
            <a:ext cx="6248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124 и 125 равна строке 1, в строке 124 указываются учреждения федерального подчи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29"/>
          <p:cNvSpPr/>
          <p:nvPr/>
        </p:nvSpPr>
        <p:spPr>
          <a:xfrm>
            <a:off x="2514600" y="3200400"/>
            <a:ext cx="6248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30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ачи – лаборанты и старшие медсе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1219320" y="2514600"/>
            <a:ext cx="6933960" cy="1066680"/>
          </a:xfrm>
          <a:prstGeom prst="wedgeRectCallout">
            <a:avLst>
              <a:gd name="adj1" fmla="val -52152"/>
              <a:gd name="adj2" fmla="val -10059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именование должности "Врач-лаборант" сохраняется в указанной Номенклатуре для специалистов, принятых на эту должность до 1 октября 1999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8686800" cy="8254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5"/>
          <p:cNvSpPr/>
          <p:nvPr/>
        </p:nvSpPr>
        <p:spPr>
          <a:xfrm>
            <a:off x="380880" y="1752480"/>
            <a:ext cx="7621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Овал 5"/>
          <p:cNvSpPr/>
          <p:nvPr/>
        </p:nvSpPr>
        <p:spPr>
          <a:xfrm>
            <a:off x="380880" y="388620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609480" y="4800600"/>
            <a:ext cx="8153640" cy="1676520"/>
          </a:xfrm>
          <a:prstGeom prst="wedgeRectCallout">
            <a:avLst>
              <a:gd name="adj1" fmla="val -42583"/>
              <a:gd name="adj2" fmla="val -889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дицинский работник может осуществлять профессиональную деятельность в должности старшей медицинской сестры при наличии среднего профессионального образования повышенного уровня (углубленная подготовка) и сертификата по специальности "Сестринское дело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ые медицинские сес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сертификата по специальности "Организация сестринского дела" и «Управление сестринской деятельностью» предусмотрено для медицинских работников, занимающих должности главной медицинской сес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229600" cy="761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1549440"/>
          </a:xfrm>
          <a:prstGeom prst="rect">
            <a:avLst/>
          </a:prstGeom>
          <a:ln w="0">
            <a:noFill/>
          </a:ln>
        </p:spPr>
      </p:pic>
      <p:sp>
        <p:nvSpPr>
          <p:cNvPr id="218" name="Овал 5"/>
          <p:cNvSpPr/>
          <p:nvPr/>
        </p:nvSpPr>
        <p:spPr>
          <a:xfrm>
            <a:off x="1676520" y="1447920"/>
            <a:ext cx="457200" cy="19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врачам клинических специальностей относя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строка 123)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 и ортопеды, урологи, урологи-андрологи детские, колопроктологи, челюстно-лицевые хирурги, акушеры-гинекологи, педиатры, неонатологи, офтальмологи, отоларингологи, фтизиатры, неврологи, психиатры, гериатры, психиатры-наркологи, дерматовенерологи, врачи скорой медицинской помощи, инфекционисты, врачи общей практики (семейные), врачи по рентгеноваскулярной диагностики и л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ключить в строку 123 врачей здравпунктов, врачей по медицинской реабилитации, врачей приемного пок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дчиненности (федеральные учреждения, подчинение субъекта Российской Федерации) медицинские организации распределяются по состоянию на конец отчет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560" y="380880"/>
            <a:ext cx="8305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должностям с высшим профессиональным (немедицинским) образование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Зо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структор-методист по лечебной физ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ицинский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Медицинский физ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дебный эксперт (эксперт-биохимик, эксперт-генетик, эксперт-хим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имик-эксперт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ксперт-физик по контролю за источниками ионизирующих и неионизирующих излу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Эмбри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f19"/>
                </a:solidFill>
                <a:latin typeface="Times New Roman"/>
              </a:rPr>
              <a:t>Энтом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411480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Номенклатура должностей медицинских и фармацевтических работников (приказ Министерства здравоохранения Ро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20 декабря 2012 года N 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76320" y="457200"/>
          <a:ext cx="8839080" cy="5802480"/>
        </p:xfrm>
        <a:graphic>
          <a:graphicData uri="http://schemas.openxmlformats.org/drawingml/2006/table">
            <a:tbl>
              <a:tblPr/>
              <a:tblGrid>
                <a:gridCol w="2057400"/>
                <a:gridCol w="457200"/>
                <a:gridCol w="609480"/>
                <a:gridCol w="609480"/>
                <a:gridCol w="685800"/>
                <a:gridCol w="533520"/>
                <a:gridCol w="685800"/>
                <a:gridCol w="609480"/>
                <a:gridCol w="838440"/>
                <a:gridCol w="838080"/>
                <a:gridCol w="9144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915"/>
          <p:cNvSpPr/>
          <p:nvPr/>
        </p:nvSpPr>
        <p:spPr>
          <a:xfrm>
            <a:off x="2666880" y="2666880"/>
            <a:ext cx="62485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строку 127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не включаютс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сведения о специалистах с высшим немедицинским образованием, занимающих врачебные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17"/>
          <p:cNvSpPr/>
          <p:nvPr/>
        </p:nvSpPr>
        <p:spPr>
          <a:xfrm>
            <a:off x="2666880" y="3733920"/>
            <a:ext cx="624852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27 может быть больше суммы строк со 128 по 134 за счет: биолог, зоолог, эксперт-физик, эмбриолог, энтомолог. Если строка 127 больше суммы строк, то разницу  расшиф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685800" y="4572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каз Минздрава России от 15.05.2012 №54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Схема 1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35880" cy="51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дицинские регистраторы (медицинские дезинфекторы), имеющие медицинское образование или допуск к занимаемой должности (обучение на специальных курсах), показываются в числе среднего медицинского персонала. В случае отсутствия медицинского образования или специального допуска к занимаемой должности, они показываются как физические лица по строке «Прочий персонал» (строка 217, графа 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 указании должностей медицинских регистраторов и медицинских сестер патронажных в стационаре (графы 7, 8, 11) предоставить пояснительную записку, заверенную руководителем органа управления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Наличие сертификата и категории по прочему персоналу (строка 217) указывается только для педагогических работ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68"/>
          <p:cNvSpPr/>
          <p:nvPr/>
        </p:nvSpPr>
        <p:spPr>
          <a:xfrm>
            <a:off x="729180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15"/>
          <p:cNvSpPr/>
          <p:nvPr/>
        </p:nvSpPr>
        <p:spPr>
          <a:xfrm>
            <a:off x="533520" y="3200400"/>
            <a:ext cx="80010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тдельно предоставить пояснительную записку с указанием должностей и физических лиц показанных в строке 21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2280" y="762120"/>
          <a:ext cx="8763120" cy="5546520"/>
        </p:xfrm>
        <a:graphic>
          <a:graphicData uri="http://schemas.openxmlformats.org/drawingml/2006/table">
            <a:tbl>
              <a:tblPr/>
              <a:tblGrid>
                <a:gridCol w="1681200"/>
                <a:gridCol w="528840"/>
                <a:gridCol w="685800"/>
                <a:gridCol w="761760"/>
                <a:gridCol w="609840"/>
                <a:gridCol w="685800"/>
                <a:gridCol w="609480"/>
                <a:gridCol w="685800"/>
                <a:gridCol w="838080"/>
                <a:gridCol w="838440"/>
                <a:gridCol w="8380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710"/>
          <p:cNvSpPr/>
          <p:nvPr/>
        </p:nvSpPr>
        <p:spPr>
          <a:xfrm>
            <a:off x="2819520" y="3733920"/>
            <a:ext cx="51051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Строка 135 заполняется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13"/>
          <p:cNvSpPr/>
          <p:nvPr/>
        </p:nvSpPr>
        <p:spPr>
          <a:xfrm>
            <a:off x="2514600" y="5486400"/>
            <a:ext cx="63244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5 может быть больше суммы строк со 136 по 138 по графе 9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стальные графы по строкам с 136 по 138 не заполня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14"/>
          <p:cNvSpPr/>
          <p:nvPr/>
        </p:nvSpPr>
        <p:spPr>
          <a:xfrm>
            <a:off x="7291800" y="3049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52280" y="685800"/>
          <a:ext cx="8839440" cy="57880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09480"/>
                <a:gridCol w="762120"/>
                <a:gridCol w="609480"/>
                <a:gridCol w="533520"/>
                <a:gridCol w="762120"/>
                <a:gridCol w="685800"/>
                <a:gridCol w="761760"/>
                <a:gridCol w="914400"/>
                <a:gridCol w="8384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федеральных организац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39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694"/>
          <p:cNvSpPr/>
          <p:nvPr/>
        </p:nvSpPr>
        <p:spPr>
          <a:xfrm>
            <a:off x="3048120" y="4724280"/>
            <a:ext cx="54100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мма строк 141 и 142 равна строке 1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98"/>
          <p:cNvSpPr/>
          <p:nvPr/>
        </p:nvSpPr>
        <p:spPr>
          <a:xfrm>
            <a:off x="7368120" y="3049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19"/>
          <p:cNvSpPr/>
          <p:nvPr/>
        </p:nvSpPr>
        <p:spPr>
          <a:xfrm>
            <a:off x="2666880" y="5486400"/>
            <a:ext cx="632484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персон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20"/>
          <p:cNvSpPr/>
          <p:nvPr/>
        </p:nvSpPr>
        <p:spPr>
          <a:xfrm>
            <a:off x="1828800" y="6095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21"/>
          <p:cNvSpPr/>
          <p:nvPr/>
        </p:nvSpPr>
        <p:spPr>
          <a:xfrm>
            <a:off x="2666880" y="3505320"/>
            <a:ext cx="617220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Медицинских сестер с высшим образованием, занимающих должности врачей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 строку 139 не включ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76320" y="304920"/>
          <a:ext cx="9067680" cy="6613560"/>
        </p:xfrm>
        <a:graphic>
          <a:graphicData uri="http://schemas.openxmlformats.org/drawingml/2006/table">
            <a:tbl>
              <a:tblPr/>
              <a:tblGrid>
                <a:gridCol w="4532040"/>
                <a:gridCol w="606600"/>
                <a:gridCol w="743040"/>
                <a:gridCol w="637920"/>
                <a:gridCol w="671760"/>
                <a:gridCol w="619200"/>
                <a:gridCol w="637920"/>
                <a:gridCol w="6192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39): акуш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ные вр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ные тех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дезинфе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гигиеническому воспит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гигиеническому воспит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трудов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дезинфек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птики-оптометр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регистр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татис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техн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  врач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абор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средний медицинск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718"/>
          <p:cNvSpPr/>
          <p:nvPr/>
        </p:nvSpPr>
        <p:spPr>
          <a:xfrm>
            <a:off x="5334120" y="2286000"/>
            <a:ext cx="358128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139 равна сумме строк 144+145+146+ 150+151+ 152 +153 +154+155+159+163+190+ 191+192+193++194+ 198+203+204+2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94"/>
          <p:cNvSpPr/>
          <p:nvPr/>
        </p:nvSpPr>
        <p:spPr>
          <a:xfrm>
            <a:off x="5410080" y="5334120"/>
            <a:ext cx="30481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рочий сред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медицинский персона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(строка 208)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расшифр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76320" y="609480"/>
          <a:ext cx="8915400" cy="5715000"/>
        </p:xfrm>
        <a:graphic>
          <a:graphicData uri="http://schemas.openxmlformats.org/drawingml/2006/table">
            <a:tbl>
              <a:tblPr/>
              <a:tblGrid>
                <a:gridCol w="1676160"/>
                <a:gridCol w="500040"/>
                <a:gridCol w="795600"/>
                <a:gridCol w="761760"/>
                <a:gridCol w="609840"/>
                <a:gridCol w="685800"/>
                <a:gridCol w="609480"/>
                <a:gridCol w="685800"/>
                <a:gridCol w="914400"/>
                <a:gridCol w="83808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39)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 фельдшерско-акушерским пунк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719"/>
          <p:cNvSpPr/>
          <p:nvPr/>
        </p:nvSpPr>
        <p:spPr>
          <a:xfrm>
            <a:off x="2286000" y="2514600"/>
            <a:ext cx="6705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4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 –фельдшер (медицинская сестра);заведующий ФАП – фельдшер (акушер, медицинская сестра); заведующий кабинетом медпрофилактики – фельдшер (медицинская сестра); заведующий отделом, отделением, лабораторией, кабинетом зубопротез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04"/>
          <p:cNvSpPr/>
          <p:nvPr/>
        </p:nvSpPr>
        <p:spPr>
          <a:xfrm>
            <a:off x="2286000" y="4572000"/>
            <a:ext cx="670572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9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игиене, врача по общей гигиене, врача по радиационной гигиене, помощник энтомолога, и т.д. в соответствии с действующей номенклатурой долж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76320" y="457200"/>
          <a:ext cx="8915400" cy="6269040"/>
        </p:xfrm>
        <a:graphic>
          <a:graphicData uri="http://schemas.openxmlformats.org/drawingml/2006/table">
            <a:tbl>
              <a:tblPr/>
              <a:tblGrid>
                <a:gridCol w="1819080"/>
                <a:gridCol w="432000"/>
                <a:gridCol w="657000"/>
                <a:gridCol w="638280"/>
                <a:gridCol w="836640"/>
                <a:gridCol w="755640"/>
                <a:gridCol w="679320"/>
                <a:gridCol w="604800"/>
                <a:gridCol w="830520"/>
                <a:gridCol w="831600"/>
                <a:gridCol w="830520"/>
              </a:tblGrid>
              <a:tr h="10065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859"/>
          <p:cNvSpPr/>
          <p:nvPr/>
        </p:nvSpPr>
        <p:spPr>
          <a:xfrm>
            <a:off x="2362320" y="3581280"/>
            <a:ext cx="65530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4 по 166. То есть специалисты с высш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62"/>
          <p:cNvSpPr/>
          <p:nvPr/>
        </p:nvSpPr>
        <p:spPr>
          <a:xfrm>
            <a:off x="2362320" y="5486400"/>
            <a:ext cx="6629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строках 164-169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63"/>
          <p:cNvSpPr/>
          <p:nvPr/>
        </p:nvSpPr>
        <p:spPr>
          <a:xfrm>
            <a:off x="2438280" y="4419720"/>
            <a:ext cx="647712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7 по 169. То есть специалисты со средн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68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80"/>
          <p:cNvSpPr/>
          <p:nvPr/>
        </p:nvSpPr>
        <p:spPr>
          <a:xfrm>
            <a:off x="2362320" y="2743200"/>
            <a:ext cx="6553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или равна сумме строк со 164 по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2280" y="457200"/>
          <a:ext cx="8763120" cy="6218280"/>
        </p:xfrm>
        <a:graphic>
          <a:graphicData uri="http://schemas.openxmlformats.org/drawingml/2006/table">
            <a:tbl>
              <a:tblPr/>
              <a:tblGrid>
                <a:gridCol w="1667160"/>
                <a:gridCol w="542880"/>
                <a:gridCol w="546120"/>
                <a:gridCol w="641160"/>
                <a:gridCol w="687600"/>
                <a:gridCol w="625320"/>
                <a:gridCol w="671400"/>
                <a:gridCol w="609840"/>
                <a:gridCol w="736560"/>
                <a:gridCol w="1008000"/>
                <a:gridCol w="102708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3: анестез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885"/>
          <p:cNvSpPr/>
          <p:nvPr/>
        </p:nvSpPr>
        <p:spPr>
          <a:xfrm>
            <a:off x="2971800" y="3200400"/>
            <a:ext cx="4343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суммы строк со 170 по 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85"/>
          <p:cNvSpPr/>
          <p:nvPr/>
        </p:nvSpPr>
        <p:spPr>
          <a:xfrm>
            <a:off x="3048120" y="4495680"/>
            <a:ext cx="43434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авные медсестра включаются только в строку 1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76320" y="581040"/>
          <a:ext cx="8915400" cy="5881680"/>
        </p:xfrm>
        <a:graphic>
          <a:graphicData uri="http://schemas.openxmlformats.org/drawingml/2006/table">
            <a:tbl>
              <a:tblPr/>
              <a:tblGrid>
                <a:gridCol w="1844640"/>
                <a:gridCol w="538200"/>
                <a:gridCol w="614160"/>
                <a:gridCol w="692280"/>
                <a:gridCol w="614160"/>
                <a:gridCol w="692280"/>
                <a:gridCol w="614520"/>
                <a:gridCol w="615960"/>
                <a:gridCol w="920520"/>
                <a:gridCol w="846360"/>
                <a:gridCol w="9223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федеральных организац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245"/>
          <p:cNvSpPr/>
          <p:nvPr/>
        </p:nvSpPr>
        <p:spPr>
          <a:xfrm>
            <a:off x="2514600" y="3581280"/>
            <a:ext cx="624852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209 должна быть равна сумме строк 210 и 2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249"/>
          <p:cNvSpPr/>
          <p:nvPr/>
        </p:nvSpPr>
        <p:spPr>
          <a:xfrm>
            <a:off x="2590920" y="4419720"/>
            <a:ext cx="62481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строке 212 указываются сведения в случае, если такие организации есть в подчинении субъекта или в подчинении Минздрава Ро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252"/>
          <p:cNvSpPr/>
          <p:nvPr/>
        </p:nvSpPr>
        <p:spPr>
          <a:xfrm>
            <a:off x="2666880" y="5715000"/>
            <a:ext cx="57150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Строка 213 показывается из строки 15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53"/>
          <p:cNvSpPr/>
          <p:nvPr/>
        </p:nvSpPr>
        <p:spPr>
          <a:xfrm>
            <a:off x="736812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52280" y="457200"/>
          <a:ext cx="8839440" cy="403236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58800"/>
                <a:gridCol w="648000"/>
                <a:gridCol w="695160"/>
                <a:gridCol w="628560"/>
                <a:gridCol w="677880"/>
                <a:gridCol w="614520"/>
                <a:gridCol w="74448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ицинские сестры по уходу за бо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Rectangle 550"/>
          <p:cNvSpPr/>
          <p:nvPr/>
        </p:nvSpPr>
        <p:spPr>
          <a:xfrm>
            <a:off x="2514600" y="2895480"/>
            <a:ext cx="640080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ока 214 может быть больше суммы строк 215+216 (санитар-водитель, сестра-хозяй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52"/>
          <p:cNvSpPr/>
          <p:nvPr/>
        </p:nvSpPr>
        <p:spPr>
          <a:xfrm>
            <a:off x="152280" y="4343400"/>
            <a:ext cx="876312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Среднее профессиональное образование по специальностям "Сестринское дело", "Лечебно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дело", "Акушерское дело" – образовательные программы подготовки квалифицированных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рабочих (служащих) по должности "Младшая медицинская сестра по уходу за больными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53"/>
          <p:cNvSpPr/>
          <p:nvPr/>
        </p:nvSpPr>
        <p:spPr>
          <a:xfrm>
            <a:off x="152280" y="5715000"/>
            <a:ext cx="8991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реднее общее образование профессиональное обучение по должности "Санитар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52280" y="685800"/>
          <a:ext cx="8763120" cy="45529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601"/>
          <p:cNvSpPr/>
          <p:nvPr/>
        </p:nvSpPr>
        <p:spPr>
          <a:xfrm>
            <a:off x="2514600" y="3200400"/>
            <a:ext cx="64008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строку 217 включаются: 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602"/>
          <p:cNvSpPr/>
          <p:nvPr/>
        </p:nvSpPr>
        <p:spPr>
          <a:xfrm>
            <a:off x="457200" y="5486400"/>
            <a:ext cx="7543800" cy="914400"/>
          </a:xfrm>
          <a:prstGeom prst="wedgeRoundRectCallout">
            <a:avLst>
              <a:gd name="adj1" fmla="val -33861"/>
              <a:gd name="adj2" fmla="val -85763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оку 220 включаются: программисты, операторы ЭВМ, администраторы компьютерных сетей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дзаголовок 2"/>
          <p:cNvSpPr/>
          <p:nvPr/>
        </p:nvSpPr>
        <p:spPr>
          <a:xfrm>
            <a:off x="179280" y="98100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комендуемые штатные нормативы, предусмотренные Положением об организации оказания первичной медико-санитарной помощи взросл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Схема 21" descr=""/>
          <p:cNvPicPr/>
          <p:nvPr/>
        </p:nvPicPr>
        <p:blipFill>
          <a:blip r:embed="rId1"/>
          <a:stretch/>
        </p:blipFill>
        <p:spPr>
          <a:xfrm>
            <a:off x="0" y="2438280"/>
            <a:ext cx="5040360" cy="4286520"/>
          </a:xfrm>
          <a:prstGeom prst="rect">
            <a:avLst/>
          </a:prstGeom>
          <a:ln w="0">
            <a:noFill/>
          </a:ln>
        </p:spPr>
      </p:pic>
      <p:pic>
        <p:nvPicPr>
          <p:cNvPr id="134" name="Схема 23" descr=""/>
          <p:cNvPicPr/>
          <p:nvPr/>
        </p:nvPicPr>
        <p:blipFill>
          <a:blip r:embed="rId2"/>
          <a:stretch/>
        </p:blipFill>
        <p:spPr>
          <a:xfrm>
            <a:off x="4383000" y="2438280"/>
            <a:ext cx="4761000" cy="338940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ый прямоугольник 24"/>
          <p:cNvSpPr/>
          <p:nvPr/>
        </p:nvSpPr>
        <p:spPr>
          <a:xfrm>
            <a:off x="1371600" y="1828800"/>
            <a:ext cx="6156360" cy="504720"/>
          </a:xfrm>
          <a:prstGeom prst="roundRect">
            <a:avLst>
              <a:gd name="adj" fmla="val 16667"/>
            </a:avLst>
          </a:prstGeom>
          <a:solidFill>
            <a:srgbClr val="a80000"/>
          </a:solidFill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же определены рекомендуемые штатные норматив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762120" y="457200"/>
            <a:ext cx="81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каз Минздрава России от 15.05.2012 №543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52280" y="609480"/>
          <a:ext cx="8839440" cy="545652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60600"/>
                <a:gridCol w="646200"/>
                <a:gridCol w="695160"/>
                <a:gridCol w="630360"/>
                <a:gridCol w="676080"/>
                <a:gridCol w="615960"/>
                <a:gridCol w="74304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            лаборан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694"/>
          <p:cNvSpPr/>
          <p:nvPr/>
        </p:nvSpPr>
        <p:spPr>
          <a:xfrm>
            <a:off x="2362320" y="320040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и с 222 по 225 заполняются по графам 9, 10,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и с 222 по 225 по графам с 3 по 8 не заполн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96"/>
          <p:cNvSpPr/>
          <p:nvPr/>
        </p:nvSpPr>
        <p:spPr>
          <a:xfrm>
            <a:off x="744444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99"/>
          <p:cNvSpPr/>
          <p:nvPr/>
        </p:nvSpPr>
        <p:spPr>
          <a:xfrm>
            <a:off x="2362320" y="396252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 по всем граф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00"/>
          <p:cNvSpPr/>
          <p:nvPr/>
        </p:nvSpPr>
        <p:spPr>
          <a:xfrm>
            <a:off x="762120" y="6172200"/>
            <a:ext cx="74674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его физических лиц должно быть равно сумме строк 221+2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09"/>
          <p:cNvSpPr/>
          <p:nvPr/>
        </p:nvSpPr>
        <p:spPr>
          <a:xfrm>
            <a:off x="7444440" y="1522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6320" y="533520"/>
          <a:ext cx="8839080" cy="6040440"/>
        </p:xfrm>
        <a:graphic>
          <a:graphicData uri="http://schemas.openxmlformats.org/drawingml/2006/table">
            <a:tbl>
              <a:tblPr/>
              <a:tblGrid>
                <a:gridCol w="2895480"/>
                <a:gridCol w="533520"/>
                <a:gridCol w="1420560"/>
                <a:gridCol w="797040"/>
                <a:gridCol w="792360"/>
                <a:gridCol w="793440"/>
                <a:gridCol w="814680"/>
                <a:gridCol w="792000"/>
              </a:tblGrid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исло физических лиц 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1092"/>
          <p:cNvSpPr/>
          <p:nvPr/>
        </p:nvSpPr>
        <p:spPr>
          <a:xfrm>
            <a:off x="3505320" y="1905120"/>
            <a:ext cx="548640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 равна сумме строк с 4 по 45, с 48 по 67, 69, 71,73, с 75 по 96, со 101 по 109, со 111 по 1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95"/>
          <p:cNvSpPr/>
          <p:nvPr/>
        </p:nvSpPr>
        <p:spPr>
          <a:xfrm>
            <a:off x="3505320" y="2590920"/>
            <a:ext cx="54100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27 больше или равна сумме строк со 128 по 1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098"/>
          <p:cNvSpPr/>
          <p:nvPr/>
        </p:nvSpPr>
        <p:spPr>
          <a:xfrm>
            <a:off x="3505320" y="3124080"/>
            <a:ext cx="54100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5 больше или равна сумме строк со 136 по 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99"/>
          <p:cNvSpPr/>
          <p:nvPr/>
        </p:nvSpPr>
        <p:spPr>
          <a:xfrm>
            <a:off x="3505320" y="3657600"/>
            <a:ext cx="54864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139 равна сумме строк со 144 по 146, 148, со 150 по 155, 159, 163, со 190 по 194, 198, 203, 204, 2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06"/>
          <p:cNvSpPr/>
          <p:nvPr/>
        </p:nvSpPr>
        <p:spPr>
          <a:xfrm>
            <a:off x="3581280" y="4267080"/>
            <a:ext cx="541044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14 больше или равна сумме строк 215+2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107"/>
          <p:cNvSpPr/>
          <p:nvPr/>
        </p:nvSpPr>
        <p:spPr>
          <a:xfrm>
            <a:off x="3581280" y="4648320"/>
            <a:ext cx="533412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17 больше или равна сумме строк 218+219+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08"/>
          <p:cNvSpPr/>
          <p:nvPr/>
        </p:nvSpPr>
        <p:spPr>
          <a:xfrm>
            <a:off x="3581280" y="6172200"/>
            <a:ext cx="541044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Всего в медицинских организациях равно сумме строк 221+2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109"/>
          <p:cNvSpPr/>
          <p:nvPr/>
        </p:nvSpPr>
        <p:spPr>
          <a:xfrm>
            <a:off x="3581280" y="5334120"/>
            <a:ext cx="541044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52280" y="121932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02"/>
          <p:cNvSpPr/>
          <p:nvPr/>
        </p:nvSpPr>
        <p:spPr>
          <a:xfrm>
            <a:off x="1295280" y="4572000"/>
            <a:ext cx="7543800" cy="609480"/>
          </a:xfrm>
          <a:prstGeom prst="wedgeRoundRectCallout">
            <a:avLst>
              <a:gd name="adj1" fmla="val -26282"/>
              <a:gd name="adj2" fmla="val -119532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нятость не указыв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52280" y="121932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602"/>
          <p:cNvSpPr/>
          <p:nvPr/>
        </p:nvSpPr>
        <p:spPr>
          <a:xfrm>
            <a:off x="533520" y="4495680"/>
            <a:ext cx="8381880" cy="381240"/>
          </a:xfrm>
          <a:prstGeom prst="wedgeRoundRectCallout">
            <a:avLst>
              <a:gd name="adj1" fmla="val -20472"/>
              <a:gd name="adj2" fmla="val -161250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период декретного отпуска принят сотрудник (основно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2280" y="5257800"/>
          <a:ext cx="8763120" cy="790560"/>
        </p:xfrm>
        <a:graphic>
          <a:graphicData uri="http://schemas.openxmlformats.org/drawingml/2006/table">
            <a:tbl>
              <a:tblPr/>
              <a:tblGrid>
                <a:gridCol w="1666800"/>
                <a:gridCol w="433440"/>
                <a:gridCol w="655560"/>
                <a:gridCol w="640080"/>
                <a:gridCol w="690480"/>
                <a:gridCol w="623880"/>
                <a:gridCol w="671400"/>
                <a:gridCol w="609480"/>
                <a:gridCol w="736920"/>
                <a:gridCol w="1009440"/>
                <a:gridCol w="10256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49568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52280" y="1066680"/>
          <a:ext cx="8763120" cy="292896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601"/>
          <p:cNvSpPr/>
          <p:nvPr/>
        </p:nvSpPr>
        <p:spPr>
          <a:xfrm>
            <a:off x="1523880" y="380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казание физических лиц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ходящихся в декретном отпус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602"/>
          <p:cNvSpPr/>
          <p:nvPr/>
        </p:nvSpPr>
        <p:spPr>
          <a:xfrm>
            <a:off x="228600" y="4191120"/>
            <a:ext cx="8686800" cy="914400"/>
          </a:xfrm>
          <a:prstGeom prst="wedgeRoundRectCallout">
            <a:avLst>
              <a:gd name="adj1" fmla="val -18000"/>
              <a:gd name="adj2" fmla="val -79689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период декретного отпуска принят сотрудник (основной) и лицо, находящееся в декретном отпуске частично занимает должность  (частичная занятость в периоде декретного отпус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5181480"/>
          <a:ext cx="8763120" cy="154764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тичная занятость лица, находящегося в декретном отпус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трудник на период декретного отпу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152280" y="1219320"/>
          <a:ext cx="8610840" cy="1828800"/>
        </p:xfrm>
        <a:graphic>
          <a:graphicData uri="http://schemas.openxmlformats.org/drawingml/2006/table">
            <a:tbl>
              <a:tblPr/>
              <a:tblGrid>
                <a:gridCol w="6172200"/>
                <a:gridCol w="801720"/>
                <a:gridCol w="16369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 должности отделений (кабинетов) профилактики (из таблицы 1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занятых должностей в отделениях (кабинетах)  профилактики: врачей (из стр. 01 гр.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 139 гр.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2"/>
          <p:cNvSpPr/>
          <p:nvPr/>
        </p:nvSpPr>
        <p:spPr>
          <a:xfrm>
            <a:off x="457200" y="533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94"/>
          <p:cNvSpPr/>
          <p:nvPr/>
        </p:nvSpPr>
        <p:spPr>
          <a:xfrm>
            <a:off x="228600" y="3276720"/>
            <a:ext cx="8534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личие занятых должностей в кабинете медицинской профилактики указывается в том случае, когда организован кабинет, то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выделенного для него пом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аппаратуры и оборуд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в штатном расписание предусмотрен специали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533520" y="609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152280" y="3733920"/>
            <a:ext cx="8763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1 по всем графам не должны превышать данные в таблице 1100 строки 139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2 по всем графам не должны превышать данные в таблице 1100 строки 204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в строке 3 по всем графам не должны превышать данные в таблице 1100 строки 144 по графам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371600"/>
          <a:ext cx="8610480" cy="2052720"/>
        </p:xfrm>
        <a:graphic>
          <a:graphicData uri="http://schemas.openxmlformats.org/drawingml/2006/table">
            <a:tbl>
              <a:tblPr/>
              <a:tblGrid>
                <a:gridCol w="4572000"/>
                <a:gridCol w="730080"/>
                <a:gridCol w="1051200"/>
                <a:gridCol w="1052280"/>
                <a:gridCol w="120492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80880" y="380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52280" y="3429000"/>
            <a:ext cx="88394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по всем строкам не должны превышать данные в таблице 1100 строка 139 графы 5, 6 и 10 соответ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личие должностей в кабинете указывается в том случае, когда организован кабинет, то е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выделенного для него поме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аппаратуры и оборуд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в штатном расписание предусмотрен специали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838080"/>
          <a:ext cx="8915400" cy="2498760"/>
        </p:xfrm>
        <a:graphic>
          <a:graphicData uri="http://schemas.openxmlformats.org/drawingml/2006/table">
            <a:tbl>
              <a:tblPr/>
              <a:tblGrid>
                <a:gridCol w="6686280"/>
                <a:gridCol w="1035360"/>
                <a:gridCol w="11937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смотровых кабине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олжностей среднего медицинского персонала (стр. 139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смотровом кабинет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 основных работников на занятых должност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380988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 участок формируется из населения врачебного участка с недостаточной численностью прикрепленного населения (малокомплектный участок) или населения, обслуживаемого врачом-терапевтом амбулатории и населения, обслуживаемого фельдшерско-акушерскими пунктами (фельдшерскими пункт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 участок – обслуживается врачом терапевтом участковым, медсестрой и фельдшером (акушеркой), ФАП, Ф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 малокомплектным участкам относят участки,  численность прикрепленного населения на которых на 200 человек ниже установленных норматив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280" y="762120"/>
          <a:ext cx="8763120" cy="2987640"/>
        </p:xfrm>
        <a:graphic>
          <a:graphicData uri="http://schemas.openxmlformats.org/drawingml/2006/table">
            <a:tbl>
              <a:tblPr/>
              <a:tblGrid>
                <a:gridCol w="5715000"/>
                <a:gridCol w="990720"/>
                <a:gridCol w="20574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омплекс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228"/>
          <p:cNvSpPr/>
          <p:nvPr/>
        </p:nvSpPr>
        <p:spPr>
          <a:xfrm>
            <a:off x="4572000" y="1752480"/>
            <a:ext cx="4419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Проверка доступности первичной медико-санитарной помощ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численность населения) : (нормати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исленности населения на участке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численность штатных должностей участков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этом могут быть откло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229"/>
          <p:cNvSpPr/>
          <p:nvPr/>
        </p:nvSpPr>
        <p:spPr>
          <a:xfrm>
            <a:off x="4114800" y="609588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от 15.05.2012 № 543н “Об утверждении Положения об организации оказания первичной медико-санитарной помощи взрослому населению” в амбулаторно-поликлинических учреждениях могут быть организованы следующие участк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апевтический, с численностью прикрепленного взрослого населения (18 лет и старше) в количестве 17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а общей практики, с численностью прикрепленного взрослого на- селения (18 лет и старше) в количестве 12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мейного врача, с численностью прикрепленного взрослого и детского населения в количестве 1500 чел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, с численностью прикрепленного населения (взрослого и детского) в количестве 2000 че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 от 16.04.2012 №366н "Об утверждении Порядка оказания педиатрической помощи" рекомендовано на 1 врача-педиатра участкового 800 прикрепленного детск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3809880" y="533520"/>
            <a:ext cx="9907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Специальность  </a:t>
            </a:r>
            <a:r>
              <a:rPr b="1" lang="en-US" sz="2000" spc="-1" strike="noStrike">
                <a:solidFill>
                  <a:srgbClr val="3f20f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Занимае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657600" y="2057400"/>
            <a:ext cx="1905120" cy="22860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3357720"/>
          <a:ext cx="8305560" cy="2800080"/>
        </p:xfrm>
        <a:graphic>
          <a:graphicData uri="http://schemas.openxmlformats.org/drawingml/2006/table">
            <a:tbl>
              <a:tblPr/>
              <a:tblGrid>
                <a:gridCol w="3109680"/>
                <a:gridCol w="5195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Овал 6"/>
          <p:cNvSpPr/>
          <p:nvPr/>
        </p:nvSpPr>
        <p:spPr>
          <a:xfrm>
            <a:off x="380880" y="1676520"/>
            <a:ext cx="2667240" cy="8380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Овал 6"/>
          <p:cNvSpPr/>
          <p:nvPr/>
        </p:nvSpPr>
        <p:spPr>
          <a:xfrm>
            <a:off x="5638680" y="1752480"/>
            <a:ext cx="2819520" cy="99072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81952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дем проработку от обрат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80880" y="3581280"/>
            <a:ext cx="8534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таблице отражаются сведения и числе физических лиц медицинских работников на комплексных врачебных участках из числа указанных в таблице 1107, строке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соответствующие данные таблицы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28600" y="990720"/>
          <a:ext cx="8610480" cy="17366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медицинских работников на комплексных врачебных участк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ов  1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ок 2.___________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сестер 3.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107"/>
          <p:cNvSpPr/>
          <p:nvPr/>
        </p:nvSpPr>
        <p:spPr>
          <a:xfrm>
            <a:off x="5029200" y="1600200"/>
            <a:ext cx="28954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 заполняет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ли заполнена ст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таблицы 1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52280" y="914400"/>
          <a:ext cx="8763120" cy="5151600"/>
        </p:xfrm>
        <a:graphic>
          <a:graphicData uri="http://schemas.openxmlformats.org/drawingml/2006/table">
            <a:tbl>
              <a:tblPr/>
              <a:tblGrid>
                <a:gridCol w="2262240"/>
                <a:gridCol w="519120"/>
                <a:gridCol w="352440"/>
                <a:gridCol w="803160"/>
                <a:gridCol w="804960"/>
                <a:gridCol w="820800"/>
                <a:gridCol w="789120"/>
                <a:gridCol w="801720"/>
                <a:gridCol w="804600"/>
                <a:gridCol w="804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038"/>
          <p:cNvSpPr/>
          <p:nvPr/>
        </p:nvSpPr>
        <p:spPr>
          <a:xfrm>
            <a:off x="3352680" y="2209680"/>
            <a:ext cx="563904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ы строк по полу по должностям в таблице должны быть равны  соответствующим данным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зраст работников берется по состоянию на конец отчетного года (полн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39"/>
          <p:cNvSpPr/>
          <p:nvPr/>
        </p:nvSpPr>
        <p:spPr>
          <a:xfrm>
            <a:off x="713952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40"/>
          <p:cNvSpPr/>
          <p:nvPr/>
        </p:nvSpPr>
        <p:spPr>
          <a:xfrm>
            <a:off x="3352680" y="4952880"/>
            <a:ext cx="55627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11 и 12 по графе 4 должна быть равна строке 127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42"/>
          <p:cNvSpPr/>
          <p:nvPr/>
        </p:nvSpPr>
        <p:spPr>
          <a:xfrm>
            <a:off x="3352680" y="4267080"/>
            <a:ext cx="55627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040"/>
          <p:cNvSpPr/>
          <p:nvPr/>
        </p:nvSpPr>
        <p:spPr>
          <a:xfrm>
            <a:off x="3352680" y="5791320"/>
            <a:ext cx="556272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фа 4 должна быть равна сумме граф с 5 по 10 по всем стро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84"/>
          <p:cNvSpPr/>
          <p:nvPr/>
        </p:nvSpPr>
        <p:spPr>
          <a:xfrm>
            <a:off x="222264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86"/>
          <p:cNvSpPr/>
          <p:nvPr/>
        </p:nvSpPr>
        <p:spPr>
          <a:xfrm>
            <a:off x="293364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280" y="838080"/>
          <a:ext cx="8839440" cy="3718080"/>
        </p:xfrm>
        <a:graphic>
          <a:graphicData uri="http://schemas.openxmlformats.org/drawingml/2006/table">
            <a:tbl>
              <a:tblPr/>
              <a:tblGrid>
                <a:gridCol w="1052640"/>
                <a:gridCol w="700200"/>
                <a:gridCol w="753840"/>
                <a:gridCol w="770040"/>
                <a:gridCol w="533520"/>
                <a:gridCol w="761760"/>
                <a:gridCol w="930240"/>
                <a:gridCol w="920880"/>
                <a:gridCol w="533520"/>
                <a:gridCol w="815760"/>
                <a:gridCol w="1067040"/>
              </a:tblGrid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497"/>
          <p:cNvSpPr/>
          <p:nvPr/>
        </p:nvSpPr>
        <p:spPr>
          <a:xfrm>
            <a:off x="152280" y="46483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таблицу включают сведения о численности медицинских работников, находящихся на конец отчетного года в декретном и долгосрочном отпус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данные таблицы 1100 по соответствующим строк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02"/>
          <p:cNvSpPr/>
          <p:nvPr/>
        </p:nvSpPr>
        <p:spPr>
          <a:xfrm>
            <a:off x="7215840" y="3808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Анестезиология-реаниматология, Гастроэнтерология, Гематология, Гериатрия,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1371600"/>
          <a:ext cx="8686800" cy="434664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533520" y="990720"/>
          <a:ext cx="8229600" cy="4638600"/>
        </p:xfrm>
        <a:graphic>
          <a:graphicData uri="http://schemas.openxmlformats.org/drawingml/2006/table">
            <a:tbl>
              <a:tblPr/>
              <a:tblGrid>
                <a:gridCol w="2813040"/>
                <a:gridCol w="715680"/>
                <a:gridCol w="4700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en-US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AutoShape 182"/>
          <p:cNvSpPr/>
          <p:nvPr/>
        </p:nvSpPr>
        <p:spPr>
          <a:xfrm>
            <a:off x="3352680" y="5791320"/>
            <a:ext cx="5334120" cy="838080"/>
          </a:xfrm>
          <a:prstGeom prst="wedgeRectCallout">
            <a:avLst>
              <a:gd name="adj1" fmla="val 1041"/>
              <a:gd name="adj2" fmla="val -263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перечисленные в подстрочниках указываются в строках 155 и 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"/>
          <p:cNvSpPr/>
          <p:nvPr/>
        </p:nvSpPr>
        <p:spPr>
          <a:xfrm>
            <a:off x="152280" y="45720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встречающиеся ошибки при заполнении табицы 11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оке 2 (из них: женщин) гр.12-15 (имеют квалификационную категорию, сертификат специалиста) не заполняются либо значительно отличается от итогов предыдущего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v.zolotova</cp:lastModifiedBy>
  <dcterms:modified xsi:type="dcterms:W3CDTF">2017-11-30T14:46:53Z</dcterms:modified>
  <cp:revision>6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