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0D80-87B1-435D-A33B-A8FF84B0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7088-FF8F-4AF4-9C31-2167995F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996A-09C0-4781-AF1C-D433FDC3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9211-AFA7-4EFD-A0C1-A15DD61B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6A76-321B-4728-922F-DC8EE58C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79EA-F222-4FB2-B4E6-CE93E8A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AE0A-4625-4CE9-AA26-1A9B9BC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7B48-EF67-4F87-B74F-C674C37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9404-DBB3-4AA6-81C6-6D66DF25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BD2F-D814-4BA3-907E-AE9F4DB0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7E60-1780-4685-BC18-594B530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CA16-1C69-4FA7-A772-BDABDB2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76E-60FA-4CF8-968D-5C2FC3B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3EB4-6B32-4E69-8886-91C30102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ABC4-8805-412C-B403-1894D717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A815-AA96-49D5-8890-0A686CF8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2C29-0981-48DF-8866-F7F64FA9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B087-8166-4B88-B175-F1037D2E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EE4D-B0D4-423F-A4FD-8B0FF156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F3B1-542C-4A70-8A27-078755EC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FE98-23B4-4CD5-B90F-D6D1B4D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4AEA-CC70-43D2-8C8B-DFB5012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0D30-A2BD-477D-AB84-F9C2F13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6E09-70A6-42EE-9383-FAAA1312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1EE7-7A7A-491A-8444-1DEE1A8B5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4AFD-1588-43E6-A53A-B4C6063EA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ase.garant.ru/12178397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se.garant.ru/12178397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4419720"/>
            <a:ext cx="87631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е 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среднему медицинскому персоналу учитываются при условии осуществления самостоятельного амбулаторного приема: фельдшерами, акушерками, в смотровых кабинетах, в кабинетах доврачебного приема, кабинетах неотложной помощи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унктах неотложной помощи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читываются как  «посещение» среднего медперсонала лабораторий, рентгеновских, физиотерапевтических, лечебно-физкультурных и других вспомогательных отделений (кабинетов), где учету подлежит число отпущенных процедур (сделанных анализов, исследований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990720"/>
          <a:ext cx="8458200" cy="91440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врачами пунктов (кабинетов) неотложной медицинской помощи на дому (из гр. 9 таблицы 2100)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(18 лет и старше) 1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(0-17 лет) 2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70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 врачами пунктов (кабинетов) неотложной медицинской помощи, включая пункты на дому, в том случае, если пункт (кабинет) неотложной помощи организован в медицинской организации в соответствии с требованиями нормати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нкт  (кабинет) неотложной помощи  является структурным подразделением поликлиники и организован для оказания медицинской помощи при внезапных острых заболеваниях, обострении хронических заболеваний, неопасных для жизни и не требующих экстренной медицинской 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атная численность персонала и режим работы пункта (кабинета) неотложной помощи устанавливается руководителем медицинской организации в соответствии с положением о работе пункта (кабинета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тложная помощь осуществляется в течение не более 2 часов после поступления обращения больного или иного лица об оказании неотложной медицинской помощи на дому либо от работника станции скор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066680"/>
          <a:ext cx="8458200" cy="207324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914400"/>
                <a:gridCol w="1218960"/>
                <a:gridCol w="990720"/>
                <a:gridCol w="114300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врачам центров здоровья и комплексные об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гр.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гр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(из табл.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мплекс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214"/>
          <p:cNvSpPr/>
          <p:nvPr/>
        </p:nvSpPr>
        <p:spPr>
          <a:xfrm>
            <a:off x="380880" y="3581280"/>
            <a:ext cx="8382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строке 1 таблицы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1-ой и 2-ой строке таблице, должны соответствовать отчету по форме №68 «Сведения о деятельности центров здоровья» за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143000"/>
          <a:ext cx="8229600" cy="2332080"/>
        </p:xfrm>
        <a:graphic>
          <a:graphicData uri="http://schemas.openxmlformats.org/drawingml/2006/table">
            <a:tbl>
              <a:tblPr/>
              <a:tblGrid>
                <a:gridCol w="5751360"/>
                <a:gridCol w="1062000"/>
                <a:gridCol w="141624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сделано лицами старше трудоспособного возраста (из табл. 2100, стр.1, гр. 3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по поводу заболеваний (из табл. 2100, стр.1, гр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врачами на дому всего (из табл. 2100, стр.1, гр. 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поводу заболеваний (из табл. 2100, стр.1, гр. 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58"/>
          <p:cNvSpPr/>
          <p:nvPr/>
        </p:nvSpPr>
        <p:spPr>
          <a:xfrm>
            <a:off x="380880" y="3886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ываются посещения лиц старше трудоспособного возраста, то есть посещения женщин в возрасте 55 лет и старше и мужчин в возрасте 60 лет и старш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280" y="838080"/>
          <a:ext cx="8763120" cy="53056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696"/>
          <p:cNvSpPr/>
          <p:nvPr/>
        </p:nvSpPr>
        <p:spPr>
          <a:xfrm>
            <a:off x="4495680" y="3733920"/>
            <a:ext cx="441972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2+3+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рока 5 должна быть равна сумме строк с 6 по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97"/>
          <p:cNvSpPr/>
          <p:nvPr/>
        </p:nvSpPr>
        <p:spPr>
          <a:xfrm>
            <a:off x="4495680" y="1676520"/>
            <a:ext cx="449604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под посещениями сельских жителей следует понимать посещения контингентов, постоянно проживающих в сельских поселениях сельских муниципальных образований, а также сельских населенных пунктов, входящие в состав городских поселений или городских округов, обратившихся к врачам данной организации для получения помощи в амбулаторных условиях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03"/>
          <p:cNvSpPr/>
          <p:nvPr/>
        </p:nvSpPr>
        <p:spPr>
          <a:xfrm>
            <a:off x="4495680" y="4343400"/>
            <a:ext cx="44197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04"/>
          <p:cNvSpPr/>
          <p:nvPr/>
        </p:nvSpPr>
        <p:spPr>
          <a:xfrm>
            <a:off x="729180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9"/>
          <p:cNvSpPr/>
          <p:nvPr/>
        </p:nvSpPr>
        <p:spPr>
          <a:xfrm>
            <a:off x="152280" y="6095880"/>
            <a:ext cx="87631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графе 3 строка 1 должна быть равна сумме граф 7+8+11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графе 3 сумма строк 1+5 должна быть равна сумме граф 3+9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11"/>
          <p:cNvSpPr/>
          <p:nvPr/>
        </p:nvSpPr>
        <p:spPr>
          <a:xfrm>
            <a:off x="4495680" y="5334120"/>
            <a:ext cx="44197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 таблицу включаются все посещения, выполненные к врачам стоматологам, указанные в таблице 2100 по строкам с 86 по 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нкт, отделение (кабинет) неотложной медицинской помощи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с высокой температурой, гипертоническим кризом,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15–20% от общего числа посещений на дому, что зависит от таких факторов, как соотношение первичных и повторных посещений больного; динамика и сезонность заболеваний; возможность госпитализа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населения(взрослые, дети – сироты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8 «комплексный 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плексные осмотры ВОВ (углубленная диспансеризация В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9 «паллиативная помощ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врача кабинета противоболевой терапии в данную строку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0 «патронаж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1 «прочи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47242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посещениям по поводу заболе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едует относить посещения, когда у пациента выявлены заболевания, классифицируемы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ах МКБ-10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00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посещениям с профилактической цел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носятся состояния, классифицируемы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е МКБ-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Z00-Z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рач-эпидеми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 врача-эпидемиолога, как амбулаторное посещение (прием) не учит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приказ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Министерства здравоохранения и социального развития РФ от 23 июля 2010 г. N 541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т необходимые санитарно-гигиенические и противоэпидемические мероприятия, используя современные методы анализа санитарно-эпидемиологической ситуации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водит ежедневный анализ регистрации и учета инфекционной заболеваем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нализирует информационные материалы о состоянии инфекционной заболеваемости и проведении в очагах особо опасных инфекционных заболев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оводит оперативный и ретроспективный анализ заболеваемости, контроль за осуществлением комплекса противоэпидемических мероприятий. Проводит экспертизы, расследования, обследования, исследования и иные виды оценок. Принимает участие в расследовании случаев инфекционной заболеваемости с целью установления причинно-следственных связей между состоянием здоровья и средой обитания человека. Проводит анализ выполнения плана профилактических прививок. Осуществляет зоолого-энтомологический мониторинг объектов возможного завоза особо опасных инфек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bject 8"/>
          <p:cNvSpPr/>
          <p:nvPr/>
        </p:nvSpPr>
        <p:spPr>
          <a:xfrm>
            <a:off x="457200" y="457200"/>
            <a:ext cx="812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8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ДОСТАТКИ ОРГАНИЗАЦИИ АКТИВНЫХ ПОСЕЩЕНИЙ И МЕРЫ ПО ИХ УСТРАН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bject 9"/>
          <p:cNvSpPr/>
          <p:nvPr/>
        </p:nvSpPr>
        <p:spPr>
          <a:xfrm>
            <a:off x="228600" y="1219320"/>
            <a:ext cx="3456000" cy="230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bject 11"/>
          <p:cNvSpPr/>
          <p:nvPr/>
        </p:nvSpPr>
        <p:spPr>
          <a:xfrm>
            <a:off x="1523880" y="3733920"/>
            <a:ext cx="71928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bject 13"/>
          <p:cNvSpPr/>
          <p:nvPr/>
        </p:nvSpPr>
        <p:spPr>
          <a:xfrm>
            <a:off x="4114800" y="1447920"/>
            <a:ext cx="4495680" cy="4038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ой из ключевых составляющих первичной медико-санитарной помощи является медицинская помощь на дому, в частности </a:t>
            </a:r>
            <a:r>
              <a:rPr b="1" lang="en-US" sz="1800" spc="-1" strike="noStrike">
                <a:solidFill>
                  <a:srgbClr val="9dc2d7"/>
                </a:solidFill>
                <a:latin typeface="Arial"/>
              </a:rPr>
              <a:t>активные посещ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которые способствуют уменьшению непрофильной нагрузки на учреждения скорой и специализирова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ой помощи. Активные посещения ведут к предупреждению, раннему выявлению социально значимых заболеваний и борьбе с ни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bject 21"/>
          <p:cNvSpPr/>
          <p:nvPr/>
        </p:nvSpPr>
        <p:spPr>
          <a:xfrm>
            <a:off x="3809880" y="1295280"/>
            <a:ext cx="5029200" cy="411480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4175125" h="1327150">
                <a:moveTo>
                  <a:pt x="0" y="221106"/>
                </a:moveTo>
                <a:lnTo>
                  <a:pt x="6422" y="167952"/>
                </a:lnTo>
                <a:lnTo>
                  <a:pt x="24668" y="119469"/>
                </a:lnTo>
                <a:lnTo>
                  <a:pt x="53204" y="77188"/>
                </a:lnTo>
                <a:lnTo>
                  <a:pt x="90498" y="42643"/>
                </a:lnTo>
                <a:lnTo>
                  <a:pt x="135016" y="17367"/>
                </a:lnTo>
                <a:lnTo>
                  <a:pt x="185227" y="2892"/>
                </a:lnTo>
                <a:lnTo>
                  <a:pt x="221107" y="0"/>
                </a:lnTo>
                <a:lnTo>
                  <a:pt x="3953891" y="0"/>
                </a:lnTo>
                <a:lnTo>
                  <a:pt x="3972034" y="732"/>
                </a:lnTo>
                <a:lnTo>
                  <a:pt x="3989773" y="2892"/>
                </a:lnTo>
                <a:lnTo>
                  <a:pt x="4040000" y="17367"/>
                </a:lnTo>
                <a:lnTo>
                  <a:pt x="4084544" y="42643"/>
                </a:lnTo>
                <a:lnTo>
                  <a:pt x="4121866" y="77188"/>
                </a:lnTo>
                <a:lnTo>
                  <a:pt x="4150429" y="119469"/>
                </a:lnTo>
                <a:lnTo>
                  <a:pt x="4168694" y="167952"/>
                </a:lnTo>
                <a:lnTo>
                  <a:pt x="4175125" y="221106"/>
                </a:lnTo>
                <a:lnTo>
                  <a:pt x="4175125" y="1105916"/>
                </a:lnTo>
                <a:lnTo>
                  <a:pt x="4174391" y="1124058"/>
                </a:lnTo>
                <a:lnTo>
                  <a:pt x="4172229" y="1141795"/>
                </a:lnTo>
                <a:lnTo>
                  <a:pt x="4157737" y="1192006"/>
                </a:lnTo>
                <a:lnTo>
                  <a:pt x="4132436" y="1236524"/>
                </a:lnTo>
                <a:lnTo>
                  <a:pt x="4097863" y="1273818"/>
                </a:lnTo>
                <a:lnTo>
                  <a:pt x="4055556" y="1302354"/>
                </a:lnTo>
                <a:lnTo>
                  <a:pt x="4007052" y="1320600"/>
                </a:lnTo>
                <a:lnTo>
                  <a:pt x="3953891" y="1327023"/>
                </a:lnTo>
                <a:lnTo>
                  <a:pt x="221107" y="1327023"/>
                </a:lnTo>
                <a:lnTo>
                  <a:pt x="202964" y="1326290"/>
                </a:lnTo>
                <a:lnTo>
                  <a:pt x="185227" y="1324130"/>
                </a:lnTo>
                <a:lnTo>
                  <a:pt x="135016" y="1309655"/>
                </a:lnTo>
                <a:lnTo>
                  <a:pt x="90498" y="1284379"/>
                </a:lnTo>
                <a:lnTo>
                  <a:pt x="53204" y="1249834"/>
                </a:lnTo>
                <a:lnTo>
                  <a:pt x="24668" y="1207553"/>
                </a:lnTo>
                <a:lnTo>
                  <a:pt x="6422" y="1159070"/>
                </a:lnTo>
                <a:lnTo>
                  <a:pt x="0" y="1105916"/>
                </a:lnTo>
                <a:lnTo>
                  <a:pt x="0" y="221106"/>
                </a:lnTo>
                <a:close/>
              </a:path>
            </a:pathLst>
          </a:custGeom>
          <a:noFill/>
          <a:ln w="38160">
            <a:solidFill>
              <a:srgbClr val="001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bject 46"/>
          <p:cNvSpPr/>
          <p:nvPr/>
        </p:nvSpPr>
        <p:spPr>
          <a:xfrm>
            <a:off x="228600" y="4648320"/>
            <a:ext cx="3429000" cy="14922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447925" h="1491614">
                <a:moveTo>
                  <a:pt x="2447925" y="0"/>
                </a:moveTo>
                <a:lnTo>
                  <a:pt x="0" y="0"/>
                </a:lnTo>
                <a:lnTo>
                  <a:pt x="0" y="1411351"/>
                </a:lnTo>
                <a:lnTo>
                  <a:pt x="174711" y="1445425"/>
                </a:lnTo>
                <a:lnTo>
                  <a:pt x="332900" y="1469526"/>
                </a:lnTo>
                <a:lnTo>
                  <a:pt x="476403" y="1484545"/>
                </a:lnTo>
                <a:lnTo>
                  <a:pt x="607054" y="1491369"/>
                </a:lnTo>
                <a:lnTo>
                  <a:pt x="726692" y="1490888"/>
                </a:lnTo>
                <a:lnTo>
                  <a:pt x="837150" y="1483993"/>
                </a:lnTo>
                <a:lnTo>
                  <a:pt x="940265" y="1471572"/>
                </a:lnTo>
                <a:lnTo>
                  <a:pt x="1037874" y="1454514"/>
                </a:lnTo>
                <a:lnTo>
                  <a:pt x="1131812" y="1433710"/>
                </a:lnTo>
                <a:lnTo>
                  <a:pt x="1223914" y="1410049"/>
                </a:lnTo>
                <a:lnTo>
                  <a:pt x="1507572" y="1330815"/>
                </a:lnTo>
                <a:lnTo>
                  <a:pt x="1610694" y="1304619"/>
                </a:lnTo>
                <a:lnTo>
                  <a:pt x="1721161" y="1280013"/>
                </a:lnTo>
                <a:lnTo>
                  <a:pt x="1840809" y="1257886"/>
                </a:lnTo>
                <a:lnTo>
                  <a:pt x="1971473" y="1239128"/>
                </a:lnTo>
                <a:lnTo>
                  <a:pt x="2114990" y="1224628"/>
                </a:lnTo>
                <a:lnTo>
                  <a:pt x="2273195" y="1215276"/>
                </a:lnTo>
                <a:lnTo>
                  <a:pt x="2447925" y="1211961"/>
                </a:lnTo>
                <a:lnTo>
                  <a:pt x="2447925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33520" y="4876920"/>
            <a:ext cx="28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тивные посещения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ещения на д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инициативе вра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Деятельность медицинской организации по оказанию медицинской помощи в амбулаторных условиях» ФФСН №3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федерального статистического наблюдения № 30 составляется всеми медицинскими организациями, входящими в номенклатуру медицинских организаций (приказ Минздрава России от 06.08.2013 № 529н, зарегистрирован в Министерстве юстиции Российской Федерации 13.09.2013 № 29950). Клиники ВУЗов и НИИ также заполняют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сельской местностью  понимаются сельские поселения, расположенные в сельских муниципальных образованиях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чень (Реестр административно-территориальных единиц субъекта Российской Федерации) таких сельских населенных пунктов на территории субъекта Российской Федерации определяется и утверждается высшим исполнительным органом государственной власти субъекта Российской Федерации. Указанный Реестр можно найти на официальных сайтах органов исполнительной власти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сельскими жителями следует понимать контингенты населения, постоянно проживающие в сельских населенных пунктах или сельских поселениях, расположенных в сельских муниципальных образованиях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bject 8"/>
          <p:cNvSpPr/>
          <p:nvPr/>
        </p:nvSpPr>
        <p:spPr>
          <a:xfrm>
            <a:off x="457200" y="4572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8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ДОСТАТКИ ОРГАНИЗАЦИИ АКТИВНЫХ ПОСЕ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bject 21"/>
          <p:cNvSpPr/>
          <p:nvPr/>
        </p:nvSpPr>
        <p:spPr>
          <a:xfrm>
            <a:off x="304920" y="1371600"/>
            <a:ext cx="8610480" cy="5105520"/>
          </a:xfrm>
          <a:custGeom>
            <a:avLst/>
            <a:gdLst>
              <a:gd name="textAreaLeft" fmla="*/ 0 w 8610480"/>
              <a:gd name="textAreaRight" fmla="*/ 8610840 w 861048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4175125" h="1327150">
                <a:moveTo>
                  <a:pt x="0" y="221106"/>
                </a:moveTo>
                <a:lnTo>
                  <a:pt x="6422" y="167952"/>
                </a:lnTo>
                <a:lnTo>
                  <a:pt x="24668" y="119469"/>
                </a:lnTo>
                <a:lnTo>
                  <a:pt x="53204" y="77188"/>
                </a:lnTo>
                <a:lnTo>
                  <a:pt x="90498" y="42643"/>
                </a:lnTo>
                <a:lnTo>
                  <a:pt x="135016" y="17367"/>
                </a:lnTo>
                <a:lnTo>
                  <a:pt x="185227" y="2892"/>
                </a:lnTo>
                <a:lnTo>
                  <a:pt x="221107" y="0"/>
                </a:lnTo>
                <a:lnTo>
                  <a:pt x="3953891" y="0"/>
                </a:lnTo>
                <a:lnTo>
                  <a:pt x="3972034" y="732"/>
                </a:lnTo>
                <a:lnTo>
                  <a:pt x="3989773" y="2892"/>
                </a:lnTo>
                <a:lnTo>
                  <a:pt x="4040000" y="17367"/>
                </a:lnTo>
                <a:lnTo>
                  <a:pt x="4084544" y="42643"/>
                </a:lnTo>
                <a:lnTo>
                  <a:pt x="4121866" y="77188"/>
                </a:lnTo>
                <a:lnTo>
                  <a:pt x="4150429" y="119469"/>
                </a:lnTo>
                <a:lnTo>
                  <a:pt x="4168694" y="167952"/>
                </a:lnTo>
                <a:lnTo>
                  <a:pt x="4175125" y="221106"/>
                </a:lnTo>
                <a:lnTo>
                  <a:pt x="4175125" y="1105916"/>
                </a:lnTo>
                <a:lnTo>
                  <a:pt x="4174391" y="1124058"/>
                </a:lnTo>
                <a:lnTo>
                  <a:pt x="4172229" y="1141795"/>
                </a:lnTo>
                <a:lnTo>
                  <a:pt x="4157737" y="1192006"/>
                </a:lnTo>
                <a:lnTo>
                  <a:pt x="4132436" y="1236524"/>
                </a:lnTo>
                <a:lnTo>
                  <a:pt x="4097863" y="1273818"/>
                </a:lnTo>
                <a:lnTo>
                  <a:pt x="4055556" y="1302354"/>
                </a:lnTo>
                <a:lnTo>
                  <a:pt x="4007052" y="1320600"/>
                </a:lnTo>
                <a:lnTo>
                  <a:pt x="3953891" y="1327023"/>
                </a:lnTo>
                <a:lnTo>
                  <a:pt x="221107" y="1327023"/>
                </a:lnTo>
                <a:lnTo>
                  <a:pt x="202964" y="1326290"/>
                </a:lnTo>
                <a:lnTo>
                  <a:pt x="185227" y="1324130"/>
                </a:lnTo>
                <a:lnTo>
                  <a:pt x="135016" y="1309655"/>
                </a:lnTo>
                <a:lnTo>
                  <a:pt x="90498" y="1284379"/>
                </a:lnTo>
                <a:lnTo>
                  <a:pt x="53204" y="1249834"/>
                </a:lnTo>
                <a:lnTo>
                  <a:pt x="24668" y="1207553"/>
                </a:lnTo>
                <a:lnTo>
                  <a:pt x="6422" y="1159070"/>
                </a:lnTo>
                <a:lnTo>
                  <a:pt x="0" y="1105916"/>
                </a:lnTo>
                <a:lnTo>
                  <a:pt x="0" y="221106"/>
                </a:lnTo>
                <a:close/>
              </a:path>
            </a:pathLst>
          </a:custGeom>
          <a:noFill/>
          <a:ln w="38160">
            <a:solidFill>
              <a:srgbClr val="001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bject 18"/>
          <p:cNvSpPr/>
          <p:nvPr/>
        </p:nvSpPr>
        <p:spPr>
          <a:xfrm>
            <a:off x="609480" y="1523880"/>
            <a:ext cx="80010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е отчетов поликлиник об активных посещениях не учитываются в форме № 031/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ых посещений, зафиксированных в учетной форме № 031/у, не подтверждены записями в картах пациента, получающего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авильное заполнение учетной формы № 031/у. Самой частой ошибкой является отсутствие записей об отнесении вызова к первичному, повторному или активному пос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й контроль оказания медицинской помощи на дому, включая активные посещения, в поликлиниках проводится формаль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fc0"/>
                </a:solidFill>
                <a:latin typeface="Wingdings 3"/>
                <a:ea typeface="Wingdings 3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елы знаний по вопросам организации активных посещ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1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еправильно относят к активным посещениям активные вызовы, любой визит врача на дом, не знают, что для организации активных посещений нужен план активных посещений, не знают,  что учетной формой активных посещений является форма № 031/у, не знают правила заполнения формы № 031/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жемесячный анализ врачами-терапевтами списков лиц, длительно не посещавших М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ответственных из числа руководства поликлиники за выполнением активных посещ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дение инструктажа врачей-терапевтов по вопросам организации активных посещений, включая выбор контингента, нуждающегося в активных посещениях, способствовало бы искоренению данного деф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показателя «процент активных посещений» для оценки эффективности деятельности врача-терапевта положительно сказывается на выполнении активных посещений (не менее 15% от общего числа посещ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ение врачей-специалистов правильности ведения учетной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8"/>
          <p:cNvSpPr/>
          <p:nvPr/>
        </p:nvSpPr>
        <p:spPr>
          <a:xfrm>
            <a:off x="304920" y="457200"/>
            <a:ext cx="822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8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РЫ ПО ИХ УСТРАНЕ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bject 21"/>
          <p:cNvSpPr/>
          <p:nvPr/>
        </p:nvSpPr>
        <p:spPr>
          <a:xfrm>
            <a:off x="228600" y="914400"/>
            <a:ext cx="8610480" cy="5791320"/>
          </a:xfrm>
          <a:custGeom>
            <a:avLst/>
            <a:gdLst>
              <a:gd name="textAreaLeft" fmla="*/ 0 w 8610480"/>
              <a:gd name="textAreaRight" fmla="*/ 8610840 w 861048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4175125" h="1327150">
                <a:moveTo>
                  <a:pt x="0" y="221106"/>
                </a:moveTo>
                <a:lnTo>
                  <a:pt x="6422" y="167952"/>
                </a:lnTo>
                <a:lnTo>
                  <a:pt x="24668" y="119469"/>
                </a:lnTo>
                <a:lnTo>
                  <a:pt x="53204" y="77188"/>
                </a:lnTo>
                <a:lnTo>
                  <a:pt x="90498" y="42643"/>
                </a:lnTo>
                <a:lnTo>
                  <a:pt x="135016" y="17367"/>
                </a:lnTo>
                <a:lnTo>
                  <a:pt x="185227" y="2892"/>
                </a:lnTo>
                <a:lnTo>
                  <a:pt x="221107" y="0"/>
                </a:lnTo>
                <a:lnTo>
                  <a:pt x="3953891" y="0"/>
                </a:lnTo>
                <a:lnTo>
                  <a:pt x="3972034" y="732"/>
                </a:lnTo>
                <a:lnTo>
                  <a:pt x="3989773" y="2892"/>
                </a:lnTo>
                <a:lnTo>
                  <a:pt x="4040000" y="17367"/>
                </a:lnTo>
                <a:lnTo>
                  <a:pt x="4084544" y="42643"/>
                </a:lnTo>
                <a:lnTo>
                  <a:pt x="4121866" y="77188"/>
                </a:lnTo>
                <a:lnTo>
                  <a:pt x="4150429" y="119469"/>
                </a:lnTo>
                <a:lnTo>
                  <a:pt x="4168694" y="167952"/>
                </a:lnTo>
                <a:lnTo>
                  <a:pt x="4175125" y="221106"/>
                </a:lnTo>
                <a:lnTo>
                  <a:pt x="4175125" y="1105916"/>
                </a:lnTo>
                <a:lnTo>
                  <a:pt x="4174391" y="1124058"/>
                </a:lnTo>
                <a:lnTo>
                  <a:pt x="4172229" y="1141795"/>
                </a:lnTo>
                <a:lnTo>
                  <a:pt x="4157737" y="1192006"/>
                </a:lnTo>
                <a:lnTo>
                  <a:pt x="4132436" y="1236524"/>
                </a:lnTo>
                <a:lnTo>
                  <a:pt x="4097863" y="1273818"/>
                </a:lnTo>
                <a:lnTo>
                  <a:pt x="4055556" y="1302354"/>
                </a:lnTo>
                <a:lnTo>
                  <a:pt x="4007052" y="1320600"/>
                </a:lnTo>
                <a:lnTo>
                  <a:pt x="3953891" y="1327023"/>
                </a:lnTo>
                <a:lnTo>
                  <a:pt x="221107" y="1327023"/>
                </a:lnTo>
                <a:lnTo>
                  <a:pt x="202964" y="1326290"/>
                </a:lnTo>
                <a:lnTo>
                  <a:pt x="185227" y="1324130"/>
                </a:lnTo>
                <a:lnTo>
                  <a:pt x="135016" y="1309655"/>
                </a:lnTo>
                <a:lnTo>
                  <a:pt x="90498" y="1284379"/>
                </a:lnTo>
                <a:lnTo>
                  <a:pt x="53204" y="1249834"/>
                </a:lnTo>
                <a:lnTo>
                  <a:pt x="24668" y="1207553"/>
                </a:lnTo>
                <a:lnTo>
                  <a:pt x="6422" y="1159070"/>
                </a:lnTo>
                <a:lnTo>
                  <a:pt x="0" y="1105916"/>
                </a:lnTo>
                <a:lnTo>
                  <a:pt x="0" y="221106"/>
                </a:lnTo>
                <a:close/>
              </a:path>
            </a:pathLst>
          </a:custGeom>
          <a:noFill/>
          <a:ln w="38160">
            <a:solidFill>
              <a:srgbClr val="001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1066680"/>
          <a:ext cx="8381880" cy="140184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174"/>
          <p:cNvSpPr/>
          <p:nvPr/>
        </p:nvSpPr>
        <p:spPr>
          <a:xfrm>
            <a:off x="228600" y="274320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зависимости от цели обращения подразделяются 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бращения по поводу заболеваний, травм, отравлений и некоторых друг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следствий воздействия внешних причин (коды A00 - T98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бращения с профилактической целью (коды Z00 - Z99 МКБ-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bject 36"/>
          <p:cNvSpPr/>
          <p:nvPr/>
        </p:nvSpPr>
        <p:spPr>
          <a:xfrm>
            <a:off x="685800" y="5410080"/>
            <a:ext cx="22575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ично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ещение  </a:t>
            </a:r>
            <a:r>
              <a:rPr b="0" lang="ru-RU" sz="2100" spc="-1" strike="noStrike" baseline="32000">
                <a:solidFill>
                  <a:srgbClr val="000000"/>
                </a:solidFill>
                <a:latin typeface="Arial"/>
              </a:rPr>
              <a:t>+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Овал 6"/>
          <p:cNvSpPr/>
          <p:nvPr/>
        </p:nvSpPr>
        <p:spPr>
          <a:xfrm>
            <a:off x="228600" y="5105520"/>
            <a:ext cx="8381880" cy="114300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9"/>
          <p:cNvSpPr/>
          <p:nvPr/>
        </p:nvSpPr>
        <p:spPr>
          <a:xfrm>
            <a:off x="457200" y="457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4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2280" y="914400"/>
          <a:ext cx="8763120" cy="4145040"/>
        </p:xfrm>
        <a:graphic>
          <a:graphicData uri="http://schemas.openxmlformats.org/drawingml/2006/table">
            <a:tbl>
              <a:tblPr/>
              <a:tblGrid>
                <a:gridCol w="3267360"/>
                <a:gridCol w="615960"/>
                <a:gridCol w="615600"/>
                <a:gridCol w="792360"/>
                <a:gridCol w="833400"/>
                <a:gridCol w="879480"/>
                <a:gridCol w="879480"/>
                <a:gridCol w="879480"/>
              </a:tblGrid>
              <a:tr h="213480">
                <a:tc row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3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о-медицинск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и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ас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7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ас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умершие на дому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де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 marL="158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возрасте до 1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способного возраста*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*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умерших на дому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 трудоспособного возраста*         умерли от: острых цереброваскулярных           заболеваний (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6440" rIns="4644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ого инфаркта миокард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I2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2"/>
          <p:cNvSpPr/>
          <p:nvPr/>
        </p:nvSpPr>
        <p:spPr>
          <a:xfrm>
            <a:off x="152280" y="5180040"/>
            <a:ext cx="43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мужчины от 18 до 59 лет включительно,  женщины от 18 до 54 лет включи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мужчины 60 лет и старше,  женщины 55 лет и старш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419720" y="3343680"/>
            <a:ext cx="4572000" cy="277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заполнения строк 6 и 7 по графе 3 используют «Медицинские свидетельства о смерти» (учетная форма № 106/у-08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трые нарушения мозгового кровообращения (код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0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4) и инфаркты миокарда (код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1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) включают в таблицу 2402 только, если они выбраны в качестве первоначальной причины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ая организация отчитывается только по свидетельствам о смерти, выданным данной медицинской организаци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9"/>
          <p:cNvSpPr/>
          <p:nvPr/>
        </p:nvSpPr>
        <p:spPr>
          <a:xfrm>
            <a:off x="457200" y="3808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510. Профилактические осмотры и диспансеризация, проведенные медицинской организац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1066680"/>
          <a:ext cx="8839440" cy="4152960"/>
        </p:xfrm>
        <a:graphic>
          <a:graphicData uri="http://schemas.openxmlformats.org/drawingml/2006/table">
            <a:tbl>
              <a:tblPr/>
              <a:tblGrid>
                <a:gridCol w="2568600"/>
                <a:gridCol w="447840"/>
                <a:gridCol w="717480"/>
                <a:gridCol w="685800"/>
                <a:gridCol w="838080"/>
                <a:gridCol w="762120"/>
                <a:gridCol w="304920"/>
                <a:gridCol w="304560"/>
                <a:gridCol w="381240"/>
                <a:gridCol w="533160"/>
                <a:gridCol w="457200"/>
                <a:gridCol w="492120"/>
                <a:gridCol w="34632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лежало осмотр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(гр. 5): определены группы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в возрасте 0-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в возрасте 15-17 лет включитель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детей 15-17 лет (стр.3) - юнош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 взрослого населения (18 лет и старше)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испансеризация определен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 (сумма строк 1, 3,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"/>
          <p:cNvSpPr/>
          <p:nvPr/>
        </p:nvSpPr>
        <p:spPr>
          <a:xfrm>
            <a:off x="152280" y="5332320"/>
            <a:ext cx="868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едения о подлежащих и осмотренных при профосмотрах включают по категориям: дети 0-14 лет включительно (из них: до 1 года), дети 15-17 лет включительно и взрослое население (18 лет и старше), осмотренное в порядке периодических (приказ Минздравсоцразвития России от 12 апреля 2011 г. № 302н, зарегистрирован в Министерстве юстиции Российской Федерации 21.10.2011 № 22111) и других медицинских осмотр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9"/>
          <p:cNvSpPr/>
          <p:nvPr/>
        </p:nvSpPr>
        <p:spPr>
          <a:xfrm>
            <a:off x="457200" y="3808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510. Профилактические осмотры и диспансеризация, проведенные медицинской организац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80880" y="16621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блицу заполняют только те медицинские организации, которые организуют осмотр соответствующих контингентов и отвечают за его проведение, и не заполняют специализированные (кожно-венерологические, противотуберкулезные и др.) организации, которые могут принимать участие в этой раб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В число подлежащих осмотру и осмотренных включают физических лиц только один раз в году, независимо от того, сколько раз в году они подлежали осмотру и были осмотрен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овые цифры подлежащих осмотрам по категориям утверждаются приказом руководителя медицинской организации и корректируются на конец отчетного пери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Число осмотренных должно равняться числу подлежащих осмотру или быть меньше этого чис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5"/>
          <p:cNvSpPr/>
          <p:nvPr/>
        </p:nvSpPr>
        <p:spPr>
          <a:xfrm>
            <a:off x="685800" y="609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6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295280"/>
          <a:ext cx="7924680" cy="1584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тей, достигших в отчетном году 1 года, всего  1_______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ходились на грудном вскармливан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 до 6 месяцев   2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 месяцев до 1 года  3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2"/>
          <p:cNvSpPr/>
          <p:nvPr/>
        </p:nvSpPr>
        <p:spPr>
          <a:xfrm>
            <a:off x="228600" y="3281040"/>
            <a:ext cx="8534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итываются дети, прикрепленные к текущей медицинской организации на конец отчетного пери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пункте 2 «от 3 до 6 месяцев» указывается численность только тех детей, которые находились на грудном вскармливании от 3 до 6 месяцев. Дети в возрасте 6 месяцев в таблицу не включаю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пункте 3 «от 6 месяцев до 1 года» указывается численность детей, которые находились на грудном вскармливании от 6 месяцев до 1 год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Если ребенок в возрасте до 1 года находился на грудном вскармливании от 7, 8, 9 месяцев, то в пункт 2 он попадать не должен, он должен учитываться в пункте 3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бота стоматологического каби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353"/>
          <p:cNvSpPr/>
          <p:nvPr/>
        </p:nvSpPr>
        <p:spPr>
          <a:xfrm>
            <a:off x="228600" y="601992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55"/>
          <p:cNvSpPr/>
          <p:nvPr/>
        </p:nvSpPr>
        <p:spPr>
          <a:xfrm>
            <a:off x="4572000" y="2971800"/>
            <a:ext cx="4267080" cy="236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они состоят в штате медицинской орган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59"/>
          <p:cNvSpPr/>
          <p:nvPr/>
        </p:nvSpPr>
        <p:spPr>
          <a:xfrm>
            <a:off x="7368120" y="6858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60"/>
          <p:cNvSpPr/>
          <p:nvPr/>
        </p:nvSpPr>
        <p:spPr>
          <a:xfrm>
            <a:off x="4572000" y="5410080"/>
            <a:ext cx="44197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0 (продолжение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40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1520"/>
          <p:cNvSpPr/>
          <p:nvPr/>
        </p:nvSpPr>
        <p:spPr>
          <a:xfrm>
            <a:off x="1676520" y="3124080"/>
            <a:ext cx="723888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абсолютных единиц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21"/>
          <p:cNvSpPr/>
          <p:nvPr/>
        </p:nvSpPr>
        <p:spPr>
          <a:xfrm>
            <a:off x="1676520" y="4876920"/>
            <a:ext cx="72388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24"/>
          <p:cNvSpPr/>
          <p:nvPr/>
        </p:nvSpPr>
        <p:spPr>
          <a:xfrm>
            <a:off x="1676520" y="5638680"/>
            <a:ext cx="72388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1 Из числа получивших зубные прот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914400"/>
          <a:ext cx="8534160" cy="1676520"/>
        </p:xfrm>
        <a:graphic>
          <a:graphicData uri="http://schemas.openxmlformats.org/drawingml/2006/table">
            <a:tbl>
              <a:tblPr/>
              <a:tblGrid>
                <a:gridCol w="5756040"/>
                <a:gridCol w="1530360"/>
                <a:gridCol w="12477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зубные протезы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о проте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10"/>
          <p:cNvSpPr/>
          <p:nvPr/>
        </p:nvSpPr>
        <p:spPr>
          <a:xfrm>
            <a:off x="228600" y="2819520"/>
            <a:ext cx="861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2   Из числа лиц, получивших ортодонтическ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3276720"/>
          <a:ext cx="8305920" cy="1692000"/>
        </p:xfrm>
        <a:graphic>
          <a:graphicData uri="http://schemas.openxmlformats.org/drawingml/2006/table">
            <a:tbl>
              <a:tblPr/>
              <a:tblGrid>
                <a:gridCol w="5769000"/>
                <a:gridCol w="1322640"/>
                <a:gridCol w="121428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ортодонтическое лече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до 14 лет (включите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(включите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348"/>
          <p:cNvSpPr/>
          <p:nvPr/>
        </p:nvSpPr>
        <p:spPr>
          <a:xfrm>
            <a:off x="228600" y="53341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Число лиц, получивших профилактическое лечение у гигиениста 1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аблицы раздела включают сведения о работе врачей осуществляющих прием пациентов в амбулаторных условиях и на дому, а также консультативный пр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ем врачей отделений (кабинетов) платных услуг включаются во все таблицы раздела соответственно занимаемым долж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ем среднего медицинского персонала на самостоятельном приеме отделений (кабинетов) платных услуг включаются в таблицы раздела соответственно занимаемым долж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т деятельности специалистов  вспомогательных отделений (кабинетов), лабораторий и других вышеуказанных подразделений соответствует требованиям  Общероссийскому классификатору единиц измерения (ОКЕИ), показывается один раз в соответствующих таблицах и учитывается в «единицах», «человеках», «исследованиях», «процедурах» и т.д. Двойной учет одного вида деятельности в разных таблицах не допус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у единиц измерения (ОКЕИ) утвержден Постановлением Госстандарта России от 26.12.1994 N 366 (ред. от 28.03.201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7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бота врачей-стоматол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2"/>
          <p:cNvSpPr/>
          <p:nvPr/>
        </p:nvSpPr>
        <p:spPr>
          <a:xfrm>
            <a:off x="7368120" y="6858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ещение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ку диагноз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ное  леч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щение – это повод визита пациента в поликлинику. Цель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щение может состоять из одного или нескольких посещений пациента, в результате которых цель обращения достиг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у подлежат следующие посе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 любых  специальностей,  ведущих прием в амбулаторных условиях,  в том числе  консультативный  прием  (терапевтов,  педиатров,  хирургов, акушеров-гинекологов, урологов и т.д., включая заведующих отделениями) в медицинских организациях и вне медицинских организаций  с ведением медицинской карты пациента, получающего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пунктов (отделений) неотложной медицинской помощи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здравпунктов, цеховых терапевтов, акушеров-гинекологов и других, ведущих прием в амбулаторных условиях на  здравпунктах в часы, специально выделенные для амбулаторного при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  в   специально выделенные  дни для  приема 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при выездах в другие медицинские организации (районные больницы, участковые больницы, амбулатории, фельдшерско-акушерские пунк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психотерапевтов  при  проведении  групповых  занятий  (число посещений учитывается по числу пациентов, занимающихся в групп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стоматологов ,осуществляющих прием в стоматологических кабинетах в больничных организациях (госпитали, диспансеры, психиатрические и психоневрологические больницы, фтизиопульмонологические центры), а также санат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рачей-инфекционистов, проводящих подворные обходы  во  время вспышки  инфекционных  заболеваний,  осмотры  контактных  в  очаге (семье) инфекционного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рофилактические осмотры детей в детских дошкольных учреждениях, школах, профилактические осмотры  населения, включая периодические осмотры рабочих промышленных предприятий, работников других предприятий (учреждений), независимо от того, проведены ли они в стенах подразделения, оказывающего медицинскую помощь в амбулаторных условиях или непосредственно на предприятия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в учреждения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врачам призывных комис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ещения учитываются только при наличии соответствующей записи в медицинской карте пациента, получающего медицинскую помощь в амбулаторных условиях и заполненного талона пациента, получающего медицинскую помощь в амбулаторных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320" y="1066680"/>
          <a:ext cx="8839080" cy="5608800"/>
        </p:xfrm>
        <a:graphic>
          <a:graphicData uri="http://schemas.openxmlformats.org/drawingml/2006/table">
            <a:tbl>
              <a:tblPr/>
              <a:tblGrid>
                <a:gridCol w="1166760"/>
                <a:gridCol w="385560"/>
                <a:gridCol w="712800"/>
                <a:gridCol w="782640"/>
                <a:gridCol w="609840"/>
                <a:gridCol w="533160"/>
                <a:gridCol w="574920"/>
                <a:gridCol w="519120"/>
                <a:gridCol w="658800"/>
                <a:gridCol w="685800"/>
                <a:gridCol w="761760"/>
                <a:gridCol w="685800"/>
                <a:gridCol w="76212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старш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 дет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ортопе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694"/>
          <p:cNvSpPr/>
          <p:nvPr/>
        </p:nvSpPr>
        <p:spPr>
          <a:xfrm>
            <a:off x="1676520" y="3048120"/>
            <a:ext cx="73152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рачей-стоматологов, включая деятельность врачей-стоматологов передвижных установок и кабинетов в образовательных учреждениях, а также в санаторно-курортных организациях и в организациях, оказывающих медицинскую помощь только в стационарных условиях, показывают в таблице 2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ах с 86 по 90 соответственно занятым должностя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697"/>
          <p:cNvSpPr/>
          <p:nvPr/>
        </p:nvSpPr>
        <p:spPr>
          <a:xfrm>
            <a:off x="7368120" y="5335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98"/>
          <p:cNvSpPr/>
          <p:nvPr/>
        </p:nvSpPr>
        <p:spPr>
          <a:xfrm>
            <a:off x="1676520" y="4876920"/>
            <a:ext cx="72388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щения к врачам вспомогательных отделений и кабинетов (физиотерапевтического, лечебной физкультуры, эндоскопии, функциональной диагностики и др.) в таблице 2100 не учитывают. Работу вспомогательных отделений и кабинетов показывают в соответствующих таблицах ф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рач-эпидеми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 врача-эпидемиолога, как амбулаторное посещение (прием) не учит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приказ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Министерства здравоохранения и социального развития РФ от 23 июля 2010 г. N 541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т необходимые санитарно-гигиенические и противоэпидемические мероприятия, используя современные методы анализа санитарно-эпидемиологической ситуации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водит ежедневный анализ регистрации и учета инфекционной заболеваем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нализирует информационные материалы о состоянии инфекционной заболеваемости и проведении в очагах особо опасных инфекционных заболев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оводит оперативный и ретроспективный анализ заболеваемости, контроль за осуществлением комплекса противоэпидемических мероприятий. Проводит экспертизы, расследования, обследования, исследования и иные виды оценок. Принимает участие в расследовании случаев инфекционной заболеваемости с целью установления причинно-следственных связей между состоянием здоровья и средой обитания человека. Проводит анализ выполнения плана профилактических прививок. Осуществляет зоолого-энтомологический мониторинг объектов возможного завоза особо опасных инфек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6324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21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914400"/>
          <a:ext cx="8763120" cy="3932280"/>
        </p:xfrm>
        <a:graphic>
          <a:graphicData uri="http://schemas.openxmlformats.org/drawingml/2006/table">
            <a:tbl>
              <a:tblPr/>
              <a:tblGrid>
                <a:gridCol w="6248520"/>
                <a:gridCol w="878040"/>
                <a:gridCol w="16365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на д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625"/>
          <p:cNvSpPr/>
          <p:nvPr/>
        </p:nvSpPr>
        <p:spPr>
          <a:xfrm>
            <a:off x="152280" y="4952880"/>
            <a:ext cx="8763120" cy="1600200"/>
          </a:xfrm>
          <a:prstGeom prst="rect">
            <a:avLst/>
          </a:prstGeom>
          <a:solidFill>
            <a:srgbClr val="cc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строки 4 выделяется число посещений, выполненных сельскими жител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строки 4 указываются посещения выполненные к взрослому населению, детскому нас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26"/>
          <p:cNvSpPr/>
          <p:nvPr/>
        </p:nvSpPr>
        <p:spPr>
          <a:xfrm>
            <a:off x="71395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28"/>
          <p:cNvSpPr/>
          <p:nvPr/>
        </p:nvSpPr>
        <p:spPr>
          <a:xfrm>
            <a:off x="7391520" y="3048120"/>
            <a:ext cx="1523880" cy="1676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ск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селение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это население 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озрасте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 месяцев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v.zolotova</cp:lastModifiedBy>
  <dcterms:modified xsi:type="dcterms:W3CDTF">2017-11-30T14:19:42Z</dcterms:modified>
  <cp:revision>5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