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1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6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cc0000"/>
              </a:solidFill>
              <a:latin typeface="Dinmed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Dinme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cc0000"/>
                </a:solidFill>
                <a:latin typeface="Dinme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Dinmed"/>
              </a:rPr>
              <a:t>&lt;date/time&gt;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Dinme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cc0000"/>
                </a:solidFill>
                <a:latin typeface="Dinme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1FD95-491E-4C94-9D71-7B661D7189F2}" type="slidenum">
              <a:rPr b="1" lang="ru-RU" sz="1200" spc="-1" strike="noStrike">
                <a:solidFill>
                  <a:srgbClr val="cc0000"/>
                </a:solidFill>
                <a:latin typeface="Dinmed"/>
              </a:rPr>
              <a:t>&lt;number&gt;</a:t>
            </a:fld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E5D45-562A-4440-B021-FEB056926CE7}" type="slidenum">
              <a:rPr b="1" lang="ru-RU" sz="1200" spc="-1" strike="noStrike">
                <a:solidFill>
                  <a:srgbClr val="cc0000"/>
                </a:solidFill>
                <a:latin typeface="Dinmed"/>
                <a:ea typeface="굴림"/>
              </a:rPr>
              <a:t>&lt;number&gt;</a:t>
            </a:fld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5CD33-6B82-4388-B24C-F88BDE260996}" type="slidenum">
              <a:rPr b="1" lang="ru-RU" sz="1200" spc="-1" strike="noStrike">
                <a:solidFill>
                  <a:srgbClr val="cc0000"/>
                </a:solidFill>
                <a:latin typeface="Dinmed"/>
                <a:ea typeface="굴림"/>
              </a:rPr>
              <a:t>&lt;number&gt;</a:t>
            </a:fld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3"/>
          <p:cNvSpPr/>
          <p:nvPr/>
        </p:nvSpPr>
        <p:spPr>
          <a:xfrm>
            <a:off x="0" y="0"/>
            <a:ext cx="324000" cy="6858000"/>
          </a:xfrm>
          <a:prstGeom prst="rect">
            <a:avLst/>
          </a:prstGeom>
          <a:solidFill>
            <a:srgbClr val="6650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Dinmed"/>
            </a:endParaRPr>
          </a:p>
        </p:txBody>
      </p:sp>
      <p:grpSp>
        <p:nvGrpSpPr>
          <p:cNvPr id="1" name="Group 94"/>
          <p:cNvGrpSpPr/>
          <p:nvPr/>
        </p:nvGrpSpPr>
        <p:grpSpPr>
          <a:xfrm>
            <a:off x="6622920" y="0"/>
            <a:ext cx="2521080" cy="451440"/>
            <a:chOff x="6622920" y="0"/>
            <a:chExt cx="2521080" cy="451440"/>
          </a:xfrm>
        </p:grpSpPr>
        <p:sp>
          <p:nvSpPr>
            <p:cNvPr id="2" name="Text Box 95"/>
            <p:cNvSpPr/>
            <p:nvPr/>
          </p:nvSpPr>
          <p:spPr>
            <a:xfrm>
              <a:off x="6622920" y="0"/>
              <a:ext cx="2232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Black"/>
                </a:rPr>
                <a:t>POWER POINT TEMPLATE</a:t>
              </a:r>
              <a:endParaRPr b="1" lang="en-US" sz="1100" spc="-1" strike="noStrike">
                <a:solidFill>
                  <a:srgbClr val="cc0000"/>
                </a:solidFill>
                <a:latin typeface="Dinmed"/>
              </a:endParaRPr>
            </a:p>
          </p:txBody>
        </p:sp>
        <p:sp>
          <p:nvSpPr>
            <p:cNvPr id="3" name="Rectangle 96"/>
            <p:cNvSpPr/>
            <p:nvPr/>
          </p:nvSpPr>
          <p:spPr>
            <a:xfrm>
              <a:off x="6622920" y="144360"/>
              <a:ext cx="252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돋움"/>
                  <a:ea typeface="돋움"/>
                </a:rPr>
                <a:t>Company's new low-cost and easy-to-use Web-site </a:t>
              </a:r>
              <a:endParaRPr b="1" lang="en-US" sz="700" spc="-1" strike="noStrike">
                <a:solidFill>
                  <a:srgbClr val="cc0000"/>
                </a:solidFill>
                <a:latin typeface="Dinme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돋움"/>
                  <a:ea typeface="돋움"/>
                </a:rPr>
                <a:t>design tool will help entrepreneurs spiff up their online.</a:t>
              </a:r>
              <a:endParaRPr b="1" lang="en-US" sz="700" spc="-1" strike="noStrike">
                <a:solidFill>
                  <a:srgbClr val="cc0000"/>
                </a:solidFill>
                <a:latin typeface="Dinmed"/>
              </a:endParaRPr>
            </a:p>
          </p:txBody>
        </p:sp>
      </p:grpSp>
      <p:sp>
        <p:nvSpPr>
          <p:cNvPr id="4" name="Rectangle 9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Dinmed"/>
            </a:endParaRPr>
          </a:p>
        </p:txBody>
      </p:sp>
      <p:sp>
        <p:nvSpPr>
          <p:cNvPr id="5" name="Rectangle 100"/>
          <p:cNvSpPr/>
          <p:nvPr/>
        </p:nvSpPr>
        <p:spPr>
          <a:xfrm>
            <a:off x="0" y="333360"/>
            <a:ext cx="9144000" cy="954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8d8d8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hyperlink" Target="http://mkb-10.com/index.php?pid=4003" TargetMode="External"/><Relationship Id="rId2" Type="http://schemas.openxmlformats.org/officeDocument/2006/relationships/hyperlink" Target="http://mkb-10.com/index.php?pid=4015" TargetMode="External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hyperlink" Target="http://10mkb.ru/articles.php-path=base-block16-block1-block1.htm" TargetMode="External"/><Relationship Id="rId2" Type="http://schemas.openxmlformats.org/officeDocument/2006/relationships/hyperlink" Target="http://10mkb.ru/articles.php-path=base-block16-block1-block2.htm" TargetMode="External"/><Relationship Id="rId3" Type="http://schemas.openxmlformats.org/officeDocument/2006/relationships/hyperlink" Target="http://10mkb.ru/articles.php-path=base-block16-block1-block3.htm" TargetMode="External"/><Relationship Id="rId4" Type="http://schemas.openxmlformats.org/officeDocument/2006/relationships/hyperlink" Target="http://10mkb.ru/articles.php-path=base-block16-block1-block4.htm" TargetMode="External"/><Relationship Id="rId5" Type="http://schemas.openxmlformats.org/officeDocument/2006/relationships/hyperlink" Target="http://10mkb.ru/articles.php-path=base-block16-block1-block5.htm" TargetMode="External"/><Relationship Id="rId6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83920"/>
            <a:ext cx="777240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рий Иванович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Оськов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580500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 ноября 2017 года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Москв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Прямоугольник 5"/>
          <p:cNvSpPr/>
          <p:nvPr/>
        </p:nvSpPr>
        <p:spPr>
          <a:xfrm>
            <a:off x="611280" y="1052640"/>
            <a:ext cx="8208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Dinm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ВЕДЕНИЯ О </a:t>
            </a:r>
            <a:endParaRPr b="1" lang="en-US" sz="4000" spc="-1" strike="noStrike">
              <a:solidFill>
                <a:srgbClr val="cc0000"/>
              </a:solidFill>
              <a:latin typeface="Dinm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ЗАБОЛЕВАЕМОСТИ</a:t>
            </a:r>
            <a:br>
              <a:rPr sz="4000"/>
            </a:br>
            <a:endParaRPr b="1" lang="en-US" sz="4000" spc="-1" strike="noStrike">
              <a:solidFill>
                <a:srgbClr val="cc0000"/>
              </a:solidFill>
              <a:latin typeface="Dinmed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838080" y="304920"/>
            <a:ext cx="727560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Dinmed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679320" y="1143000"/>
            <a:ext cx="777096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Dinmed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831960" y="1752480"/>
            <a:ext cx="7770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орма 12 собирается в двух разрезах:</a:t>
            </a:r>
            <a:endParaRPr b="1" lang="en-US" sz="3200" spc="-1" strike="noStrike">
              <a:solidFill>
                <a:srgbClr val="cc0000"/>
              </a:solidFill>
              <a:latin typeface="Dinmed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Dinme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 – заболеваемость всего населения субъекта РФ;</a:t>
            </a:r>
            <a:endParaRPr b="1" lang="en-US" sz="3200" spc="-1" strike="noStrike">
              <a:solidFill>
                <a:srgbClr val="cc0000"/>
              </a:solidFill>
              <a:latin typeface="Dinme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Dinme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 – заболеваемость сельского населения субъекта РФ</a:t>
            </a:r>
            <a:endParaRPr b="1" lang="en-US" sz="3200" spc="-1" strike="noStrike">
              <a:solidFill>
                <a:srgbClr val="cc0000"/>
              </a:solidFill>
              <a:latin typeface="Dinmed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 flipV="1">
            <a:off x="6378480" y="3610800"/>
            <a:ext cx="982800" cy="320760"/>
          </a:xfrm>
          <a:prstGeom prst="rect">
            <a:avLst/>
          </a:prstGeom>
          <a:solidFill>
            <a:srgbClr val="f2f2f2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Dinmed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905120" y="549360"/>
          <a:ext cx="5333760" cy="287280"/>
        </p:xfrm>
        <a:graphic>
          <a:graphicData uri="http://schemas.openxmlformats.org/drawingml/2006/table">
            <a:tbl>
              <a:tblPr/>
              <a:tblGrid>
                <a:gridCol w="5333760"/>
              </a:tblGrid>
              <a:tr h="287280">
                <a:tc>
                  <a:txBody>
                    <a:bodyPr lIns="33840" rIns="33840" tIns="0" bIns="0" anchor="t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ЕРАЛЬНОЕ СТАТИСТИЧЕСКОЕ НАБЛЮДЕНИЕ</a:t>
                      </a:r>
                      <a:endParaRPr b="1" lang="en-US" sz="10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33840" marR="338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1905120" y="907920"/>
          <a:ext cx="5333760" cy="287640"/>
        </p:xfrm>
        <a:graphic>
          <a:graphicData uri="http://schemas.openxmlformats.org/drawingml/2006/table">
            <a:tbl>
              <a:tblPr/>
              <a:tblGrid>
                <a:gridCol w="5333760"/>
              </a:tblGrid>
              <a:tr h="287640">
                <a:tc>
                  <a:txBody>
                    <a:bodyPr lIns="33840" rIns="33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ФИДЕНЦИАЛЬНОСТЬ ГАРАНТИРУЕТСЯ ПОЛУЧАТЕЛЕМ ИНФОРМАЦИИ</a:t>
                      </a:r>
                      <a:endParaRPr b="1" lang="en-US" sz="10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33840" marR="338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1703520" y="1055520"/>
          <a:ext cx="5738760" cy="1006560"/>
        </p:xfrm>
        <a:graphic>
          <a:graphicData uri="http://schemas.openxmlformats.org/drawingml/2006/table">
            <a:tbl>
              <a:tblPr/>
              <a:tblGrid>
                <a:gridCol w="5738760"/>
              </a:tblGrid>
              <a:tr h="1006560">
                <a:tc>
                  <a:txBody>
                    <a:bodyPr lIns="51120" rIns="51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ушение порядка представления статистической информации, а равно представление недостоверной статистической информации влечет ответственность, установленную статьей 13.19 Кодекса Российской Федерации об административных правонарушениях 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30.12.2001 № 195-ФЗ, а также статьей 3 Закона Российской Федерации от 13.05.1992 № 2761-1 “Об ответственности за нарушение порядка представления государственной статистической отчетности”</a:t>
                      </a:r>
                      <a:endParaRPr b="1" lang="en-US" sz="11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51120" marR="511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83" name="Rectangle 1"/>
          <p:cNvSpPr/>
          <p:nvPr/>
        </p:nvSpPr>
        <p:spPr>
          <a:xfrm>
            <a:off x="0" y="-33480"/>
            <a:ext cx="18432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Dinmed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905120" y="2060640"/>
          <a:ext cx="5333760" cy="287280"/>
        </p:xfrm>
        <a:graphic>
          <a:graphicData uri="http://schemas.openxmlformats.org/drawingml/2006/table">
            <a:tbl>
              <a:tblPr/>
              <a:tblGrid>
                <a:gridCol w="5333760"/>
              </a:tblGrid>
              <a:tr h="287280">
                <a:tc>
                  <a:txBody>
                    <a:bodyPr lIns="33840" rIns="33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О ПРЕДОСТАВЛЕНИЕ В ЭЛЕКТРОННОМ ВИДЕ</a:t>
                      </a:r>
                      <a:endParaRPr b="1" lang="en-US" sz="10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33840" marR="338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1523880" y="2349360"/>
          <a:ext cx="6096240" cy="576360"/>
        </p:xfrm>
        <a:graphic>
          <a:graphicData uri="http://schemas.openxmlformats.org/drawingml/2006/table">
            <a:tbl>
              <a:tblPr/>
              <a:tblGrid>
                <a:gridCol w="1146240"/>
                <a:gridCol w="3981600"/>
                <a:gridCol w="968400"/>
              </a:tblGrid>
              <a:tr h="576360">
                <a:tc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30240" marR="3024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ЕДЕНИЯ О ЧИСЛЕ ЗАБОЛЕВАНИЙ, ЗАРЕГИСТРИРОВАННЫХ У ПАЦИЕНТОВ, ПРОЖИВАЮЩИХ В РАЙОНЕ ОБСЛУЖИВАНИЯ МЕДИЦИНСКОЙ ОРГАНИЗАЦИИ </a:t>
                      </a:r>
                      <a:br>
                        <a:rPr sz="900"/>
                      </a:b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 20___  г. </a:t>
                      </a:r>
                      <a:endParaRPr b="1" lang="en-US" sz="9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30240" marR="302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30240" marR="3024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1512720" y="2924280"/>
          <a:ext cx="6096240" cy="2354040"/>
        </p:xfrm>
        <a:graphic>
          <a:graphicData uri="http://schemas.openxmlformats.org/drawingml/2006/table">
            <a:tbl>
              <a:tblPr/>
              <a:tblGrid>
                <a:gridCol w="3248640"/>
                <a:gridCol w="1301400"/>
                <a:gridCol w="95040"/>
                <a:gridCol w="1451160"/>
              </a:tblGrid>
              <a:tr h="137520">
                <a:tc>
                  <a:txBody>
                    <a:bodyPr lIns="29520" rIns="29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оставляют:</a:t>
                      </a:r>
                      <a:endParaRPr b="1" lang="en-US" sz="9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и предоставления</a:t>
                      </a:r>
                      <a:endParaRPr b="1" lang="en-US" sz="9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29520" marR="2952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№ 1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9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29520" marR="29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16520">
                <a:tc>
                  <a:txBody>
                    <a:bodyPr lIns="29520" rIns="29520" tIns="0" bIns="0" anchor="t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ридические лица - медицинские организации, оказывающие медицинскую помощь в амбулаторных условиях и медицинские организации, имеющие подразделения, оказывающие медицинскую помощь в амбулаторных условиях:</a:t>
                      </a:r>
                      <a:endParaRPr b="1" lang="en-US" sz="9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>
                        <a:lnSpc>
                          <a:spcPts val="899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ргану местного самоуправления, осуществляющему полномочия  в сфере охраны здоровья</a:t>
                      </a:r>
                      <a:endParaRPr b="1" lang="en-US" sz="9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>
                        <a:lnSpc>
                          <a:spcPts val="899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ы местного самоуправления, осуществляющие полномочия  в сфере охраны здоровья:</a:t>
                      </a:r>
                      <a:endParaRPr b="1" lang="en-US" sz="9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>
                        <a:lnSpc>
                          <a:spcPts val="899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ргану исполнительной власти субъекта Российской Федерации, осуществляющему  </a:t>
                      </a:r>
                      <a:endParaRPr b="1" lang="en-US" sz="9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>
                        <a:lnSpc>
                          <a:spcPts val="899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номочия  в сфере охраны здоровья </a:t>
                      </a:r>
                      <a:endParaRPr b="1" lang="en-US" sz="9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>
                        <a:lnSpc>
                          <a:spcPts val="899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ы исполнительной власти субъекта Российской Федерации, осуществляющие полномочия в сфере охраны здоровья:</a:t>
                      </a:r>
                      <a:endParaRPr b="1" lang="en-US" sz="9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>
                        <a:lnSpc>
                          <a:spcPts val="899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Министерству здравоохранения Российской Федерации</a:t>
                      </a:r>
                      <a:endParaRPr b="1" lang="en-US" sz="9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территориальному органу Росстата в субъекте Российской Федерации по установленному им адресу</a:t>
                      </a:r>
                      <a:endParaRPr b="1" lang="en-US" sz="9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29520" marR="2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9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января</a:t>
                      </a:r>
                      <a:endParaRPr b="1" lang="en-US" sz="9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20 февраля</a:t>
                      </a:r>
                      <a:endParaRPr b="1" lang="en-US" sz="9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5 марта</a:t>
                      </a:r>
                      <a:endParaRPr b="1" lang="en-US" sz="9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марта</a:t>
                      </a:r>
                      <a:endParaRPr b="1" lang="en-US" sz="9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29520" marR="2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29520" marR="295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каз Росстата: </a:t>
                      </a:r>
                      <a:br>
                        <a:rPr sz="900"/>
                      </a:b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 утверждении формы </a:t>
                      </a:r>
                      <a:br>
                        <a:rPr sz="900"/>
                      </a:b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21.07.2016 № 355</a:t>
                      </a:r>
                      <a:endParaRPr b="1" lang="en-US" sz="9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 внесении изменений (при наличии)</a:t>
                      </a:r>
                      <a:endParaRPr b="1" lang="en-US" sz="9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 __________ № ___</a:t>
                      </a:r>
                      <a:endParaRPr b="1" lang="en-US" sz="9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 __________ № ___</a:t>
                      </a:r>
                      <a:endParaRPr b="1" lang="en-US" sz="9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1" lang="en-US" sz="9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овая</a:t>
                      </a:r>
                      <a:endParaRPr b="1" lang="en-US" sz="9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29520" marR="29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1257480" y="5133960"/>
          <a:ext cx="6549840" cy="1612800"/>
        </p:xfrm>
        <a:graphic>
          <a:graphicData uri="http://schemas.openxmlformats.org/drawingml/2006/table">
            <a:tbl>
              <a:tblPr/>
              <a:tblGrid>
                <a:gridCol w="706320"/>
                <a:gridCol w="1947960"/>
                <a:gridCol w="1947600"/>
                <a:gridCol w="1947960"/>
              </a:tblGrid>
              <a:tr h="203040">
                <a:tc gridSpan="4">
                  <a:txBody>
                    <a:bodyPr lIns="29880" rIns="29880" tIns="0" bIns="0" anchor="t">
                      <a:noAutofit/>
                    </a:bodyPr>
                    <a:p>
                      <a:pPr>
                        <a:lnSpc>
                          <a:spcPts val="799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тчитывающейся организации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______________________________________________________________________________________________</a:t>
                      </a:r>
                      <a:endParaRPr b="1" lang="en-US" sz="9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gridSpan="4">
                  <a:txBody>
                    <a:bodyPr lIns="29880" rIns="29880" tIns="0" bIns="0" anchor="t">
                      <a:noAutofit/>
                    </a:bodyPr>
                    <a:p>
                      <a:pPr>
                        <a:lnSpc>
                          <a:spcPts val="799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чтовый адрес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_________________________________________________________________________________________________________________________</a:t>
                      </a:r>
                      <a:endParaRPr b="1" lang="en-US" sz="9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160"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1" lang="en-US" sz="9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29880" marR="298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1" lang="en-US" sz="9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29880" marR="298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5120"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 </a:t>
                      </a:r>
                      <a:endParaRPr b="1" lang="en-US" sz="9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ОКУД</a:t>
                      </a:r>
                      <a:endParaRPr b="1" lang="en-US" sz="9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читывающейся организации </a:t>
                      </a:r>
                      <a:endParaRPr b="1" lang="en-US" sz="9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ОКПО</a:t>
                      </a:r>
                      <a:endParaRPr b="1" lang="en-US" sz="9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9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9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9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9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29880" marR="29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0934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lang="en-US" sz="9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29880" marR="298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29880" marR="298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29880" marR="298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29880" marR="298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838080" y="304920"/>
            <a:ext cx="727560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Dinmed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679320" y="1143000"/>
            <a:ext cx="777096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Dinmed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831960" y="509760"/>
            <a:ext cx="7770600" cy="589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Dinmed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я формируется по 6 разделам</a:t>
            </a:r>
            <a:endParaRPr b="1" lang="en-US" sz="2400" spc="-1" strike="noStrike">
              <a:solidFill>
                <a:srgbClr val="cc0000"/>
              </a:solidFill>
              <a:latin typeface="Dinmed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Dinmed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(0-14 лет включительно) - 1000, 1001, 1002, 1100;</a:t>
            </a:r>
            <a:endParaRPr b="1" lang="en-US" sz="2400" spc="-1" strike="noStrike">
              <a:solidFill>
                <a:srgbClr val="cc0000"/>
              </a:solidFill>
              <a:latin typeface="Dinmed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первого года жизни - 1500, 1600, 1650, 1700, 1800, 1900;</a:t>
            </a:r>
            <a:endParaRPr b="1" lang="en-US" sz="2400" spc="-1" strike="noStrike">
              <a:solidFill>
                <a:srgbClr val="cc0000"/>
              </a:solidFill>
              <a:latin typeface="Dinmed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(15-17 лет включительно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2000, 2001, 2100;</a:t>
            </a:r>
            <a:endParaRPr b="1" lang="en-US" sz="2400" spc="-1" strike="noStrike">
              <a:solidFill>
                <a:srgbClr val="cc0000"/>
              </a:solidFill>
              <a:latin typeface="Dinmed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е 18 лет и более - 3000, 3002, 3100;</a:t>
            </a:r>
            <a:endParaRPr b="1" lang="en-US" sz="2400" spc="-1" strike="noStrike">
              <a:solidFill>
                <a:srgbClr val="cc0000"/>
              </a:solidFill>
              <a:latin typeface="Dinmed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е  старше  трудоспособного  возраста  </a:t>
            </a:r>
            <a:endParaRPr b="1" lang="en-US" sz="2400" spc="-1" strike="noStrike">
              <a:solidFill>
                <a:srgbClr val="cc0000"/>
              </a:solidFill>
              <a:latin typeface="Dinmed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  55 лет  у женщин и 60 лет у мужчин) - 4000, 4001, 4100;</a:t>
            </a:r>
            <a:endParaRPr b="1" lang="en-US" sz="2400" spc="-1" strike="noStrike">
              <a:solidFill>
                <a:srgbClr val="cc0000"/>
              </a:solidFill>
              <a:latin typeface="Dinmed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ансеризация студентов высших учебных заведений - 5000, 5100.</a:t>
            </a:r>
            <a:endParaRPr b="1" lang="en-US" sz="2400" spc="-1" strike="noStrike">
              <a:solidFill>
                <a:srgbClr val="cc0000"/>
              </a:solidFill>
              <a:latin typeface="Dinmed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Dinmed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25560"/>
            <a:ext cx="822960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23640" y="1558440"/>
            <a:ext cx="856908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46656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ы - 1000, 1001, 1002, 1100, 1700,   1800, 1900, 2000, 2001, 2100, 3000, 3002,3100, 4000, 4001, 4100, 5000, 5100 собираются         сведения о пациентах с 01 января по 31          декабря 2017 года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46656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ы 1500, 1600, 1650 собираются     сведения о пациентах, которые родились с 01 января по 31 декабря 2016 года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4665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434880" y="1447920"/>
          <a:ext cx="8344080" cy="4733640"/>
        </p:xfrm>
        <a:graphic>
          <a:graphicData uri="http://schemas.openxmlformats.org/drawingml/2006/table">
            <a:tbl>
              <a:tblPr/>
              <a:tblGrid>
                <a:gridCol w="2251080"/>
                <a:gridCol w="550800"/>
                <a:gridCol w="709920"/>
                <a:gridCol w="471240"/>
                <a:gridCol w="473040"/>
                <a:gridCol w="551160"/>
                <a:gridCol w="550800"/>
                <a:gridCol w="550800"/>
                <a:gridCol w="550800"/>
                <a:gridCol w="541440"/>
                <a:gridCol w="512640"/>
                <a:gridCol w="630360"/>
              </a:tblGrid>
              <a:tr h="250560">
                <a:tc rowSpan="3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классов и отдельных болезней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МКБ-10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смотра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егистрировано заболеваний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нято с диспан-серного наблю-дения 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оит под диспан-серным наблюде-нием на конец отчетного года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гр. 4):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гр. 4):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заболеваний с впервые в жизни установленным диагнозом (из гр. 9):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11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воз-расте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4 года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воз-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те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-9 лет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пансер-ное наблю-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впервые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жизни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-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нным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-зом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пансер-ное наблю-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явле-но при проф-осмотре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720"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240">
                <a:tc>
                  <a:txBody>
                    <a:bodyPr lIns="44640" rIns="44640" tIns="0" bIns="0" anchor="ctr">
                      <a:noAutofit/>
                    </a:bodyPr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егистрировано заболеваний – всего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00-Т98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520">
                <a:tc>
                  <a:txBody>
                    <a:bodyPr lIns="44640" rIns="44640" tIns="0" bIns="0" anchor="ctr">
                      <a:noAutofit/>
                    </a:bodyPr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Rectangle 1"/>
          <p:cNvSpPr/>
          <p:nvPr/>
        </p:nvSpPr>
        <p:spPr>
          <a:xfrm flipV="1" rot="10800000">
            <a:off x="0" y="567000"/>
            <a:ext cx="9144000" cy="9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(0-14 лет включительно)</a:t>
            </a:r>
            <a:endParaRPr b="1" lang="en-US" sz="1600" spc="-1" strike="noStrike">
              <a:solidFill>
                <a:srgbClr val="cc0000"/>
              </a:solidFill>
              <a:latin typeface="Dinmed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0000"/>
              </a:solidFill>
              <a:latin typeface="Dinme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000) </a:t>
            </a:r>
            <a:r>
              <a:rPr b="1" lang="ru-RU" sz="1200" spc="-1" strike="noStrike">
                <a:solidFill>
                  <a:srgbClr val="000000"/>
                </a:solidFill>
                <a:latin typeface="Dinmed"/>
                <a:ea typeface="Times New Roman"/>
              </a:rPr>
              <a:t>  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  <a:p>
            <a:pPr marL="343080" indent="-343080" algn="ctr"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c0000"/>
                </a:solidFill>
                <a:latin typeface="Dinmed"/>
                <a:ea typeface="Times New Roman"/>
              </a:rPr>
              <a:t>                                                                                 </a:t>
            </a:r>
            <a:endParaRPr b="1" lang="en-US" sz="1000" spc="-1" strike="noStrike">
              <a:solidFill>
                <a:srgbClr val="cc0000"/>
              </a:solidFill>
              <a:latin typeface="Dinmed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853920" y="3070080"/>
          <a:ext cx="7845480" cy="1219320"/>
        </p:xfrm>
        <a:graphic>
          <a:graphicData uri="http://schemas.openxmlformats.org/drawingml/2006/table">
            <a:tbl>
              <a:tblPr/>
              <a:tblGrid>
                <a:gridCol w="3621240"/>
                <a:gridCol w="4224240"/>
              </a:tblGrid>
              <a:tr h="1219320"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02)</a:t>
                      </a: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оит под диспансерным наблюдением на конец отчетного года (из стр. 1.0 гр. 15) детей  в возрасте:</a:t>
                      </a: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43560" marR="43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4 года   </a:t>
                      </a: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__________,       5-9 лет    2  _________.</a:t>
                      </a: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43560" marR="43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879480" y="1449360"/>
          <a:ext cx="7827840" cy="1650960"/>
        </p:xfrm>
        <a:graphic>
          <a:graphicData uri="http://schemas.openxmlformats.org/drawingml/2006/table">
            <a:tbl>
              <a:tblPr/>
              <a:tblGrid>
                <a:gridCol w="3697200"/>
                <a:gridCol w="4130640"/>
              </a:tblGrid>
              <a:tr h="99072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01)</a:t>
                      </a: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зарегистрированных пациентов – всего  1____________</a:t>
                      </a: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из них с диагнозом, установленным впервые в жизни  2 _______,  </a:t>
                      </a: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60240">
                <a:tc gridSpan="2"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оит под диспансерным наблюдением на конец отчетного года (из гр. 13, стр. 1.0)  3_________.</a:t>
                      </a: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1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503280" y="1268280"/>
          <a:ext cx="8264520" cy="5193000"/>
        </p:xfrm>
        <a:graphic>
          <a:graphicData uri="http://schemas.openxmlformats.org/drawingml/2006/table">
            <a:tbl>
              <a:tblPr/>
              <a:tblGrid>
                <a:gridCol w="2415960"/>
                <a:gridCol w="459000"/>
                <a:gridCol w="614160"/>
                <a:gridCol w="535320"/>
                <a:gridCol w="534960"/>
                <a:gridCol w="595080"/>
                <a:gridCol w="725400"/>
                <a:gridCol w="729000"/>
                <a:gridCol w="566640"/>
                <a:gridCol w="488880"/>
                <a:gridCol w="600120"/>
              </a:tblGrid>
              <a:tr h="182880">
                <a:tc rowSpan="3"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классов и отдельных болезней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МКБ-10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смотра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егистрировано заболеваний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нято с диспан-серного наблю-дения 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оит под диспан-серным наблюде-нием на конец отчетного года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гр. 4):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заболеваний с впервые в жизни установленным диагнозом (из гр. 9):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возрасте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1 мес.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пансер-ное наблю-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впервые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жизни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-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нным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зом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пансерное наблю-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явлено при проф-осмотре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24480" rIns="24480" tIns="0" bIns="0" anchor="ctr">
                      <a:noAutofit/>
                    </a:bodyPr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егистрировано заболеваний – всего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24480" rIns="24480" tIns="0" bIns="0" anchor="ctr">
                      <a:noAutofit/>
                    </a:bodyPr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24480" rIns="24480" tIns="0" bIns="0" anchor="ctr">
                      <a:noAutofit/>
                    </a:bodyPr>
                    <a:p>
                      <a:pPr marL="1792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marL="1792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шечные инфекции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А09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24480" rIns="24480" tIns="0" bIns="0" anchor="ctr">
                      <a:noAutofit/>
                    </a:bodyPr>
                    <a:p>
                      <a:pPr marL="1792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ингококковая инфекция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39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24480" rIns="24480" tIns="0" bIns="0" anchor="ctr">
                      <a:noAutofit/>
                    </a:bodyPr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0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24480" rIns="24480" tIns="0" bIns="0" anchor="ctr">
                      <a:noAutofit/>
                    </a:bodyPr>
                    <a:p>
                      <a:pPr marL="856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51480" rIns="51480" tIns="0" bIns="0" anchor="ctr">
                      <a:noAutofit/>
                    </a:bodyPr>
                    <a:p>
                      <a:pPr marL="856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51480" rIns="51480" tIns="0" bIns="0" anchor="ctr">
                      <a:noAutofit/>
                    </a:bodyPr>
                    <a:p>
                      <a:pPr marL="856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мочеполовой системы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0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00-N99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51480" rIns="51480" tIns="0" bIns="0" anchor="ctr">
                      <a:noAutofit/>
                    </a:bodyPr>
                    <a:p>
                      <a:pPr marL="856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ьные состояния, возникающие в перинатальном периоде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marL="856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0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marL="856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05-P96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Прямоугольник 2"/>
          <p:cNvSpPr/>
          <p:nvPr/>
        </p:nvSpPr>
        <p:spPr>
          <a:xfrm>
            <a:off x="517680" y="549360"/>
            <a:ext cx="823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Дети первого года жизни</a:t>
            </a:r>
            <a:endParaRPr b="1" lang="en-US" sz="1600" spc="-1" strike="noStrike">
              <a:solidFill>
                <a:srgbClr val="cc0000"/>
              </a:solidFill>
              <a:latin typeface="Dinm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500) </a:t>
            </a:r>
            <a:endParaRPr b="1" lang="en-US" sz="1600" spc="-1" strike="noStrike">
              <a:solidFill>
                <a:srgbClr val="cc0000"/>
              </a:solidFill>
              <a:latin typeface="Dinmed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1"/>
          <p:cNvSpPr/>
          <p:nvPr/>
        </p:nvSpPr>
        <p:spPr>
          <a:xfrm>
            <a:off x="1116000" y="2219400"/>
            <a:ext cx="748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анная таблица не сравнивается с  другими  таблицами  формы 12 и </a:t>
            </a:r>
            <a:endParaRPr b="1" lang="en-US" sz="3600" spc="-1" strike="noStrike">
              <a:solidFill>
                <a:srgbClr val="cc0000"/>
              </a:solidFill>
              <a:latin typeface="Dinm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ругими формами годового отчета</a:t>
            </a:r>
            <a:endParaRPr b="1" lang="en-US" sz="3600" spc="-1" strike="noStrike">
              <a:solidFill>
                <a:srgbClr val="cc0000"/>
              </a:solidFill>
              <a:latin typeface="Dinmed"/>
            </a:endParaRPr>
          </a:p>
        </p:txBody>
      </p:sp>
      <p:sp>
        <p:nvSpPr>
          <p:cNvPr id="106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"/>
          <p:cNvSpPr/>
          <p:nvPr/>
        </p:nvSpPr>
        <p:spPr>
          <a:xfrm>
            <a:off x="0" y="170784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Calibri"/>
              </a:rPr>
              <a:t>на начало года по всем строкам 0</a:t>
            </a:r>
            <a:endParaRPr b="1" lang="en-US" sz="3600" spc="-1" strike="noStrike">
              <a:solidFill>
                <a:srgbClr val="cc0000"/>
              </a:solidFill>
              <a:latin typeface="Dinm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Dinm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Calibri"/>
              </a:rPr>
              <a:t>графа 4 = графе 9</a:t>
            </a:r>
            <a:endParaRPr b="1" lang="en-US" sz="3600" spc="-1" strike="noStrike">
              <a:solidFill>
                <a:srgbClr val="cc0000"/>
              </a:solidFill>
              <a:latin typeface="Dinm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Dinm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Calibri"/>
              </a:rPr>
              <a:t>графа 8 = графе 10</a:t>
            </a:r>
            <a:endParaRPr b="1" lang="en-US" sz="3600" spc="-1" strike="noStrike">
              <a:solidFill>
                <a:srgbClr val="cc0000"/>
              </a:solidFill>
              <a:latin typeface="Dinmed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80360" cy="59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br>
              <a:rPr sz="2800"/>
            </a:br>
            <a:br>
              <a:rPr sz="2800"/>
            </a:b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5 таблицы 1500 представляется информация о заболеваниях детей первого месяца жизни из графы 4  (заболевания детей первого года жизни-всего).  </a:t>
            </a:r>
            <a:br>
              <a:rPr sz="2600"/>
            </a:b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В графе 14 представляется информация о выздоро-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вших и умерших. </a:t>
            </a:r>
            <a:br>
              <a:rPr sz="2600"/>
            </a:br>
            <a:r>
              <a:rPr b="1" lang="ru-RU" sz="2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Выехавшие дети в данной графе не учитываются. </a:t>
            </a:r>
            <a:br>
              <a:rPr sz="2600"/>
            </a:b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В графе 15 представляется информация о детях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щих под диспансерном  наблюдением по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оле-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нию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647280"/>
            <a:ext cx="8351640" cy="56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болеваемость – важнейший показатель состояния общественного здоровья, характеризующий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спространенность, структуру и динамику зарегистрированных врачами болезне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среди населения в целом или в отдельных его группах     (возрастных, половых, территориальных, профессиональных и др.) и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лужащий   одним из критериев оценки работ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рача, медицинского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учреждения, органа здравоохранения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ачебное посещение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статистическая единица учета, соответствующая   одному посещению здоровым (больным) врача или одному посещению  врачом     здорового (больного) на дому в зависимости от цели обращения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Термин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ращение»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сит обобщающий характер, объединяя изложенные в письменной или устной форме предложения, заявления, ходатайства или жалобы  гражданина. Другими словами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щен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ациента в учреждение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оохранения это просьба об оказании ему медицинской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и по проблемам, связанным со здоровьем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лучай заболевания»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сколько посещений в амбулаторно-поликли-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ческое учреждение, объединенные одним диагнозом –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ращение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0" y="423360"/>
            <a:ext cx="9144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первого года жизни   </a:t>
            </a:r>
            <a:endParaRPr b="1" lang="en-US" sz="1600" spc="-1" strike="noStrike">
              <a:solidFill>
                <a:srgbClr val="cc0000"/>
              </a:solidFill>
              <a:latin typeface="Dinm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ы, влияющие на состояние здоровья населения и обращения в медицинские организации </a:t>
            </a:r>
            <a:endParaRPr b="1" lang="en-US" sz="1600" spc="-1" strike="noStrike">
              <a:solidFill>
                <a:srgbClr val="cc0000"/>
              </a:solidFill>
              <a:latin typeface="Dinm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 профилактической и иными целями)</a:t>
            </a:r>
            <a:endParaRPr b="1" lang="en-US" sz="1600" spc="-1" strike="noStrike">
              <a:solidFill>
                <a:srgbClr val="cc0000"/>
              </a:solidFill>
              <a:latin typeface="Dinm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600)</a:t>
            </a:r>
            <a:endParaRPr b="1" lang="en-US" sz="1600" spc="-1" strike="noStrike">
              <a:solidFill>
                <a:srgbClr val="cc0000"/>
              </a:solidFill>
              <a:latin typeface="Dinmed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03200" y="1557360"/>
          <a:ext cx="8294760" cy="4535640"/>
        </p:xfrm>
        <a:graphic>
          <a:graphicData uri="http://schemas.openxmlformats.org/drawingml/2006/table">
            <a:tbl>
              <a:tblPr/>
              <a:tblGrid>
                <a:gridCol w="4643640"/>
                <a:gridCol w="780840"/>
                <a:gridCol w="1087560"/>
                <a:gridCol w="892080"/>
                <a:gridCol w="890640"/>
              </a:tblGrid>
              <a:tr h="168120">
                <a:tc rowSpan="2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МКБ-10 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щения</a:t>
                      </a:r>
                      <a:endParaRPr b="1" lang="en-US" sz="9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вторные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960"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51480" rIns="514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00-Z99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51480" rIns="514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щения в медицинские организации для медицинского осмотра и обследования 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00-Z13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51480" rIns="514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енциальная опасность для здоровья, связанная с инфекционными болезнями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20-Z29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51480" rIns="514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щения в медицинские организации в связи с необходимостью проведения специфических процедур и получения медицинской помощи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40-Z54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51480" rIns="514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мощь, включающая использование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билитационных процедур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.1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50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51480" rIns="514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лиативная помощь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.2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5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5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51480" rIns="514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енциальная опасность для здоровья, связанная с социально-экономическими и психосоциальными обстоятельствами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55-Z65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51480" rIns="514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енциальная опасность для здоровья, связанная  с личным или семейным анамнезом и определенными обстоятельствами, влияющими на здоровье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7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80-Z99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920">
                <a:tc>
                  <a:txBody>
                    <a:bodyPr lIns="51480" rIns="514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заболевания в семейном анамнезе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7.1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80-Z84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480">
                <a:tc>
                  <a:txBody>
                    <a:bodyPr lIns="51480" rIns="514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глухота и потеря слуха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7.1.1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.2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Прямоугольник 6"/>
          <p:cNvSpPr/>
          <p:nvPr/>
        </p:nvSpPr>
        <p:spPr>
          <a:xfrm>
            <a:off x="380880" y="6093000"/>
            <a:ext cx="8251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Dinmed"/>
              </a:rPr>
              <a:t>(</a:t>
            </a:r>
            <a:r>
              <a:rPr b="1" lang="ru-RU" sz="1600" spc="-1" strike="noStrike">
                <a:solidFill>
                  <a:srgbClr val="000000"/>
                </a:solidFill>
                <a:latin typeface="Dinmed"/>
              </a:rPr>
              <a:t>1650)</a:t>
            </a:r>
            <a:endParaRPr b="1" lang="en-US" sz="1600" spc="-1" strike="noStrike">
              <a:solidFill>
                <a:srgbClr val="cc0000"/>
              </a:solidFill>
              <a:latin typeface="Dinme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cc0000"/>
              </a:solidFill>
              <a:latin typeface="Dinme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Dinmed"/>
              </a:rPr>
              <a:t>Из стр. 1.7.1.1. таблицы 1600: обследовано на выявление кондуктивной и нейросенсорной потери слуха   1 ___________. 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"/>
          <p:cNvSpPr/>
          <p:nvPr/>
        </p:nvSpPr>
        <p:spPr>
          <a:xfrm>
            <a:off x="1116000" y="2009160"/>
            <a:ext cx="770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В таблицы 1500, 1600, 1650 вносится </a:t>
            </a:r>
            <a:endParaRPr b="1" lang="en-US" sz="3200" spc="-1" strike="noStrike">
              <a:solidFill>
                <a:srgbClr val="cc0000"/>
              </a:solidFill>
              <a:latin typeface="Dinm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информация о детях, которым в 2017 </a:t>
            </a:r>
            <a:endParaRPr b="1" lang="en-US" sz="3200" spc="-1" strike="noStrike">
              <a:solidFill>
                <a:srgbClr val="cc0000"/>
              </a:solidFill>
              <a:latin typeface="Dinm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году исполнился один год.</a:t>
            </a:r>
            <a:endParaRPr b="1" lang="en-US" sz="3200" spc="-1" strike="noStrike">
              <a:solidFill>
                <a:srgbClr val="cc0000"/>
              </a:solidFill>
              <a:latin typeface="Dinm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Соответственно родились они </a:t>
            </a:r>
            <a:endParaRPr b="1" lang="en-US" sz="3200" spc="-1" strike="noStrike">
              <a:solidFill>
                <a:srgbClr val="cc0000"/>
              </a:solidFill>
              <a:latin typeface="Dinm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с 01.01.2016 по 31.12.2016 года.</a:t>
            </a:r>
            <a:endParaRPr b="1" lang="en-US" sz="3200" spc="-1" strike="noStrike">
              <a:solidFill>
                <a:srgbClr val="cc0000"/>
              </a:solidFill>
              <a:latin typeface="Dinmed"/>
            </a:endParaRPr>
          </a:p>
        </p:txBody>
      </p:sp>
      <p:sp>
        <p:nvSpPr>
          <p:cNvPr id="116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855720" y="1379520"/>
          <a:ext cx="7813440" cy="4003560"/>
        </p:xfrm>
        <a:graphic>
          <a:graphicData uri="http://schemas.openxmlformats.org/drawingml/2006/table">
            <a:tbl>
              <a:tblPr/>
              <a:tblGrid>
                <a:gridCol w="4013280"/>
                <a:gridCol w="1101600"/>
                <a:gridCol w="1068480"/>
                <a:gridCol w="977760"/>
                <a:gridCol w="652320"/>
              </a:tblGrid>
              <a:tr h="1228680">
                <a:tc rowSpan="2">
                  <a:txBody>
                    <a:bodyPr lIns="7200" rIns="720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гист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вано заболеваний ф.31</a:t>
                      </a: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гист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вано заболеваний ф.31</a:t>
                      </a: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егистрировано заболеваний  всего ф.12</a:t>
                      </a: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</a:t>
                      </a: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</a:t>
                      </a: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6</a:t>
                      </a: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1440">
                <a:tc>
                  <a:txBody>
                    <a:bodyPr lIns="7200" rIns="720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лужская область</a:t>
                      </a: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 312,00</a:t>
                      </a: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 706,00</a:t>
                      </a: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 083,00</a:t>
                      </a: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,46</a:t>
                      </a: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1440">
                <a:tc>
                  <a:txBody>
                    <a:bodyPr lIns="7200" rIns="720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верская область</a:t>
                      </a: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 220,00</a:t>
                      </a: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 609,00</a:t>
                      </a: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 679,00</a:t>
                      </a: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,90</a:t>
                      </a: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9640">
                <a:tc>
                  <a:txBody>
                    <a:bodyPr lIns="7200" rIns="720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лининградская область</a:t>
                      </a: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 858,00</a:t>
                      </a: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 020,00</a:t>
                      </a: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 152,00</a:t>
                      </a: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,01</a:t>
                      </a: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1440">
                <a:tc>
                  <a:txBody>
                    <a:bodyPr lIns="7200" rIns="720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 Санкт – Петербург</a:t>
                      </a: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7 889,00</a:t>
                      </a: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8 179,00</a:t>
                      </a: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0 752,00</a:t>
                      </a: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,10</a:t>
                      </a: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1800">
                <a:tc>
                  <a:txBody>
                    <a:bodyPr lIns="7200" rIns="720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лгоградская область</a:t>
                      </a: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 005,00</a:t>
                      </a: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 918,00</a:t>
                      </a: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 714,00</a:t>
                      </a: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,55</a:t>
                      </a: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1440">
                <a:tc>
                  <a:txBody>
                    <a:bodyPr lIns="7200" rIns="720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енбургская область</a:t>
                      </a: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 873,00</a:t>
                      </a: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 826,00</a:t>
                      </a: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 104,00</a:t>
                      </a: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45</a:t>
                      </a: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9640">
                <a:tc>
                  <a:txBody>
                    <a:bodyPr lIns="7200" rIns="720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арская область</a:t>
                      </a: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 898,00</a:t>
                      </a: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 318,00</a:t>
                      </a: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2 307,00</a:t>
                      </a: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93</a:t>
                      </a: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1440">
                <a:tc>
                  <a:txBody>
                    <a:bodyPr lIns="7200" rIns="720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ганская область</a:t>
                      </a: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518,00</a:t>
                      </a: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 102,00</a:t>
                      </a: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 973,00</a:t>
                      </a: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46</a:t>
                      </a: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1440">
                <a:tc>
                  <a:txBody>
                    <a:bodyPr lIns="7200" rIns="720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публика Саха (Якутия)</a:t>
                      </a: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 958,00</a:t>
                      </a: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 918,00</a:t>
                      </a: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 330,00</a:t>
                      </a: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,13</a:t>
                      </a: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8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  <p:sp>
        <p:nvSpPr>
          <p:cNvPr id="119" name="Прямоугольник 2"/>
          <p:cNvSpPr/>
          <p:nvPr/>
        </p:nvSpPr>
        <p:spPr>
          <a:xfrm>
            <a:off x="855720" y="2305080"/>
            <a:ext cx="789300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Dinme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Dinme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Dinme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Dinme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Dinme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Dinme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Dinme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Dinm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до 10 декабря 2017 года представить письменно </a:t>
            </a:r>
            <a:endParaRPr b="1" lang="en-US" sz="2400" spc="-1" strike="noStrike">
              <a:solidFill>
                <a:srgbClr val="cc0000"/>
              </a:solidFill>
              <a:latin typeface="Dinm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объяснения о росте заболеваемости среди детей первого года жизни</a:t>
            </a:r>
            <a:endParaRPr b="1" lang="en-US" sz="24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Прямоугольник 4"/>
          <p:cNvSpPr/>
          <p:nvPr/>
        </p:nvSpPr>
        <p:spPr>
          <a:xfrm>
            <a:off x="512640" y="620640"/>
            <a:ext cx="82058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Dinmed"/>
              </a:rPr>
              <a:t>(1700)</a:t>
            </a:r>
            <a:endParaRPr b="1" lang="en-US" sz="1600" spc="-1" strike="noStrike">
              <a:solidFill>
                <a:srgbClr val="cc0000"/>
              </a:solidFill>
              <a:latin typeface="Dinme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Dinmed"/>
              </a:rPr>
              <a:t>Число новорожденных, поступивших под наблюдение данной организации   – всего  1  _________ </a:t>
            </a:r>
            <a:r>
              <a:rPr b="1" lang="ru-RU" sz="2800" spc="-1" strike="noStrike">
                <a:solidFill>
                  <a:srgbClr val="000000"/>
                </a:solidFill>
                <a:latin typeface="Dinmed"/>
              </a:rPr>
              <a:t>,</a:t>
            </a:r>
            <a:endParaRPr b="1" lang="en-US" sz="2800" spc="-1" strike="noStrike">
              <a:solidFill>
                <a:srgbClr val="cc0000"/>
              </a:solidFill>
              <a:latin typeface="Dinmed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69880" y="1363680"/>
          <a:ext cx="8242200" cy="2193840"/>
        </p:xfrm>
        <a:graphic>
          <a:graphicData uri="http://schemas.openxmlformats.org/drawingml/2006/table">
            <a:tbl>
              <a:tblPr/>
              <a:tblGrid>
                <a:gridCol w="4308480"/>
                <a:gridCol w="3933720"/>
              </a:tblGrid>
              <a:tr h="97488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800)</a:t>
                      </a: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мотрено новорожденных на 1 этапе аудиологического скрининга  1 _________, </a:t>
                      </a: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выявлено с нарушениями слуха  2 ___________,</a:t>
                      </a: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1896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числа выявленных с нарушением слуха на I этапе аудиологического скрининга обследовано на 2 этапе аудиологического скрининга  3 _________,</a:t>
                      </a: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выявлено с нарушениями слуха  4 ___________,</a:t>
                      </a:r>
                      <a:endParaRPr b="1" lang="en-US" sz="16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Rectangle 3"/>
          <p:cNvSpPr/>
          <p:nvPr/>
        </p:nvSpPr>
        <p:spPr>
          <a:xfrm>
            <a:off x="468360" y="3037680"/>
            <a:ext cx="82548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3017880"/>
                <a:tab algn="r" pos="4006800"/>
                <a:tab algn="l" pos="5178600"/>
                <a:tab algn="l" pos="6167520"/>
                <a:tab algn="l" pos="7337520"/>
                <a:tab algn="l" pos="832788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0000"/>
              </a:solidFill>
              <a:latin typeface="Dinmed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017880"/>
                <a:tab algn="r" pos="4006800"/>
                <a:tab algn="l" pos="5178600"/>
                <a:tab algn="l" pos="6167520"/>
                <a:tab algn="l" pos="7337520"/>
                <a:tab algn="l" pos="832788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0000"/>
              </a:solidFill>
              <a:latin typeface="Dinmed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017880"/>
                <a:tab algn="r" pos="4006800"/>
                <a:tab algn="l" pos="5178600"/>
                <a:tab algn="l" pos="6167520"/>
                <a:tab algn="l" pos="7337520"/>
                <a:tab algn="l" pos="832788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900)</a:t>
            </a:r>
            <a:endParaRPr b="1" lang="en-US" sz="1600" spc="-1" strike="noStrike">
              <a:solidFill>
                <a:srgbClr val="cc0000"/>
              </a:solidFill>
              <a:latin typeface="Dinmed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017880"/>
                <a:tab algn="r" pos="4006800"/>
                <a:tab algn="l" pos="5178600"/>
                <a:tab algn="l" pos="6167520"/>
                <a:tab algn="l" pos="7337520"/>
                <a:tab algn="l" pos="832788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0000"/>
              </a:solidFill>
              <a:latin typeface="Dinmed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017880"/>
                <a:tab algn="r" pos="4006800"/>
                <a:tab algn="l" pos="5178600"/>
                <a:tab algn="l" pos="6167520"/>
                <a:tab algn="l" pos="7337520"/>
                <a:tab algn="l" pos="832788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исла новорожденных поступивших под наблюдение (табл. 1700)  обследовано на: фенилкетонурию   5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_________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</a:t>
            </a:r>
            <a:endParaRPr b="1" lang="en-US" sz="1600" spc="-1" strike="noStrike">
              <a:solidFill>
                <a:srgbClr val="cc0000"/>
              </a:solidFill>
              <a:latin typeface="Dinmed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017880"/>
                <a:tab algn="r" pos="4006800"/>
                <a:tab algn="l" pos="5178600"/>
                <a:tab algn="l" pos="6167520"/>
                <a:tab algn="l" pos="7337520"/>
                <a:tab algn="l" pos="832788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0000"/>
              </a:solidFill>
              <a:latin typeface="Dinmed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017880"/>
                <a:tab algn="r" pos="4006800"/>
                <a:tab algn="l" pos="5178600"/>
                <a:tab algn="l" pos="6167520"/>
                <a:tab algn="l" pos="7337520"/>
                <a:tab algn="l" pos="832788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ожденный гипотиреоз  6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__________ 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реногенитальный синдром   7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1" lang="en-US" sz="1600" spc="-1" strike="noStrike">
              <a:solidFill>
                <a:srgbClr val="cc0000"/>
              </a:solidFill>
              <a:latin typeface="Dinmed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017880"/>
                <a:tab algn="r" pos="4006800"/>
                <a:tab algn="l" pos="5178600"/>
                <a:tab algn="l" pos="6167520"/>
                <a:tab algn="l" pos="7337520"/>
                <a:tab algn="l" pos="832788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0000"/>
              </a:solidFill>
              <a:latin typeface="Dinmed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017880"/>
                <a:tab algn="r" pos="4006800"/>
                <a:tab algn="l" pos="5178600"/>
                <a:tab algn="l" pos="6167520"/>
                <a:tab algn="l" pos="7337520"/>
                <a:tab algn="l" pos="832788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лактоземию   8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  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уковисцидоз   9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___________ 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1" lang="en-US" sz="1600" spc="-1" strike="noStrike">
              <a:solidFill>
                <a:srgbClr val="cc0000"/>
              </a:solidFill>
              <a:latin typeface="Dinmed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017880"/>
                <a:tab algn="r" pos="4006800"/>
                <a:tab algn="l" pos="5178600"/>
                <a:tab algn="l" pos="6167520"/>
                <a:tab algn="l" pos="7337520"/>
                <a:tab algn="l" pos="832788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0000"/>
              </a:solidFill>
              <a:latin typeface="Dinmed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0" y="60789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Таблицы заполняются за 2017 год</a:t>
            </a:r>
            <a:endParaRPr b="1" lang="en-US" sz="3200" spc="-1" strike="noStrike">
              <a:solidFill>
                <a:srgbClr val="cc0000"/>
              </a:solidFill>
              <a:latin typeface="Dinmed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0" y="108720"/>
            <a:ext cx="9144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0000"/>
              </a:solidFill>
              <a:latin typeface="Dinm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0000"/>
              </a:solidFill>
              <a:latin typeface="Dinm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0000"/>
              </a:solidFill>
              <a:latin typeface="Dinm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Дети  (15-17 лет включительно)</a:t>
            </a:r>
            <a:endParaRPr b="1" lang="en-US" sz="1600" spc="-1" strike="noStrike">
              <a:solidFill>
                <a:srgbClr val="cc0000"/>
              </a:solidFill>
              <a:latin typeface="Dinm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000)</a:t>
            </a:r>
            <a:endParaRPr b="1" lang="en-US" sz="1600" spc="-1" strike="noStrike">
              <a:solidFill>
                <a:srgbClr val="cc0000"/>
              </a:solidFill>
              <a:latin typeface="Dinm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0000"/>
              </a:solidFill>
              <a:latin typeface="Dinmed"/>
            </a:endParaRPr>
          </a:p>
        </p:txBody>
      </p:sp>
      <p:pic>
        <p:nvPicPr>
          <p:cNvPr id="126" name="Таблица 2" descr=""/>
          <p:cNvPicPr/>
          <p:nvPr/>
        </p:nvPicPr>
        <p:blipFill>
          <a:blip r:embed="rId1"/>
          <a:stretch/>
        </p:blipFill>
        <p:spPr>
          <a:xfrm>
            <a:off x="463680" y="1523880"/>
            <a:ext cx="8339040" cy="51516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"/>
          <p:cNvSpPr/>
          <p:nvPr/>
        </p:nvSpPr>
        <p:spPr>
          <a:xfrm>
            <a:off x="0" y="-128520"/>
            <a:ext cx="9144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0000"/>
              </a:solidFill>
              <a:latin typeface="Dinm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0000"/>
              </a:solidFill>
              <a:latin typeface="Dinm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0000"/>
              </a:solidFill>
              <a:latin typeface="Dinm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Дети  (15-17 лет включительно)</a:t>
            </a:r>
            <a:endParaRPr b="1" lang="en-US" sz="1600" spc="-1" strike="noStrike">
              <a:solidFill>
                <a:srgbClr val="cc0000"/>
              </a:solidFill>
              <a:latin typeface="Dinm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000)</a:t>
            </a:r>
            <a:endParaRPr b="1" lang="en-US" sz="1600" spc="-1" strike="noStrike">
              <a:solidFill>
                <a:srgbClr val="cc0000"/>
              </a:solidFill>
              <a:latin typeface="Dinm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0000"/>
              </a:solidFill>
              <a:latin typeface="Dinmed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65120" y="1085760"/>
          <a:ext cx="8334360" cy="3911760"/>
        </p:xfrm>
        <a:graphic>
          <a:graphicData uri="http://schemas.openxmlformats.org/drawingml/2006/table">
            <a:tbl>
              <a:tblPr/>
              <a:tblGrid>
                <a:gridCol w="1589040"/>
                <a:gridCol w="478080"/>
                <a:gridCol w="534960"/>
                <a:gridCol w="460080"/>
                <a:gridCol w="459000"/>
                <a:gridCol w="534960"/>
                <a:gridCol w="534960"/>
                <a:gridCol w="536400"/>
                <a:gridCol w="614520"/>
                <a:gridCol w="615960"/>
                <a:gridCol w="458640"/>
                <a:gridCol w="459000"/>
                <a:gridCol w="615960"/>
                <a:gridCol w="442800"/>
              </a:tblGrid>
              <a:tr h="182880"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классов и отдельных болезней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МКБ-10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-смотра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егистрировано заболеваний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нято с диспан-серного наблю-дения 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оит под диспан-серным наблюде-нием на конец отчетного года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гр. 15): юноши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юноши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гр. 4):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заболеваний с впервые в жизни установленным диагнозом 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9):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из заболе-ваний с впервые в жизни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установ-ленным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диагно-зом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(из гр. 10)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юноши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3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пансер-ное наблю-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впервые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жизни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- ленным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-зом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пансер-ное наблю-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явле-но при проф-осмотре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выявлено при диспан-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серизации определен-ных групп взрослого населения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43560" rIns="43560" tIns="0" bIns="0" anchor="ctr">
                      <a:noAutofit/>
                    </a:bodyPr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егистрировано заболеваний – всего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ошибки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01300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графа 12 - выявлено при диспансеризации определенных групп взрослого населения (гр. 12) – следует читать -  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ыявлено при диспансеризации</a:t>
            </a:r>
            <a:br>
              <a:rPr sz="2000"/>
            </a:b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графа 11 - из заболеваний с впервые в жизни установленным диагнозом   (из гр. 10) юноши (гр. 13) – следует читать - из заболеваний 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 впервые в   жизни установленным диагнозом (из гр. 9) юноши </a:t>
            </a:r>
            <a:br>
              <a:rPr sz="2400"/>
            </a:br>
            <a:br>
              <a:rPr sz="1400"/>
            </a:br>
            <a:br>
              <a:rPr sz="14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864000" y="27144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864000" y="189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1"/>
          <p:cNvSpPr/>
          <p:nvPr/>
        </p:nvSpPr>
        <p:spPr>
          <a:xfrm>
            <a:off x="539640" y="1409760"/>
            <a:ext cx="8209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Контроль «девушки»:</a:t>
            </a:r>
            <a:endParaRPr b="1" lang="en-US" sz="2800" spc="-1" strike="noStrike">
              <a:solidFill>
                <a:srgbClr val="cc0000"/>
              </a:solidFill>
              <a:latin typeface="Dinm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«всего» (гр.4) – «из них: юноши» (гр.7) = «всего </a:t>
            </a:r>
            <a:endParaRPr b="1" lang="en-US" sz="2800" spc="-1" strike="noStrike">
              <a:solidFill>
                <a:srgbClr val="cc0000"/>
              </a:solidFill>
              <a:latin typeface="Dinm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евушки»;</a:t>
            </a:r>
            <a:endParaRPr b="1" lang="en-US" sz="2800" spc="-1" strike="noStrike">
              <a:solidFill>
                <a:srgbClr val="cc0000"/>
              </a:solidFill>
              <a:latin typeface="Dinm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Dinm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«с впервые в жизни …» (гр.9) – «из заболеваний … юноши» (гр.13) = «девушки впервые».</a:t>
            </a:r>
            <a:endParaRPr b="1" lang="en-US" sz="2800" spc="-1" strike="noStrike">
              <a:solidFill>
                <a:srgbClr val="cc0000"/>
              </a:solidFill>
              <a:latin typeface="Dinm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Dinm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</a:t>
            </a:r>
            <a:r>
              <a:rPr b="1" lang="ru-RU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Итого: «всего девушки»:</a:t>
            </a:r>
            <a:endParaRPr b="1" lang="en-US" sz="2800" spc="-1" strike="noStrike">
              <a:solidFill>
                <a:srgbClr val="cc0000"/>
              </a:solidFill>
              <a:latin typeface="Dinm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«девушки впервые»  -  не  должно  быть  отрица-</a:t>
            </a:r>
            <a:endParaRPr b="1" lang="en-US" sz="2800" spc="-1" strike="noStrike">
              <a:solidFill>
                <a:srgbClr val="cc0000"/>
              </a:solidFill>
              <a:latin typeface="Dinme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тельных значений. </a:t>
            </a:r>
            <a:endParaRPr b="1" lang="en-US" sz="2800" spc="-1" strike="noStrike">
              <a:solidFill>
                <a:srgbClr val="cc0000"/>
              </a:solidFill>
              <a:latin typeface="Dinmed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"/>
          <p:cNvSpPr/>
          <p:nvPr/>
        </p:nvSpPr>
        <p:spPr>
          <a:xfrm>
            <a:off x="492120" y="1445400"/>
            <a:ext cx="84628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289480"/>
                <a:tab algn="l" pos="546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001)</a:t>
            </a:r>
            <a:endParaRPr b="1" lang="en-US" sz="2000" spc="-1" strike="noStrike">
              <a:solidFill>
                <a:srgbClr val="cc0000"/>
              </a:solidFill>
              <a:latin typeface="Dinm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89480"/>
                <a:tab algn="l" pos="546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Dinm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89480"/>
                <a:tab algn="l" pos="546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зарегистрированных пациентов – всего  1 _______________, из них с диагнозом, установленным </a:t>
            </a:r>
            <a:endParaRPr b="1" lang="en-US" sz="2000" spc="-1" strike="noStrike">
              <a:solidFill>
                <a:srgbClr val="cc0000"/>
              </a:solidFill>
              <a:latin typeface="Dinm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89480"/>
                <a:tab algn="l" pos="546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Dinm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89480"/>
                <a:tab algn="l" pos="546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ервые в жизни  2 _________________ ,   состоит под диспансерным наблюдением на конец отчетного </a:t>
            </a:r>
            <a:endParaRPr b="1" lang="en-US" sz="2000" spc="-1" strike="noStrike">
              <a:solidFill>
                <a:srgbClr val="cc0000"/>
              </a:solidFill>
              <a:latin typeface="Dinm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89480"/>
                <a:tab algn="l" pos="546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Dinm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89480"/>
                <a:tab algn="l" pos="546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а (из стр.1.0, гр. 15)  3 _____________  , передано под наблюдение во взрослую поликлинику  4 ______________. </a:t>
            </a:r>
            <a:endParaRPr b="1" lang="en-US" sz="2000" spc="-1" strike="noStrike">
              <a:solidFill>
                <a:srgbClr val="cc0000"/>
              </a:solidFill>
              <a:latin typeface="Dinm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89480"/>
                <a:tab algn="l" pos="546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Dinmed"/>
            </a:endParaRPr>
          </a:p>
        </p:txBody>
      </p:sp>
      <p:sp>
        <p:nvSpPr>
          <p:cNvPr id="136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"/>
          <p:cNvSpPr/>
          <p:nvPr/>
        </p:nvSpPr>
        <p:spPr>
          <a:xfrm>
            <a:off x="336600" y="367920"/>
            <a:ext cx="8807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0000"/>
              </a:solidFill>
              <a:latin typeface="Dinm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0000"/>
              </a:solidFill>
              <a:latin typeface="Dinm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Взрослые 18 лет  и более</a:t>
            </a:r>
            <a:endParaRPr b="1" lang="en-US" sz="1600" spc="-1" strike="noStrike">
              <a:solidFill>
                <a:srgbClr val="cc0000"/>
              </a:solidFill>
              <a:latin typeface="Dinm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000)</a:t>
            </a:r>
            <a:endParaRPr b="1" lang="en-US" sz="1600" spc="-1" strike="noStrike">
              <a:solidFill>
                <a:srgbClr val="cc0000"/>
              </a:solidFill>
              <a:latin typeface="Dinmed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65120" y="1557360"/>
          <a:ext cx="8242200" cy="4753080"/>
        </p:xfrm>
        <a:graphic>
          <a:graphicData uri="http://schemas.openxmlformats.org/drawingml/2006/table">
            <a:tbl>
              <a:tblPr/>
              <a:tblGrid>
                <a:gridCol w="2460600"/>
                <a:gridCol w="487440"/>
                <a:gridCol w="706320"/>
                <a:gridCol w="547920"/>
                <a:gridCol w="631800"/>
                <a:gridCol w="549000"/>
                <a:gridCol w="547920"/>
                <a:gridCol w="630000"/>
                <a:gridCol w="632160"/>
                <a:gridCol w="469800"/>
                <a:gridCol w="579240"/>
              </a:tblGrid>
              <a:tr h="182880">
                <a:tc rowSpan="3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классов и отдельных болезней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МКБ-10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смотра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егистрировано заболеваний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нято с диспан-серного наблю-дения 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оит под диспан-серным наблюде-нием на конец отчетного года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гр. 4):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заболеваний с впервые в жизни установленным диагнозом (из гр. 9):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5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пансер-ное наблю-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впервые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жизни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-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нным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-зом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пансер-ное наблю-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явлено при проф-осмотре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явлено  при  диспан-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изации определен-ных групп взрослого населения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44640" rIns="44640" tIns="0" bIns="0" anchor="ctr">
                      <a:noAutofit/>
                    </a:bodyPr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егистрировано заболеваний – всего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44640" rIns="44640" tIns="0" bIns="0" anchor="ctr">
                      <a:noAutofit/>
                    </a:bodyPr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531720" y="934560"/>
            <a:ext cx="8320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Взрослые старше трудоспособного возраста (с 55 лет у женщин и с 60 лет у мужчин)</a:t>
            </a:r>
            <a:endParaRPr b="1" lang="en-US" sz="1600" spc="-1" strike="noStrike">
              <a:solidFill>
                <a:srgbClr val="cc0000"/>
              </a:solidFill>
              <a:latin typeface="Dinm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0000"/>
              </a:solidFill>
              <a:latin typeface="Dinm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0000"/>
              </a:solidFill>
              <a:latin typeface="Dinm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000)</a:t>
            </a:r>
            <a:endParaRPr b="1" lang="en-US" sz="1600" spc="-1" strike="noStrike">
              <a:solidFill>
                <a:srgbClr val="cc0000"/>
              </a:solidFill>
              <a:latin typeface="Dinmed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595440" y="2054160"/>
          <a:ext cx="8164440" cy="3824280"/>
        </p:xfrm>
        <a:graphic>
          <a:graphicData uri="http://schemas.openxmlformats.org/drawingml/2006/table">
            <a:tbl>
              <a:tblPr/>
              <a:tblGrid>
                <a:gridCol w="2436840"/>
                <a:gridCol w="484200"/>
                <a:gridCol w="698400"/>
                <a:gridCol w="542880"/>
                <a:gridCol w="625320"/>
                <a:gridCol w="544680"/>
                <a:gridCol w="542880"/>
                <a:gridCol w="623880"/>
                <a:gridCol w="625320"/>
                <a:gridCol w="465480"/>
                <a:gridCol w="574560"/>
              </a:tblGrid>
              <a:tr h="182880">
                <a:tc rowSpan="3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классов и отдельных болезней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МКБ-10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смотра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егистрировано заболеваний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нято с диспан-серного наблю-дения 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оит под диспан-серным наблюде-нием на конец отчетного года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гр. 4):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заболеваний с впервые в жизни установленным диагнозом (из гр. 9):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5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пансер-ное наблю-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впервые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жизни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-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нным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-зом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пансер-ное наблю-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явлено при проф-осмотре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явлено при диспан-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изации определен-ных групп взрослого населения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44640" rIns="44640" tIns="0" bIns="0" anchor="ctr">
                      <a:noAutofit/>
                    </a:bodyPr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егистрировано заболеваний – всего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44640" rIns="44640" tIns="0" bIns="0" anchor="ctr">
                      <a:noAutofit/>
                    </a:bodyPr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1" lang="en-US" sz="12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497800" cy="17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О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ТИСТИЧЕСКОЕ НАБЛЮДЕНИЕ</a:t>
            </a:r>
            <a:br>
              <a:rPr sz="2800"/>
            </a:b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2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39280" y="2276640"/>
            <a:ext cx="828036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ЧИСЛЕ ЗАБОЛЕВАНИЙ, ЗАРЕГИСТРИРОВАННЫХ У                   ПАЦИЕНТОВ, ПРОЖИВАЮЩИХ          В РАЙОНЕ ОБСЛУЖИВАНИЯ                МЕДИЦИНСКОЙ ОРГАНИЗАЦИИ </a:t>
            </a:r>
            <a:br>
              <a:rPr sz="4500"/>
            </a:br>
            <a:r>
              <a:rPr b="1" i="1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 2017 год </a:t>
            </a: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Прямоугольник 1"/>
          <p:cNvSpPr/>
          <p:nvPr/>
        </p:nvSpPr>
        <p:spPr>
          <a:xfrm>
            <a:off x="468360" y="2308320"/>
            <a:ext cx="8424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Контроль «врослых»:</a:t>
            </a:r>
            <a:endParaRPr b="1" lang="en-US" sz="3200" spc="-1" strike="noStrike">
              <a:solidFill>
                <a:srgbClr val="cc0000"/>
              </a:solidFill>
              <a:latin typeface="Dinm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значения в графоклетках таблицы 4000  не могут быть больше, чем в соответствующих </a:t>
            </a:r>
            <a:endParaRPr b="1" lang="en-US" sz="3200" spc="-1" strike="noStrike">
              <a:solidFill>
                <a:srgbClr val="cc0000"/>
              </a:solidFill>
              <a:latin typeface="Dinm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графоклетках таблицы 3000</a:t>
            </a:r>
            <a:endParaRPr b="1" lang="en-US" sz="3200" spc="-1" strike="noStrike">
              <a:solidFill>
                <a:srgbClr val="cc0000"/>
              </a:solidFill>
              <a:latin typeface="Dinmed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280" y="1268280"/>
            <a:ext cx="8209080" cy="47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000)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тудентов, подлежавших диспансеризации в отчетном году  1 _________,   число студентов, прошедших диспансеризацию в отчетном году  2 __________, выявлено у них заболеваний с диагнозом, установленным впервые в жизни – всего  3 _________, из них: взято под диспансерное наблюдение  4 ________ 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100)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илактические медицинские осмотры обучающихся в общеобразовательных организациях и профессиональных образовательных организациях, а также обра-зовательных организациях высшего образования в целях раннего выявления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аконного потребления наркотических средств и психотропных веществ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лежало осмотру  1 _____________,  осмотрено 2 ___________ 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659880" y="6445440"/>
            <a:ext cx="76568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Rectangle 1"/>
          <p:cNvSpPr/>
          <p:nvPr/>
        </p:nvSpPr>
        <p:spPr>
          <a:xfrm>
            <a:off x="0" y="3074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Dinm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Диспансеризация студентов высших </a:t>
            </a:r>
            <a:endParaRPr b="1" lang="en-US" sz="2400" spc="-1" strike="noStrike">
              <a:solidFill>
                <a:srgbClr val="cc0000"/>
              </a:solidFill>
              <a:latin typeface="Dinm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ых учреждений</a:t>
            </a:r>
            <a:endParaRPr b="1" lang="en-US" sz="2400" spc="-1" strike="noStrike">
              <a:solidFill>
                <a:srgbClr val="cc0000"/>
              </a:solidFill>
              <a:latin typeface="Dinmed"/>
            </a:endParaRPr>
          </a:p>
        </p:txBody>
      </p:sp>
      <p:sp>
        <p:nvSpPr>
          <p:cNvPr id="148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693800"/>
            <a:ext cx="7772400" cy="23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ы в таблицах 1000, 1500, 2000,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00, 4000 имеют одинаковую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мерацию 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71600" y="610092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3640" y="274680"/>
            <a:ext cx="856908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 Порядком заполнения формы федерального статистического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я №12</a:t>
            </a:r>
            <a:br>
              <a:rPr sz="3600"/>
            </a:b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се таблицы заполняются по всем строкам и графам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4865400"/>
            <a:ext cx="822960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Закрещенные графоклетки 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marL="294840" indent="-2948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е заполняются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marL="294840" indent="-294840">
              <a:lnSpc>
                <a:spcPct val="100000"/>
              </a:lnSpc>
              <a:spcBef>
                <a:spcPts val="1001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9200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ы 1000, 2000, 3000, 400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афа 4 - заболевания, зарегистрированные у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пациентов впервые в жизни и повторно один  раз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 году (+ и -)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афа 5 – в возрасте 0-4 года, из графы 4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афа 6 – в возрасте 5-9 лет, из графы 4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при этом графа 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графам 5+6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афа 8 – взято под диспансерное наблюдение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 течение года, из графы 4 «всего» (+ и -)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афа 9 - заболевания, зарегистрированные у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пациентов впервые в жизни (+),  из графы 4. </a:t>
            </a:r>
            <a:br>
              <a:rPr sz="2800"/>
            </a:br>
            <a:br>
              <a:rPr sz="2500"/>
            </a:b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500"/>
            </a:b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9280" y="342720"/>
            <a:ext cx="8640720" cy="54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графа 10 - взято под диспансерное наблюдение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в течение года (+) , из графы 9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графа 11 – выявлено при профосмотре, из графы 9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графа 12 – выявлено  при  диспансеризации опре-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деленных групп взрослого населения, из графы 9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 таблице 2000 - выявлено  при  диспансеризации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графа 14 – снято с диспансерного наблюдения (по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всем причинам: выздоровление, смерть, переход в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другую возрастную группу, переезд на другое место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жительства и др.)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графа 15 – состоит под диспансерным наблюдением     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на конец отчетного года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графы 7,13,16-в таблице 2000 –все данные о юношах.</a:t>
            </a:r>
            <a:br>
              <a:rPr sz="2800"/>
            </a:b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22360" y="306000"/>
            <a:ext cx="8229600" cy="54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96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ДВИЖЕНИЕ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80800" y="274680"/>
            <a:ext cx="8683560" cy="61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     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</a:t>
            </a:r>
            <a:r>
              <a:rPr b="0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егистрация заболеваний осуществляется по году рождения. Если в отчетном году ребенку исполняется 15 лет (с 1 января - по 31 декабря), то он считается </a:t>
            </a:r>
            <a:br>
              <a:rPr sz="2800"/>
            </a:br>
            <a:r>
              <a:rPr b="0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дростком; 18 лет – взрослым, т.е. переход из одной</a:t>
            </a:r>
            <a:br>
              <a:rPr sz="2800"/>
            </a:br>
            <a:r>
              <a:rPr b="0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озрастной группы в другую производится на начало </a:t>
            </a:r>
            <a:br>
              <a:rPr sz="2800"/>
            </a:br>
            <a:r>
              <a:rPr b="0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года в не зависимости от того, когда у ребёнка или </a:t>
            </a:r>
            <a:br>
              <a:rPr sz="2800"/>
            </a:br>
            <a:r>
              <a:rPr b="0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дростка день рождения. При этом вся их ранее </a:t>
            </a:r>
            <a:br>
              <a:rPr sz="2800"/>
            </a:br>
            <a:r>
              <a:rPr b="0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звестная заболеваемость показывается в графе 4 – </a:t>
            </a:r>
            <a:br>
              <a:rPr sz="2800"/>
            </a:br>
            <a:r>
              <a:rPr b="0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сего, и только вновь выявленная в текущем году в </a:t>
            </a:r>
            <a:br>
              <a:rPr sz="2800"/>
            </a:br>
            <a:r>
              <a:rPr b="0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ервичной заболеваемости (графы 9 и 11 у подрост-</a:t>
            </a:r>
            <a:br>
              <a:rPr sz="2800"/>
            </a:br>
            <a:r>
              <a:rPr b="0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ов, графа 9 у взрослых) соответствующих  таблиц</a:t>
            </a:r>
            <a:r>
              <a:rPr b="0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. 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22160" y="615996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10920" y="1052640"/>
            <a:ext cx="8250120" cy="50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заболеваниях, выявленных у  больных, поступивших в стационар, минуя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клинику, следует включать в отчёт н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их основаниях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талон может быть заполнен в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аци-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наре и передан в поликлинику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либо запол-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н в поликлинике на основании выписки из карты стационарного больного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7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96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Графа 8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0" y="406440"/>
            <a:ext cx="4572000" cy="6451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2"/>
          <a:stretch/>
        </p:blipFill>
        <p:spPr>
          <a:xfrm>
            <a:off x="4572000" y="419040"/>
            <a:ext cx="4572000" cy="64389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1640" y="3504960"/>
            <a:ext cx="44197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Форма ФСН №12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«Сведения о числе заболеваний, зарегистрированных у пациентов, проживающих в районе обслуживания медицинской организации»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409760"/>
            <a:ext cx="82296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случай острого заболевания заре-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стрированный в текущем году не подлежит перерегистрации в следующем. В заболевае-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сть не следует включать заболевания, коды которых отмечены “звездочкой” (альтерна-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вные), используемые только для специаль-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ых разработок по проявлениям основного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олевания и только вместе с кодом основ-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го заболевания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197000"/>
            <a:ext cx="82296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торые острые заболевания и состояния (например: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рый отит, острый миокардит, острые респираторные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и верхних и нижних дыхательных путей, грипп, 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же травмы, за исключением последствий и др.) регистри-руются столько раз, сколько они возникают в течение отчет-ного года. При этом графа 4 должна быть равна графе 9 по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ветствующим строкам таблиц 1000, 1500, 2000, 3000 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00.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а начало года по данным строкам 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Это не относится к тем заболеваниям, при которых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рые формы могут переходить в хронические. Пр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стрении хронических заболеваний регистрируют эт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онические заболевания, а не их острые форм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4000" y="692280"/>
            <a:ext cx="784836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 при составлении отчета о забо-леваемости населения сверять данные отдель-ных строк с профильными специалистами. 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Сведения для заполнения отчета в различных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ах учреждений берутся из различных источников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жно-венерологические заболевани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уберкулез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нфекционные заболевания, Роспотребнадзор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сихиатрические заболевани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 др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а 4 = графе 9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263600"/>
            <a:ext cx="8229600" cy="51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2.1,10.1,10.4.1.1, 10.4.2,10.4.3,10.4.4,10.5.1,10.5.2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5.3, 10.6.1,10.6.2,10.6.3,10.6.4,10.6.7,11.1,11.1.1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1.2,11.2,11.3, 11.4, 17.0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трока 20.0 может быть неравенство на коды Т90-Т98, больных вибрационной болезнью и больных получающих лечение по травме больше год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озможно неравенство и требует письменного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яснения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.1, 2.2, 7.1, 7.1.1, 7.1.2, 12.9.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53880" y="1773360"/>
            <a:ext cx="8229600" cy="30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ЕМСТВЕННОСТ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4280" y="414360"/>
            <a:ext cx="8364600" cy="56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br>
              <a:rPr sz="24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пациент обратился за медицинской помощью, минуя поли-клинику, в больницу, то «Талон  амбулаторного пациента» (далее - Талон) заполняют в поликлинике после выписки пациента из стаци-онара на основании "Выписного эпикриза". При этом если пациент пришел на прием, то в Талоне производится отметка о регистрации всех заболеваний для включения этих сведений в форму федераль-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го статистического наблюдения № 12 и вносится отметка о посе-щении. Если пациент на прием не пришел, то в Талоне регистриру-ются все заболевания без отметки о посещении. В Талоне также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о быть зарегистрировано обращение по поводу заболевания, включающее в себя одно или несколько посещений, в результате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ых цель обращения достигнута. При заполнении Талона врач также делает отметки о дате впервые выявленного основного и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путствующих заболеваний, взятии и снятии с диспансерного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а. Эта данные необходимы для заполнения формы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ого статистического наблюдения № 12.</a:t>
            </a:r>
            <a:br>
              <a:rPr sz="2200"/>
            </a:br>
            <a:br>
              <a:rPr sz="2000"/>
            </a:b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60000" y="1341000"/>
            <a:ext cx="8645400" cy="47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1. Некоторые инфекционные и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зитарные болезни. А00-И99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2. Новообразования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00-D48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26960" y="1393560"/>
            <a:ext cx="844416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3. Болезни крови, кроветворных органов и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ельные нарушения, вовлекающие иммунный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зм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50-D89</a:t>
            </a: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Строка 4.2 включает в себя коды D65-D69 и включает в себя тромбоцитопении, тромбоцитопатии, аллергический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скулит (код D69.X). </a:t>
            </a:r>
            <a:br>
              <a:rPr sz="24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988560"/>
            <a:ext cx="8229600" cy="476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4. Болезни эндокринной системы,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расстройства питания и нарушения обмен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веществ. Е00-Е90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иперплазия щитовидной железы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фруется кодом – E04.0. Отстава- ние в физическом развитии кодируют по эндокринной патологии–E45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и 5.4, 5.15 у взрослых и подростков диагноз «Гипофизарный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низм, Гипопитуитаризм юношеский» - всегда учитывается с «-», так как первично диагноз устанавливается еще в детском возрасте (код – Е23.0). Причины возникновения нанизма (карликовости) могут быть различны, соответственно и кодировать его нужно по-разному. Пример: гипопитуитаризм вызванный лекарственными средствами – Е23.1; гипопитуитаризм, обусловленный гипофизэктомией – Е89.3, гипопитуитаризм, обусловленный гормонально неактивной аденомой гипофиза – Е23.6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3840" y="1773000"/>
            <a:ext cx="8488080" cy="33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5. Психические расстройства и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стройства поведения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00-F99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ы 4, 9, 15 формы 12 равны соответствующим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ам и строкам форм 10, 11, 36, 37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Й В ФОРМЕ НЕТ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4126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 форму 12 не включают сведения о </a:t>
            </a:r>
            <a:br>
              <a:rPr sz="3600"/>
            </a:br>
            <a:r>
              <a:rPr b="0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заболеваниях с кодами по МКБ-10, </a:t>
            </a:r>
            <a:br>
              <a:rPr sz="3600"/>
            </a:br>
            <a:r>
              <a:rPr b="0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тмеченных  звездочкой (*)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04640"/>
            <a:ext cx="822960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12 будет приниматься при равенстве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 4, 9, 15 с формами по психиатрии и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кологии и с </a:t>
            </a:r>
            <a:r>
              <a:rPr b="0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вижением диспансерной </a:t>
            </a:r>
            <a:br>
              <a:rPr sz="3200"/>
            </a:br>
            <a:r>
              <a:rPr b="0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группы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7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                                                                               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ОЕКТ</a:t>
            </a:r>
            <a:br>
              <a:rPr sz="2400"/>
            </a:b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ошу к форме 12 приложить справку по строчкам </a:t>
            </a:r>
            <a:br>
              <a:rPr sz="2400"/>
            </a:b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6.0, 6.1, 6.2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АВК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___________________субъект РФ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6.0 на конец прошлого года графа 15=____, из них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шли по возрасту в текущем году ___, графа 8=____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ято с учета по всем причинам _____.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6.1 на конец прошлого года графа 15=____, из них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шли по возрасту в текущем году ___, графа 8=____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ято с учета по всем причинам _____.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6.2 на конец прошлого года графа 15=____, из них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шли по возрасту в текущем году ___, графа 8=____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ято с учета по всем причинам _____.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360360" y="1628640"/>
          <a:ext cx="8432640" cy="4869000"/>
        </p:xfrm>
        <a:graphic>
          <a:graphicData uri="http://schemas.openxmlformats.org/drawingml/2006/table">
            <a:tbl>
              <a:tblPr/>
              <a:tblGrid>
                <a:gridCol w="2003400"/>
                <a:gridCol w="681120"/>
                <a:gridCol w="357120"/>
                <a:gridCol w="623880"/>
                <a:gridCol w="519120"/>
                <a:gridCol w="487440"/>
                <a:gridCol w="465120"/>
                <a:gridCol w="487440"/>
                <a:gridCol w="582480"/>
                <a:gridCol w="584280"/>
                <a:gridCol w="465120"/>
                <a:gridCol w="465120"/>
                <a:gridCol w="711000"/>
              </a:tblGrid>
              <a:tr h="457200">
                <a:tc rowSpan="3"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болезней</a:t>
                      </a:r>
                      <a:endParaRPr b="1" lang="en-US" sz="10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</a:t>
                      </a:r>
                      <a:endParaRPr b="1" lang="en-US" sz="10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МКБ-10 (класс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адаптиро-ванный для использова-</a:t>
                      </a:r>
                      <a:endParaRPr b="1" lang="en-US" sz="10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я в РФ)</a:t>
                      </a:r>
                      <a:endParaRPr b="1" lang="en-US" sz="10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1" lang="en-US" sz="10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-ки</a:t>
                      </a:r>
                      <a:endParaRPr b="1" lang="en-US" sz="10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ято под наблюдение в отчетном году</a:t>
                      </a:r>
                      <a:endParaRPr b="1" lang="en-US" sz="10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с впервые в жизни установленным диагнозом</a:t>
                      </a:r>
                      <a:endParaRPr b="1" lang="en-US" sz="10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нято с наблюдения в отчетном году</a:t>
                      </a:r>
                      <a:endParaRPr b="1" lang="en-US" sz="10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оит под наблюдением больных на конец отчетного года</a:t>
                      </a:r>
                      <a:endParaRPr b="1" lang="en-US" sz="10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числа больных, показанных </a:t>
                      </a:r>
                      <a:endParaRPr b="1" lang="en-US" sz="10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гр.10, переведено в течение года из группы больных, получавших консультативно-лечебную помощь </a:t>
                      </a:r>
                      <a:endParaRPr b="1" lang="en-US" sz="10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1" lang="en-US" sz="10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1" lang="en-US" sz="10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1" lang="en-US" sz="10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в связи с выздо-ровле-нием или стойким улучше-нием</a:t>
                      </a:r>
                      <a:endParaRPr b="1" lang="en-US" sz="10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1" lang="en-US" sz="10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1" lang="en-US" sz="10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14 лет включи-тельно</a:t>
                      </a:r>
                      <a:endParaRPr b="1" lang="en-US" sz="10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о-стков</a:t>
                      </a:r>
                      <a:endParaRPr b="1" lang="en-US" sz="10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14 лет включи-тельно</a:t>
                      </a:r>
                      <a:endParaRPr b="1" lang="en-US" sz="10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о-стков</a:t>
                      </a:r>
                      <a:endParaRPr b="1" lang="en-US" sz="10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>
                  <a:txBody>
                    <a:bodyPr lIns="42840" rIns="428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10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10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10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10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lang="en-US" sz="10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lang="en-US" sz="10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lang="en-US" sz="10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lang="en-US" sz="10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lang="en-US" sz="10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lang="en-US" sz="10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lang="en-US" sz="10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lang="en-US" sz="10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lang="en-US" sz="10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42840" rIns="42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ческие расстройства - всего</a:t>
                      </a:r>
                      <a:endParaRPr b="1" lang="en-US" sz="10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00-F09,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20-F99</a:t>
                      </a:r>
                      <a:endParaRPr b="1" lang="en-US" sz="10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10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42840" rIns="42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роме</a:t>
                      </a:r>
                      <a:endParaRPr b="1" lang="en-US" sz="10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*****</a:t>
                      </a:r>
                      <a:endParaRPr b="1" lang="en-US" sz="10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10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42840" rIns="42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зы и (или) состояния слабоумия </a:t>
                      </a:r>
                      <a:endParaRPr b="1" lang="en-US" sz="10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-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,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 (часть), </a:t>
                      </a:r>
                      <a:endParaRPr b="1" lang="en-US" sz="10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10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640">
                <a:tc>
                  <a:txBody>
                    <a:bodyPr lIns="42840" rIns="42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роме</a:t>
                      </a:r>
                      <a:endParaRPr b="1" lang="en-US" sz="10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*****</a:t>
                      </a:r>
                      <a:endParaRPr b="1" lang="en-US" sz="10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10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Rectangle 1"/>
          <p:cNvSpPr/>
          <p:nvPr/>
        </p:nvSpPr>
        <p:spPr>
          <a:xfrm>
            <a:off x="493560" y="-22680"/>
            <a:ext cx="832032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Dinm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36</a:t>
            </a:r>
            <a:endParaRPr b="1" lang="en-US" sz="2000" spc="-1" strike="noStrike">
              <a:solidFill>
                <a:srgbClr val="cc0000"/>
              </a:solidFill>
              <a:latin typeface="Dinm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ингенты больных, находящихся под диспансерным наблюдением</a:t>
            </a:r>
            <a:endParaRPr b="1" lang="en-US" sz="2000" spc="-1" strike="noStrike">
              <a:solidFill>
                <a:srgbClr val="cc0000"/>
              </a:solidFill>
              <a:latin typeface="Dinm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100)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endParaRPr b="1" lang="en-US" sz="2400" spc="-1" strike="noStrike">
              <a:solidFill>
                <a:srgbClr val="cc0000"/>
              </a:solidFill>
              <a:latin typeface="Dinmed"/>
            </a:endParaRPr>
          </a:p>
        </p:txBody>
      </p:sp>
      <p:sp>
        <p:nvSpPr>
          <p:cNvPr id="196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60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00*</a:t>
            </a:r>
            <a:br>
              <a:rPr sz="2000"/>
            </a:b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Деменция при болезни Альцгеймера (G30.-+)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02*</a:t>
            </a:r>
            <a:br>
              <a:rPr sz="2000"/>
            </a:b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Деменция при других болезнях, классифицированных в других рубриках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30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знь Альцгеймера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30.1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дняя болезнь Альцгеймер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30.8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е формы болезни Альцгеймера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30.9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знь Альцгеймера неуточненная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20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знь Паркинсона</a:t>
            </a:r>
            <a:br>
              <a:rPr sz="2000"/>
            </a:br>
            <a:br>
              <a:rPr sz="2000"/>
            </a:br>
            <a:r>
              <a:rPr b="1" lang="ru-RU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Диагнозы по неврологии показываются по </a:t>
            </a:r>
            <a:br>
              <a:rPr sz="2800"/>
            </a:br>
            <a:r>
              <a:rPr b="1" lang="ru-RU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строчке 7.0, в психиатрии не показываются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98520" y="333000"/>
            <a:ext cx="82296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6. Болезни нервной системы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00-G99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84464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7.0.  Вегетативные расстройства, которые проявляются в нарушении регуляции сердечно-сосудистой, дыхательной и др. систем организма, могут быть синдромом таких заболеваний, как: гипертоническая болезнь, хроническая ишемическая болезнь сердца, эндокринные нарушения и т.д. В этом случае учету подлежит основное заболевание. Расстройства вегетативной нервной системы кодируются G90.8, соматоформная дисфункция вегетативной нервной системы F45.3 (диагноз ставит психиатр)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и 7.6 и 7.9 всегда больше суммы подстрочников. У взрослых в строку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9 должны быть включены последствия травм, ОНМК в виде парезов, параличе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исьмо МЗиСР РФ от 26 апреля 2011 г. №14-9/10/2-4150)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br>
              <a:rPr sz="900"/>
            </a:br>
            <a:br>
              <a:rPr sz="9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7. Болезни глаза и его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даточного аппарата. Н00-Н59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23640" y="1844280"/>
            <a:ext cx="856908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8.0 в графе «диспансерные» показываются: миопия и гипермет-ропия средней и высокой степени, паралитическое и не аккомадационное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оглазие, сложный астигматизм ….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опия и гиперметропия лёгкой степени, аккомадационный астигматизм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зм аккомодации и др. показываются только по графам «всего и впервые»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е 8.3 и 8.8 показывать катаракту и глаукому только приобретенные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рожденные соответственно показать по классу Q)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8.12 включает в себя слепоту на один глаз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11120" y="54900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8. Болезни уха и сосцевидного отростка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60-Н95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2952360"/>
            <a:ext cx="822960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9.4 – включать врожденную глухоту (код H90.X), одностороннюю и смешанную тугоухость. Таким образом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должна быть больше суммы своих подстрочников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9. Болезни системы кровообращения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00-I99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27200" y="1600200"/>
            <a:ext cx="795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ы  с  острой  ревматической лихорадкой наблюдаются в течение 3-х месяцев, поэтому в графе 13 таблиц 1000, 2000, 3000 и 4000 показывают только тех пациентов, которые заболели в четвертом ква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ле отчетного года. Графа 4 таблиц 1000, 2000, 3000 и 4000 должн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ть равна графе 7 по строке 10.1. Если заболевание перешло в хрон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скую форму, то пациента по строке 10.1 с учета снимают, а по стр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 10.2 берут на учет, как впервые выявленное хроническое заболев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е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0.2 (хронические ревматические болезни сердца) Если было обострение заболевания, то учитывается по строке 10.1, а в строку 10.2 не включается (регистрируется с (+) талоном). </a:t>
            </a:r>
            <a:br>
              <a:rPr sz="2000"/>
            </a:b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38360" y="274320"/>
            <a:ext cx="7781760" cy="59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ичные гипертензии не учитываются в 12 форме. Статталон не заполняется, а кодируется основное забол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ние. Пример: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ребральны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еросклероз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ич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й гипертензие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I67.2; или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ребральный атероскле-роз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ертоническая болезн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2 талона (I67.2 и I10)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осятся по двум строкам – строк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строка 10.3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920" y="549360"/>
            <a:ext cx="86421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федерального статистического наблюдения  № 12 «Сведения о числе заболеваний, зарегистрированных у пациентов, проживаю-щих в районе обслуживания медицинской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и», составляется всеми медицинскими организациями,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ходящие в номенклатуру медицинских организаций,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ывающие медицинскую помощь в амбулаторных условия (приказ Минздрава России от 6 августа 2013 г. № 529н «Об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ерждении номенклатуры медицинских организаций»,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регистрирован Министерством юстиции Российской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ции 13.09.2013 № 29950), в соответствии с приказом от 21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юля 2016 года № 355 «Об утверждении статистического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ментария для организации Министерством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оохранения Российской Федерации федерального статистичес-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о наблюдения в сфере охраны здоровья» Федеральной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жбы государственной статистики. </a:t>
            </a:r>
            <a:br>
              <a:rPr sz="2200"/>
            </a:br>
            <a:br>
              <a:rPr sz="24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br>
              <a:rPr sz="1200"/>
            </a:b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 rot="10800000">
            <a:off x="672480" y="6858000"/>
            <a:ext cx="7777080" cy="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720" bIns="-7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03080" y="1412640"/>
            <a:ext cx="793908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굴림"/>
              </a:rPr>
              <a:t>    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нокардия (таблицы 2000, 3000 и 4000, строка 10.4.1) регистрируется как самостоятельное заболевание, впервые выявленное – первый раз в жизни (+), а затем – один раз в год со знаком (–).     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лучаи приступов стенокардии при атеросклеротичес-</a:t>
            </a:r>
            <a:br>
              <a:rPr sz="2400"/>
            </a:b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ой болезни сердца как самостоятельные заболевания не </a:t>
            </a:r>
            <a:br>
              <a:rPr sz="2400"/>
            </a:b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егистрируются. Графы 4 и 9 не равны.</a:t>
            </a:r>
            <a:br>
              <a:rPr sz="2400"/>
            </a:br>
            <a:br>
              <a:rPr sz="2800"/>
            </a:br>
            <a:br>
              <a:rPr sz="1800"/>
            </a:br>
            <a:r>
              <a:rPr b="0" lang="ru-RU" sz="16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16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굴림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6524280"/>
            <a:ext cx="6400800" cy="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" bIns="26280"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Строка 10.4.1.1 – </a:t>
            </a:r>
            <a:r>
              <a:rPr b="0" lang="en-US" sz="4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I20.0 –</a:t>
            </a:r>
            <a:r>
              <a:rPr b="0" lang="ru-RU" sz="4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НЕСТАБИЛЬНАЯ СТЕНОКАРДИЯ</a:t>
            </a:r>
            <a:br>
              <a:rPr sz="4000"/>
            </a:br>
            <a:r>
              <a:rPr b="0" lang="ru-RU" sz="4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регистрируется раз в год</a:t>
            </a:r>
            <a:br>
              <a:rPr sz="40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яются графы 4 и 9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а 4 = графе 9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 txBox="1"/>
          <p:nvPr/>
        </p:nvSpPr>
        <p:spPr>
          <a:xfrm rot="10800000">
            <a:off x="457200" y="6626160"/>
            <a:ext cx="8229600" cy="1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2320"/>
            <a:ext cx="822960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04440" y="1600200"/>
            <a:ext cx="803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табильная стенокардия – острое состояние   (впервые равно всего), Д-наблюдение либо по I25.8 (при переходе в ОИМ), либо по I20 (стр. 10.4.1) –  при стабилизации состояния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-37440"/>
            <a:ext cx="822960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528480" y="836280"/>
            <a:ext cx="829152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굴림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ы с острыми, повторными инфарктами миокарда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рыми нарушениями мозгового кровообращения наблюда-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тся в течение 28 дней, а затем снимаются с диспансерного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а, поэтому в графе 15 таблиц 2000, 3000 и 4000 отмечают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тех пациентов, которые заболели в декабре месяце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0.5 включает пролапс митрального клапана (код I34.1) 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0.5.4 включает только идиопати-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ские (самостоятельные) формы заболева-ний.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280"/>
            <a:ext cx="822960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аркт миокарда всегда первичный (+), с (-) нет. Сколько инфарктов миокарда в году больной перенёс, столько должно и быть талонов с (+)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от начала заболевания уже прошло 28 дней, то его показывать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в графах 4 и 9, а диспансерных по ишемической болезни сердца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а 15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Впервые выявленный постинфарктный кардиосклероз включает в себя состояния развившиеся только после острого инфаркта миокарда.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40"/>
            <a:ext cx="822960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и 10.6.1 – 10.6.4 острое нарушение мозгового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вообращения всегда первичный (+), с (-) нет. Таким обра-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м, гр. 4 всегда равна гр. 9. По диагнозу «Инсульт» больные подлежат диспансерному наблюдению по гр. 15  на протяже-нии 30 дней от момента начальных проявлений или более в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елах одного эпизода лечения. В дальнейшем диспансер-ное наблюдение осуществляется по последствиям инсульта – парезы, параличи, энцефалопатия, речевые нарушения и т.д. Необходимо помнить, что код I69 – используется только по- смертно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0.8.2 - не включать флебит портальной вены (K75.1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549360"/>
            <a:ext cx="828036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0.6.7 «последствия цереброваскулярных бо-лезней» диагноз используется только в случае смер-ти пациента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В строке 10.6.7 заполняются графы 4, 9 и они равны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77720" y="6013440"/>
            <a:ext cx="819144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2050920" y="549360"/>
            <a:ext cx="5042160" cy="10792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Dinmed"/>
              </a:rPr>
              <a:t>КОДИРОВАНИЕ ОСТРЫХ </a:t>
            </a:r>
            <a:endParaRPr b="1" lang="en-US" sz="2000" spc="-1" strike="noStrike">
              <a:solidFill>
                <a:srgbClr val="cc0000"/>
              </a:solidFill>
              <a:latin typeface="Dinme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Dinmed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Dinmed"/>
              </a:rPr>
              <a:t>ЦЕРЕБРОВАСКУЛЯРНЫХ БОЛЕЗНЕЙ </a:t>
            </a:r>
            <a:endParaRPr b="1" lang="en-US" sz="2000" spc="-1" strike="noStrike">
              <a:solidFill>
                <a:srgbClr val="cc0000"/>
              </a:solidFill>
              <a:latin typeface="Dinme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Dinmed"/>
              </a:rPr>
              <a:t>И ИХ ПОСЛЕДСТВИЙ</a:t>
            </a:r>
            <a:endParaRPr b="1" lang="en-US" sz="2000" spc="-1" strike="noStrike">
              <a:solidFill>
                <a:srgbClr val="cc0000"/>
              </a:solidFill>
              <a:latin typeface="Dinmed"/>
            </a:endParaRPr>
          </a:p>
        </p:txBody>
      </p:sp>
      <p:sp>
        <p:nvSpPr>
          <p:cNvPr id="237" name="AutoShape 3"/>
          <p:cNvSpPr/>
          <p:nvPr/>
        </p:nvSpPr>
        <p:spPr>
          <a:xfrm>
            <a:off x="2230560" y="1628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Dinmed"/>
            </a:endParaRPr>
          </a:p>
        </p:txBody>
      </p:sp>
      <p:sp>
        <p:nvSpPr>
          <p:cNvPr id="238" name="Oval 4"/>
          <p:cNvSpPr/>
          <p:nvPr/>
        </p:nvSpPr>
        <p:spPr>
          <a:xfrm>
            <a:off x="1332000" y="2030400"/>
            <a:ext cx="2160360" cy="1398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cc0000"/>
              </a:solidFill>
              <a:latin typeface="Dinme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cc0000"/>
              </a:solidFill>
              <a:latin typeface="Dinmed"/>
            </a:endParaRPr>
          </a:p>
        </p:txBody>
      </p:sp>
      <p:sp>
        <p:nvSpPr>
          <p:cNvPr id="239" name="AutoShape 5"/>
          <p:cNvSpPr/>
          <p:nvPr/>
        </p:nvSpPr>
        <p:spPr>
          <a:xfrm>
            <a:off x="4572000" y="1628640"/>
            <a:ext cx="360360" cy="1440000"/>
          </a:xfrm>
          <a:prstGeom prst="downArrow">
            <a:avLst>
              <a:gd name="adj1" fmla="val 50000"/>
              <a:gd name="adj2" fmla="val 999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Dinmed"/>
            </a:endParaRPr>
          </a:p>
        </p:txBody>
      </p:sp>
      <p:sp>
        <p:nvSpPr>
          <p:cNvPr id="240" name="AutoShape 6"/>
          <p:cNvSpPr/>
          <p:nvPr/>
        </p:nvSpPr>
        <p:spPr>
          <a:xfrm>
            <a:off x="6732720" y="1628640"/>
            <a:ext cx="360360" cy="360360"/>
          </a:xfrm>
          <a:prstGeom prst="downArrow">
            <a:avLst>
              <a:gd name="adj1" fmla="val 50000"/>
              <a:gd name="adj2" fmla="val 249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Dinmed"/>
            </a:endParaRPr>
          </a:p>
        </p:txBody>
      </p:sp>
      <p:sp>
        <p:nvSpPr>
          <p:cNvPr id="241" name="Oval 7"/>
          <p:cNvSpPr/>
          <p:nvPr/>
        </p:nvSpPr>
        <p:spPr>
          <a:xfrm>
            <a:off x="6012000" y="2030400"/>
            <a:ext cx="1800000" cy="1173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Dinmed"/>
            </a:endParaRPr>
          </a:p>
        </p:txBody>
      </p:sp>
      <p:sp>
        <p:nvSpPr>
          <p:cNvPr id="242" name="Text Box 8"/>
          <p:cNvSpPr/>
          <p:nvPr/>
        </p:nvSpPr>
        <p:spPr>
          <a:xfrm>
            <a:off x="1332000" y="2349360"/>
            <a:ext cx="21603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c0000"/>
                </a:solidFill>
                <a:latin typeface="Dinmed"/>
              </a:rPr>
              <a:t>ПАЦИЕНТЫ, НАХОДЯЩИЕСЯ ПОД НАБЛЮДЕНИЕМ И СЛУЧАИ ЛЕТАЛЬНОГО ИСХОДА В СРОКИ ДО 30 СУТОК</a:t>
            </a:r>
            <a:endParaRPr b="1" lang="en-US" sz="1000" spc="-1" strike="noStrike">
              <a:solidFill>
                <a:srgbClr val="cc0000"/>
              </a:solidFill>
              <a:latin typeface="Dinmed"/>
            </a:endParaRPr>
          </a:p>
        </p:txBody>
      </p:sp>
      <p:sp>
        <p:nvSpPr>
          <p:cNvPr id="243" name="Text Box 9"/>
          <p:cNvSpPr/>
          <p:nvPr/>
        </p:nvSpPr>
        <p:spPr>
          <a:xfrm>
            <a:off x="6012000" y="2349360"/>
            <a:ext cx="1800000" cy="7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c0000"/>
                </a:solidFill>
                <a:latin typeface="Dinmed"/>
              </a:rPr>
              <a:t>СЛУЧАИ ЛЕТАЛЬНОГО ИСХОДА В СРОКИ 30 СУТОК И БОЛЕЕ</a:t>
            </a:r>
            <a:endParaRPr b="1" lang="en-US" sz="1000" spc="-1" strike="noStrike">
              <a:solidFill>
                <a:srgbClr val="cc0000"/>
              </a:solidFill>
              <a:latin typeface="Dinmed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cc0000"/>
              </a:solidFill>
              <a:latin typeface="Dinmed"/>
            </a:endParaRPr>
          </a:p>
        </p:txBody>
      </p:sp>
      <p:sp>
        <p:nvSpPr>
          <p:cNvPr id="244" name="AutoShape 10"/>
          <p:cNvSpPr/>
          <p:nvPr/>
        </p:nvSpPr>
        <p:spPr>
          <a:xfrm>
            <a:off x="1332000" y="3189240"/>
            <a:ext cx="360360" cy="477720"/>
          </a:xfrm>
          <a:prstGeom prst="downArrow">
            <a:avLst>
              <a:gd name="adj1" fmla="val 50000"/>
              <a:gd name="adj2" fmla="val 3306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Dinmed"/>
            </a:endParaRPr>
          </a:p>
        </p:txBody>
      </p:sp>
      <p:sp>
        <p:nvSpPr>
          <p:cNvPr id="245" name="AutoShape 11"/>
          <p:cNvSpPr/>
          <p:nvPr/>
        </p:nvSpPr>
        <p:spPr>
          <a:xfrm>
            <a:off x="7451640" y="3068640"/>
            <a:ext cx="360360" cy="360360"/>
          </a:xfrm>
          <a:prstGeom prst="downArrow">
            <a:avLst>
              <a:gd name="adj1" fmla="val 50000"/>
              <a:gd name="adj2" fmla="val 249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Dinmed"/>
            </a:endParaRPr>
          </a:p>
        </p:txBody>
      </p:sp>
      <p:sp>
        <p:nvSpPr>
          <p:cNvPr id="246" name="AutoShape 12"/>
          <p:cNvSpPr/>
          <p:nvPr/>
        </p:nvSpPr>
        <p:spPr>
          <a:xfrm>
            <a:off x="611280" y="3666960"/>
            <a:ext cx="1800000" cy="120204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Dinmed"/>
            </a:endParaRPr>
          </a:p>
        </p:txBody>
      </p:sp>
      <p:sp>
        <p:nvSpPr>
          <p:cNvPr id="247" name="AutoShape 13"/>
          <p:cNvSpPr/>
          <p:nvPr/>
        </p:nvSpPr>
        <p:spPr>
          <a:xfrm>
            <a:off x="6732720" y="3429000"/>
            <a:ext cx="1800000" cy="10796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Dinmed"/>
            </a:endParaRPr>
          </a:p>
        </p:txBody>
      </p:sp>
      <p:sp>
        <p:nvSpPr>
          <p:cNvPr id="248" name="Text Box 14"/>
          <p:cNvSpPr/>
          <p:nvPr/>
        </p:nvSpPr>
        <p:spPr>
          <a:xfrm>
            <a:off x="7093080" y="3789360"/>
            <a:ext cx="107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Dinmed"/>
            </a:endParaRPr>
          </a:p>
        </p:txBody>
      </p:sp>
      <p:sp>
        <p:nvSpPr>
          <p:cNvPr id="249" name="Text Box 15"/>
          <p:cNvSpPr/>
          <p:nvPr/>
        </p:nvSpPr>
        <p:spPr>
          <a:xfrm>
            <a:off x="6732720" y="3619440"/>
            <a:ext cx="1800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Dinmed"/>
              </a:rPr>
              <a:t>КОД </a:t>
            </a:r>
            <a:r>
              <a:rPr b="1" lang="en-US" sz="2000" spc="-1" strike="noStrike">
                <a:solidFill>
                  <a:srgbClr val="cc0000"/>
                </a:solidFill>
                <a:latin typeface="Dinmed"/>
              </a:rPr>
              <a:t>I69</a:t>
            </a:r>
            <a:r>
              <a:rPr b="1" lang="en-US" sz="1200" spc="-1" strike="noStrike">
                <a:solidFill>
                  <a:srgbClr val="cc0000"/>
                </a:solidFill>
                <a:latin typeface="Dinmed"/>
              </a:rPr>
              <a:t> </a:t>
            </a:r>
            <a:r>
              <a:rPr b="1" lang="ru-RU" sz="1200" spc="-1" strike="noStrike">
                <a:solidFill>
                  <a:srgbClr val="cc0000"/>
                </a:solidFill>
                <a:latin typeface="Dinmed"/>
              </a:rPr>
              <a:t>с соответствующими четвертыми знакам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  <p:sp>
        <p:nvSpPr>
          <p:cNvPr id="250" name="Text Box 16"/>
          <p:cNvSpPr/>
          <p:nvPr/>
        </p:nvSpPr>
        <p:spPr>
          <a:xfrm>
            <a:off x="611280" y="3789360"/>
            <a:ext cx="1800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Dinmed"/>
              </a:rPr>
              <a:t>КОДЫ</a:t>
            </a:r>
            <a:r>
              <a:rPr b="1" lang="ru-RU" sz="2000" spc="-1" strike="noStrike">
                <a:solidFill>
                  <a:srgbClr val="cc0000"/>
                </a:solidFill>
                <a:latin typeface="Dinmed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Dinmed"/>
              </a:rPr>
              <a:t>I60-I64</a:t>
            </a:r>
            <a:r>
              <a:rPr b="1" lang="en-US" sz="1200" spc="-1" strike="noStrike">
                <a:solidFill>
                  <a:srgbClr val="cc0000"/>
                </a:solidFill>
                <a:latin typeface="Dinmed"/>
              </a:rPr>
              <a:t> </a:t>
            </a:r>
            <a:r>
              <a:rPr b="1" lang="ru-RU" sz="1200" spc="-1" strike="noStrike">
                <a:solidFill>
                  <a:srgbClr val="cc0000"/>
                </a:solidFill>
                <a:latin typeface="Dinmed"/>
              </a:rPr>
              <a:t>с соответствующими четвертыми знакам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  <p:sp>
        <p:nvSpPr>
          <p:cNvPr id="251" name="filecab2"/>
          <p:cNvSpPr/>
          <p:nvPr/>
        </p:nvSpPr>
        <p:spPr>
          <a:xfrm>
            <a:off x="3492360" y="3068640"/>
            <a:ext cx="2519640" cy="1044720"/>
          </a:xfrm>
          <a:custGeom>
            <a:avLst/>
            <a:gdLst>
              <a:gd name="textAreaLeft" fmla="*/ 117000 w 2519640"/>
              <a:gd name="textAreaRight" fmla="*/ 2396520 w 2519640"/>
              <a:gd name="textAreaTop" fmla="*/ 24480 h 1044720"/>
              <a:gd name="textAreaBottom" fmla="*/ 956160 h 104472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0" y="0"/>
                </a:lnTo>
                <a:lnTo>
                  <a:pt x="0" y="10800"/>
                </a:lnTo>
                <a:lnTo>
                  <a:pt x="0" y="20367"/>
                </a:lnTo>
                <a:lnTo>
                  <a:pt x="5807" y="20367"/>
                </a:lnTo>
                <a:lnTo>
                  <a:pt x="5807" y="20637"/>
                </a:lnTo>
                <a:lnTo>
                  <a:pt x="5970" y="20818"/>
                </a:lnTo>
                <a:lnTo>
                  <a:pt x="6133" y="20968"/>
                </a:lnTo>
                <a:lnTo>
                  <a:pt x="6404" y="21239"/>
                </a:lnTo>
                <a:lnTo>
                  <a:pt x="6567" y="21419"/>
                </a:lnTo>
                <a:lnTo>
                  <a:pt x="7055" y="21510"/>
                </a:lnTo>
                <a:lnTo>
                  <a:pt x="7544" y="21600"/>
                </a:lnTo>
                <a:lnTo>
                  <a:pt x="8141" y="21600"/>
                </a:lnTo>
                <a:lnTo>
                  <a:pt x="10800" y="21600"/>
                </a:lnTo>
                <a:lnTo>
                  <a:pt x="13188" y="21600"/>
                </a:lnTo>
                <a:lnTo>
                  <a:pt x="13948" y="21600"/>
                </a:lnTo>
                <a:lnTo>
                  <a:pt x="14436" y="21510"/>
                </a:lnTo>
                <a:lnTo>
                  <a:pt x="14708" y="21419"/>
                </a:lnTo>
                <a:lnTo>
                  <a:pt x="15033" y="21239"/>
                </a:lnTo>
                <a:lnTo>
                  <a:pt x="15359" y="20968"/>
                </a:lnTo>
                <a:lnTo>
                  <a:pt x="15522" y="20818"/>
                </a:lnTo>
                <a:lnTo>
                  <a:pt x="15684" y="20637"/>
                </a:lnTo>
                <a:lnTo>
                  <a:pt x="15684" y="20367"/>
                </a:lnTo>
                <a:lnTo>
                  <a:pt x="21600" y="20367"/>
                </a:lnTo>
                <a:lnTo>
                  <a:pt x="21600" y="10800"/>
                </a:lnTo>
                <a:lnTo>
                  <a:pt x="21600" y="0"/>
                </a:lnTo>
                <a:lnTo>
                  <a:pt x="10800" y="0"/>
                </a:lnTo>
                <a:close/>
                <a:moveTo>
                  <a:pt x="7055" y="20367"/>
                </a:moveTo>
                <a:lnTo>
                  <a:pt x="7055" y="20547"/>
                </a:lnTo>
                <a:lnTo>
                  <a:pt x="7055" y="20637"/>
                </a:lnTo>
                <a:lnTo>
                  <a:pt x="7218" y="20728"/>
                </a:lnTo>
                <a:lnTo>
                  <a:pt x="7381" y="20818"/>
                </a:lnTo>
                <a:lnTo>
                  <a:pt x="7544" y="20908"/>
                </a:lnTo>
                <a:lnTo>
                  <a:pt x="7707" y="20968"/>
                </a:lnTo>
                <a:lnTo>
                  <a:pt x="7815" y="20968"/>
                </a:lnTo>
                <a:lnTo>
                  <a:pt x="8141" y="20968"/>
                </a:lnTo>
                <a:lnTo>
                  <a:pt x="13188" y="20968"/>
                </a:lnTo>
                <a:lnTo>
                  <a:pt x="13459" y="20968"/>
                </a:lnTo>
                <a:lnTo>
                  <a:pt x="13785" y="20968"/>
                </a:lnTo>
                <a:lnTo>
                  <a:pt x="13948" y="20908"/>
                </a:lnTo>
                <a:lnTo>
                  <a:pt x="14111" y="20818"/>
                </a:lnTo>
                <a:lnTo>
                  <a:pt x="14273" y="20728"/>
                </a:lnTo>
                <a:lnTo>
                  <a:pt x="14273" y="20637"/>
                </a:lnTo>
                <a:lnTo>
                  <a:pt x="14436" y="20547"/>
                </a:lnTo>
                <a:lnTo>
                  <a:pt x="14436" y="20367"/>
                </a:lnTo>
                <a:lnTo>
                  <a:pt x="7055" y="20367"/>
                </a:lnTo>
                <a:close/>
              </a:path>
              <a:path w="21600" h="21600">
                <a:moveTo>
                  <a:pt x="7055" y="20367"/>
                </a:moveTo>
                <a:lnTo>
                  <a:pt x="5807" y="20367"/>
                </a:lnTo>
                <a:lnTo>
                  <a:pt x="21600" y="20367"/>
                </a:lnTo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cc0000"/>
              </a:solidFill>
              <a:latin typeface="Dinmed"/>
            </a:endParaRPr>
          </a:p>
        </p:txBody>
      </p:sp>
      <p:sp>
        <p:nvSpPr>
          <p:cNvPr id="252" name="Rectangle 18"/>
          <p:cNvSpPr/>
          <p:nvPr/>
        </p:nvSpPr>
        <p:spPr>
          <a:xfrm>
            <a:off x="3492360" y="3189240"/>
            <a:ext cx="25196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c0000"/>
                </a:solidFill>
                <a:latin typeface="Dinmed"/>
              </a:rPr>
              <a:t>У ПАЦИЕНТОВ, НАХОДЯЩИХСЯ ПОД НАБЛЮДЕНИЕМ С ПОСЛЕДСТВИЯМИ ОСТРЫХ ЦВБ В СРОКИ 30 СУТОК И БОЛЕЕ</a:t>
            </a:r>
            <a:endParaRPr b="1" lang="en-US" sz="1000" spc="-1" strike="noStrike">
              <a:solidFill>
                <a:srgbClr val="cc0000"/>
              </a:solidFill>
              <a:latin typeface="Dinmed"/>
            </a:endParaRPr>
          </a:p>
        </p:txBody>
      </p:sp>
      <p:sp>
        <p:nvSpPr>
          <p:cNvPr id="253" name="AutoShape 19"/>
          <p:cNvSpPr/>
          <p:nvPr/>
        </p:nvSpPr>
        <p:spPr>
          <a:xfrm>
            <a:off x="4572000" y="4113360"/>
            <a:ext cx="360360" cy="395280"/>
          </a:xfrm>
          <a:prstGeom prst="downArrow">
            <a:avLst>
              <a:gd name="adj1" fmla="val 50000"/>
              <a:gd name="adj2" fmla="val 274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Dinmed"/>
            </a:endParaRPr>
          </a:p>
        </p:txBody>
      </p:sp>
      <p:sp>
        <p:nvSpPr>
          <p:cNvPr id="254" name="AutoShape 20"/>
          <p:cNvSpPr/>
          <p:nvPr/>
        </p:nvSpPr>
        <p:spPr>
          <a:xfrm>
            <a:off x="3132000" y="4508640"/>
            <a:ext cx="3240360" cy="180000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Dinmed"/>
            </a:endParaRPr>
          </a:p>
        </p:txBody>
      </p:sp>
      <p:sp>
        <p:nvSpPr>
          <p:cNvPr id="255" name="Text Box 21"/>
          <p:cNvSpPr/>
          <p:nvPr/>
        </p:nvSpPr>
        <p:spPr>
          <a:xfrm>
            <a:off x="3492360" y="4869000"/>
            <a:ext cx="25196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Dinmed"/>
            </a:endParaRPr>
          </a:p>
        </p:txBody>
      </p:sp>
      <p:sp>
        <p:nvSpPr>
          <p:cNvPr id="256" name="Text Box 22"/>
          <p:cNvSpPr/>
          <p:nvPr/>
        </p:nvSpPr>
        <p:spPr>
          <a:xfrm>
            <a:off x="3132000" y="4834080"/>
            <a:ext cx="3240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Dinmed"/>
              </a:rPr>
              <a:t>КОДИРУЮТСЯ ОСТАТОЧНЫЕ СОМАТИЧЕСКИЕ СОСТОЯНИЯ  ОСТРЫХ ЦЕРЕБРОВАСКУЛЯРНЫХ БОЛЕЗНЕЙ</a:t>
            </a:r>
            <a:endParaRPr b="1" lang="en-US" sz="14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53416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굴림"/>
              </a:rPr>
              <a:t>Последствия инсульта</a:t>
            </a:r>
            <a:br>
              <a:rPr sz="4000"/>
            </a:br>
            <a:r>
              <a:rPr b="1" lang="ru-RU" sz="1800" spc="-1" strike="noStrike">
                <a:solidFill>
                  <a:srgbClr val="ff0000"/>
                </a:solidFill>
                <a:latin typeface="굴림"/>
              </a:rPr>
              <a:t>(ишемического, геморрагического, неуточненного)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굴림"/>
              </a:rPr>
              <a:t>[</a:t>
            </a:r>
            <a:r>
              <a:rPr b="1" lang="ru-RU" sz="1800" spc="-1" strike="noStrike">
                <a:solidFill>
                  <a:srgbClr val="ff0000"/>
                </a:solidFill>
                <a:latin typeface="굴림"/>
              </a:rPr>
              <a:t>кодирование сформировавшегося нового состояния</a:t>
            </a:r>
            <a:r>
              <a:rPr b="1" lang="en-US" sz="1800" spc="-1" strike="noStrike">
                <a:solidFill>
                  <a:srgbClr val="ff0000"/>
                </a:solidFill>
                <a:latin typeface="굴림"/>
              </a:rPr>
              <a:t> ]</a:t>
            </a:r>
            <a:r>
              <a:rPr b="1" lang="ru-RU" sz="1600" spc="-1" strike="noStrike">
                <a:solidFill>
                  <a:srgbClr val="ff0000"/>
                </a:solidFill>
                <a:latin typeface="굴림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250560" y="1989000"/>
            <a:ext cx="43210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61800" indent="-36180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61800" indent="-36180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굴림"/>
              </a:rPr>
              <a:t>СОСТОЯНИЯ ПОДЛЕЖАЩИЕ КОДИРОВАНИЮ ПОСЛЕ ОКОНЧАНИЯ ОСТРОГО ПЕРИОД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61800" indent="-36180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굴림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굴림"/>
              </a:rPr>
              <a:t>(через 30 дней):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61800" indent="-361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61800" indent="-361800">
              <a:lnSpc>
                <a:spcPct val="80000"/>
              </a:lnSpc>
              <a:spcBef>
                <a:spcPts val="400"/>
              </a:spcBef>
              <a:buClr>
                <a:srgbClr val="3366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00"/>
                </a:solidFill>
                <a:latin typeface="굴림"/>
              </a:rPr>
              <a:t>1. Параличи и парезы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61800" indent="-361800">
              <a:lnSpc>
                <a:spcPct val="80000"/>
              </a:lnSpc>
              <a:spcBef>
                <a:spcPts val="400"/>
              </a:spcBef>
              <a:buClr>
                <a:srgbClr val="3366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00"/>
                </a:solidFill>
                <a:latin typeface="굴림"/>
              </a:rPr>
              <a:t>2. Изменения тонуса мышц      паретичных конечностей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61800" indent="-361800">
              <a:lnSpc>
                <a:spcPct val="80000"/>
              </a:lnSpc>
              <a:spcBef>
                <a:spcPts val="400"/>
              </a:spcBef>
              <a:buClr>
                <a:srgbClr val="3366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00"/>
                </a:solidFill>
                <a:latin typeface="굴림"/>
              </a:rPr>
              <a:t>3. Постинсультные трофические нарушения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61800" indent="-361800">
              <a:lnSpc>
                <a:spcPct val="80000"/>
              </a:lnSpc>
              <a:spcBef>
                <a:spcPts val="400"/>
              </a:spcBef>
              <a:buClr>
                <a:srgbClr val="3366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00"/>
                </a:solidFill>
                <a:latin typeface="굴림"/>
              </a:rPr>
              <a:t>4. Нарушение чувствительност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61800" indent="-361800">
              <a:lnSpc>
                <a:spcPct val="80000"/>
              </a:lnSpc>
              <a:spcBef>
                <a:spcPts val="400"/>
              </a:spcBef>
              <a:buClr>
                <a:srgbClr val="3366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00"/>
                </a:solidFill>
                <a:latin typeface="굴림"/>
              </a:rPr>
              <a:t>5. Центральный болевой синдро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61800" indent="-361800">
              <a:lnSpc>
                <a:spcPct val="80000"/>
              </a:lnSpc>
              <a:spcBef>
                <a:spcPts val="400"/>
              </a:spcBef>
              <a:buClr>
                <a:srgbClr val="3366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00"/>
                </a:solidFill>
                <a:latin typeface="굴림"/>
              </a:rPr>
              <a:t>6. Речевые нарушения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61800" indent="-361800">
              <a:lnSpc>
                <a:spcPct val="80000"/>
              </a:lnSpc>
              <a:spcBef>
                <a:spcPts val="400"/>
              </a:spcBef>
              <a:buClr>
                <a:srgbClr val="3366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00"/>
                </a:solidFill>
                <a:latin typeface="굴림"/>
              </a:rPr>
              <a:t>7. Нарушения высших психических функций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61800" indent="-361800">
              <a:lnSpc>
                <a:spcPct val="80000"/>
              </a:lnSpc>
              <a:spcBef>
                <a:spcPts val="400"/>
              </a:spcBef>
              <a:buClr>
                <a:srgbClr val="3366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00"/>
                </a:solidFill>
                <a:latin typeface="굴림"/>
              </a:rPr>
              <a:t>8. Зрительные нарушения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932000" y="2349000"/>
            <a:ext cx="375444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8560" indent="-4474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628560" indent="-4474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3300"/>
                </a:solidFill>
                <a:latin typeface="굴림"/>
              </a:rPr>
              <a:t>ВОЗМОЖНЫЕ ВТОРИЧНЫЕ ОСЛОЖНЕНИЯ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628560" indent="-4474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628560" indent="-447480">
              <a:lnSpc>
                <a:spcPct val="80000"/>
              </a:lnSpc>
              <a:spcBef>
                <a:spcPts val="400"/>
              </a:spcBef>
              <a:buClr>
                <a:srgbClr val="6633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굴림"/>
              </a:rPr>
              <a:t>Контрактуры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628560" indent="-447480">
              <a:lnSpc>
                <a:spcPct val="80000"/>
              </a:lnSpc>
              <a:spcBef>
                <a:spcPts val="400"/>
              </a:spcBef>
              <a:buClr>
                <a:srgbClr val="6633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굴림"/>
              </a:rPr>
              <a:t>Пневмони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628560" indent="-447480">
              <a:lnSpc>
                <a:spcPct val="80000"/>
              </a:lnSpc>
              <a:spcBef>
                <a:spcPts val="400"/>
              </a:spcBef>
              <a:buClr>
                <a:srgbClr val="6633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굴림"/>
              </a:rPr>
              <a:t>Пролежн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628560" indent="-447480">
              <a:lnSpc>
                <a:spcPct val="80000"/>
              </a:lnSpc>
              <a:spcBef>
                <a:spcPts val="400"/>
              </a:spcBef>
              <a:buClr>
                <a:srgbClr val="6633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굴림"/>
              </a:rPr>
              <a:t>Деменция (слабоумие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628560" indent="-447480">
              <a:lnSpc>
                <a:spcPct val="80000"/>
              </a:lnSpc>
              <a:spcBef>
                <a:spcPts val="400"/>
              </a:spcBef>
              <a:buClr>
                <a:srgbClr val="6633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굴림"/>
              </a:rPr>
              <a:t>Эпилепсия (судороги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628560" indent="-447480">
              <a:lnSpc>
                <a:spcPct val="80000"/>
              </a:lnSpc>
              <a:spcBef>
                <a:spcPts val="400"/>
              </a:spcBef>
              <a:buClr>
                <a:srgbClr val="6633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굴림"/>
              </a:rPr>
              <a:t>Нарушение функции тазовых органов (задержка или недержание мочи, кала) и др.</a:t>
            </a:r>
            <a:r>
              <a:rPr b="0" lang="ru-RU" sz="1600" spc="-1" strike="noStrike">
                <a:solidFill>
                  <a:srgbClr val="663300"/>
                </a:solidFill>
                <a:latin typeface="굴림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22160" y="60458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3640" y="1197000"/>
            <a:ext cx="85690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, имеющая в своем составе подразделения, оказывающие медицинскую помощь в амбула-торных условиях и ведущая только консультативный прием, составляет форму по соответствующим строкам лишь в том случае, если в данной организации у па-циентов не только выявляются эти заболевания, но  и осуществляется их лечение, а также и диспансерное наблюдение за пациентами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0" name=""/>
          <p:cNvGraphicFramePr/>
          <p:nvPr/>
        </p:nvGraphicFramePr>
        <p:xfrm>
          <a:off x="324000" y="1125360"/>
          <a:ext cx="8569080" cy="529452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73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рушение координации движений, общая слабость или даже паралич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Причем двигательная активность может быть нарушена, как полностью, так и частично (в зависимости от того, какие именно отделы головного мозга были поражены вследствие кровоизлияния).</a:t>
                      </a:r>
                      <a:endParaRPr b="1" lang="en-US" sz="14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рушения речи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Это также достаточно распространенная проблема, с которой сталкиваются многие люди, перенесшие геморрагический инсульт. Причем, помимо речи, у пациента могут возникать также сложности с чтением и письмом.</a:t>
                      </a:r>
                      <a:endParaRPr b="1" lang="en-US" sz="14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веденческие и психологические нарушения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Если человек перенес рассматриваемое заболевание, то у него могут наблюдаться неадекватные реакции на изменения условий окружающей среды. Кроме того, родственники такого больного могут столкнуться с немотивированными вспышками агрессии, излишней пугливостью, разнообразными маниями.</a:t>
                      </a:r>
                      <a:endParaRPr b="1" lang="en-US" sz="14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рушения глотания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Это распространенное и достаточно опасное последствие болезни, поскольку пища или напитки, потребляемые пациентом, могут попадать в его дыхательное горло.</a:t>
                      </a:r>
                      <a:endParaRPr b="1" lang="en-US" sz="14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рушения восприятия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Больной, даже обладая идеальным зрением, может не понимать, что именно он видит. А также у таких пациентов нередко возникают проблемы с использованием самых обыкновенных бытовых предметов.</a:t>
                      </a:r>
                      <a:endParaRPr b="1" lang="en-US" sz="14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Эпилепсия или сильные боли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Эти последствия инфаркта мозга наблюдаются у пациентов достаточно редко, но все-таки они заслуживают внимания. Причем болевые ощущения, вызванные рассматриваемым заболеванием, как правило, невозможно ликвидировать с помощью медикаментозных средств (даже самых сильных).</a:t>
                      </a:r>
                      <a:endParaRPr b="1" lang="en-US" sz="14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рушение функций мочевого пузыря и кишечника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Они могут быть самыми разнообразными, но чаще всего у больных наблюдается именно недержание мочи или кала.</a:t>
                      </a:r>
                      <a:endParaRPr b="1" lang="en-US" sz="14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굴림"/>
              </a:rPr>
              <a:t>САМЫЕ РАСПРОСТРАНЕННЫЕ ПОСЛЕДСТВИЯ ВНУТРИМОЗГОВОГО КРОВОИЗЛИЯНИЯ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324000" y="620640"/>
          <a:ext cx="8496000" cy="6087960"/>
        </p:xfrm>
        <a:graphic>
          <a:graphicData uri="http://schemas.openxmlformats.org/drawingml/2006/table">
            <a:tbl>
              <a:tblPr/>
              <a:tblGrid>
                <a:gridCol w="8496000"/>
              </a:tblGrid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14141"/>
                          </a:solidFill>
                          <a:latin typeface="Tahoma"/>
                          <a:ea typeface="Times New Roman"/>
                        </a:rPr>
                        <a:t>Двигательные нарушения, слабость или паралич</a:t>
                      </a:r>
                      <a:r>
                        <a:rPr b="0" lang="ru-RU" sz="1300" spc="-1" strike="noStrike">
                          <a:solidFill>
                            <a:srgbClr val="414141"/>
                          </a:solidFill>
                          <a:latin typeface="Tahoma"/>
                          <a:ea typeface="Times New Roman"/>
                        </a:rPr>
                        <a:t> – это может привести к трудностям при движении, ходьбе и координации. Нарушения движения на одной стороне тела называются гемипарез или гемиплегия. </a:t>
                      </a:r>
                      <a:endParaRPr b="1" lang="en-US" sz="13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14141"/>
                          </a:solidFill>
                          <a:latin typeface="Tahoma"/>
                          <a:ea typeface="Times New Roman"/>
                        </a:rPr>
                        <a:t>Нарушение глотания.</a:t>
                      </a:r>
                      <a:r>
                        <a:rPr b="0" lang="ru-RU" sz="1300" spc="-1" strike="noStrike">
                          <a:solidFill>
                            <a:srgbClr val="414141"/>
                          </a:solidFill>
                          <a:latin typeface="Tahoma"/>
                          <a:ea typeface="Times New Roman"/>
                        </a:rPr>
                        <a:t> Нарушение акта глотания может привести к попаданию пищи и жидкости не в пищевод, а в дыхательное горло и легкие, становясь тем самым причиной тяжелого воспаления легких. Нарушение глотания может привести так же к запорам и обезвоживанию организма. </a:t>
                      </a:r>
                      <a:endParaRPr b="1" lang="en-US" sz="13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14141"/>
                          </a:solidFill>
                          <a:latin typeface="Tahoma"/>
                          <a:ea typeface="Times New Roman"/>
                        </a:rPr>
                        <a:t>Нарушение речи.</a:t>
                      </a:r>
                      <a:r>
                        <a:rPr b="0" lang="ru-RU" sz="1300" spc="-1" strike="noStrike">
                          <a:solidFill>
                            <a:srgbClr val="414141"/>
                          </a:solidFill>
                          <a:latin typeface="Tahoma"/>
                          <a:ea typeface="Times New Roman"/>
                        </a:rPr>
                        <a:t> Нарушение воспроизведения и понимания речи, в том числе трудности в чтении, письме, счете происходят в результате повреждения левого полушария головного мозга. </a:t>
                      </a:r>
                      <a:endParaRPr b="1" lang="en-US" sz="13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14141"/>
                          </a:solidFill>
                          <a:latin typeface="Tahoma"/>
                          <a:ea typeface="Times New Roman"/>
                        </a:rPr>
                        <a:t>Проблемы восприятия.</a:t>
                      </a:r>
                      <a:r>
                        <a:rPr b="0" lang="ru-RU" sz="1300" spc="-1" strike="noStrike">
                          <a:solidFill>
                            <a:srgbClr val="414141"/>
                          </a:solidFill>
                          <a:latin typeface="Tahoma"/>
                          <a:ea typeface="Times New Roman"/>
                        </a:rPr>
                        <a:t> При нормальном зрении человек не в состоянии понять, что он видит. Нарушения восприятия затрудняют использование человеком предметов обыденного обихода. Например, человек не может взять стакан и налить в него воду и затем выпить её. </a:t>
                      </a:r>
                      <a:endParaRPr b="1" lang="en-US" sz="13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14141"/>
                          </a:solidFill>
                          <a:latin typeface="Tahoma"/>
                          <a:ea typeface="Times New Roman"/>
                        </a:rPr>
                        <a:t>Когнитивные нарушения.</a:t>
                      </a:r>
                      <a:r>
                        <a:rPr b="0" lang="ru-RU" sz="1300" spc="-1" strike="noStrike">
                          <a:solidFill>
                            <a:srgbClr val="414141"/>
                          </a:solidFill>
                          <a:latin typeface="Tahoma"/>
                          <a:ea typeface="Times New Roman"/>
                        </a:rPr>
                        <a:t> Нарушается способность к умственному восприятию и переработке внешней информации. Нарушается ясное и логическое мышление, ухудшается память, утрачивается способность к обучению, принятию решений и перспективному планированию. </a:t>
                      </a:r>
                      <a:endParaRPr b="1" lang="en-US" sz="13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14141"/>
                          </a:solidFill>
                          <a:latin typeface="Tahoma"/>
                          <a:ea typeface="Times New Roman"/>
                        </a:rPr>
                        <a:t>Нарушения поведения.</a:t>
                      </a:r>
                      <a:r>
                        <a:rPr b="0" lang="ru-RU" sz="1300" spc="-1" strike="noStrike">
                          <a:solidFill>
                            <a:srgbClr val="414141"/>
                          </a:solidFill>
                          <a:latin typeface="Tahoma"/>
                          <a:ea typeface="Times New Roman"/>
                        </a:rPr>
                        <a:t> Может появиться агрессия, замедленная реакция, пугливость, эмоциональная нестабильность, дезорганизация. </a:t>
                      </a:r>
                      <a:endParaRPr b="1" lang="en-US" sz="13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14141"/>
                          </a:solidFill>
                          <a:latin typeface="Tahoma"/>
                          <a:ea typeface="Times New Roman"/>
                        </a:rPr>
                        <a:t>Нарушение мочеиспускания и дефекации.</a:t>
                      </a:r>
                      <a:r>
                        <a:rPr b="0" lang="ru-RU" sz="1300" spc="-1" strike="noStrike">
                          <a:solidFill>
                            <a:srgbClr val="414141"/>
                          </a:solidFill>
                          <a:latin typeface="Tahoma"/>
                          <a:ea typeface="Times New Roman"/>
                        </a:rPr>
                        <a:t> Трудности с кишечником или мочевым пузырем (недержание или задержка мочи, недержания кала) может быть вызвано целым рядом различных проблем после инсульта. </a:t>
                      </a:r>
                      <a:endParaRPr b="1" lang="en-US" sz="13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3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14141"/>
                          </a:solidFill>
                          <a:latin typeface="Tahoma"/>
                          <a:ea typeface="Times New Roman"/>
                        </a:rPr>
                        <a:t>Психологические нарушения.</a:t>
                      </a:r>
                      <a:r>
                        <a:rPr b="0" lang="ru-RU" sz="1300" spc="-1" strike="noStrike">
                          <a:solidFill>
                            <a:srgbClr val="414141"/>
                          </a:solidFill>
                          <a:latin typeface="Tahoma"/>
                          <a:ea typeface="Times New Roman"/>
                        </a:rPr>
                        <a:t> Резкие колебания настроения, депрессия, раздражительность, беспричинный смех или плач. Депрессия очень частая проблема у людей перенесших инсульт и часто сопровождается потерей аппетита, беспричинным смехом или плачем, бессонницей, низкой самооценкой и повышенным чувством тревоги… </a:t>
                      </a:r>
                      <a:endParaRPr b="1" lang="en-US" sz="13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14141"/>
                          </a:solidFill>
                          <a:latin typeface="Tahoma"/>
                          <a:ea typeface="Times New Roman"/>
                        </a:rPr>
                        <a:t>Эпилепсия</a:t>
                      </a:r>
                      <a:r>
                        <a:rPr b="0" lang="ru-RU" sz="1300" spc="-1" strike="noStrike">
                          <a:solidFill>
                            <a:srgbClr val="414141"/>
                          </a:solidFill>
                          <a:latin typeface="Tahoma"/>
                          <a:ea typeface="Times New Roman"/>
                        </a:rPr>
                        <a:t> развивается у 7-20 % людей, перенесших инсульт. </a:t>
                      </a:r>
                      <a:endParaRPr b="1" lang="en-US" sz="13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14141"/>
                          </a:solidFill>
                          <a:latin typeface="Tahoma"/>
                          <a:ea typeface="Times New Roman"/>
                        </a:rPr>
                        <a:t>Болевой синдром.</a:t>
                      </a:r>
                      <a:r>
                        <a:rPr b="0" lang="ru-RU" sz="1300" spc="-1" strike="noStrike">
                          <a:solidFill>
                            <a:srgbClr val="414141"/>
                          </a:solidFill>
                          <a:latin typeface="Tahoma"/>
                          <a:ea typeface="Times New Roman"/>
                        </a:rPr>
                        <a:t> После инсульта у небольшого количества людей, развиваются болевые приступы в виде горения, стреляющих, пульсирующих болей, которые не снимаются обезболивающими препаратами. </a:t>
                      </a:r>
                      <a:endParaRPr b="1" lang="en-US" sz="13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굴림"/>
              </a:rPr>
              <a:t>ПОСЛЕДСТВИЯ ИНФАРКТА МОЗГА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10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зни органов дыхания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00-J99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10920" y="1844280"/>
            <a:ext cx="806436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ы с острыми пневмониями наблюдаются в течение 6 месяцев, а затем снимаются с диспансерного учета, поэтому в графе 15 таблиц 1000, 2000, 3000 и 400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ываются только те пациенты, которые заболели во втором полугодии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29040" indent="-3290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ти по приказу №725 от 15.06.83г – 12 месяцев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29040" indent="-3290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29040" indent="-3290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15 таблицы 1500 показываются дети, которые заболели пневмонией во второй половине  первого года жизни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-31680"/>
            <a:ext cx="822960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627120"/>
            <a:ext cx="8229600" cy="57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 детей до 1 года жизни хронических заболеваний быть не должно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тматический статус – J46.0 – J 46.9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ВИ (ОРЗ) – J06.9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о болеющие дети шифруются кодами соответствующих заболевани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невмония, ОРВИ, острый бронхиты и т.д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      </a:t>
            </a: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невмония - графа 4 = графе 9, графа 8 = графе 10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ица между выявлено и взято на Д-учет может быть за счет умерших,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ывших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4000" y="1483920"/>
            <a:ext cx="784836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торно возникающие в течение года острые   пневмонии, острая ревматическая лихорадка, острые и повторные инфаркты миокарда, острые нарушения мозгового кровообращения регистрируются как ост- рые (со знаком  +).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По этим строкам графы 4 и 9 таблиц 1000, 2000, 3000 и 4000 равны.</a:t>
            </a:r>
            <a:br>
              <a:rPr sz="2800"/>
            </a:br>
            <a:br>
              <a:rPr sz="2800"/>
            </a:b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1371600" y="6440400"/>
            <a:ext cx="640080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11. Болезни органов пищеварения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00-K93</a:t>
            </a:r>
            <a:br>
              <a:rPr sz="3200"/>
            </a:b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53964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олевания зубов включают в 12 форму только в том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чае, если больной подлежит диспансерному наблюдению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579600" y="488880"/>
            <a:ext cx="8146800" cy="589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матологические заболевания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5880" indent="-3358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marL="335880" indent="-335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орму 12 включаются заболевания, которые подлежат диспан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ному наблюдению множественным прогрессирующим кариесом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убов (4 раза в год]; легкой формой пародонтита (1 раз в 6 мес], т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ой формой (каждые 3 мес); пародонтозом (1 раз в 6 мес для пр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лактики осложнений); хроническими гингивитами, стоматитами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йлитами, глоссальгией (от 2 до 4 раз в год); одонтогенными невр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гиями тройничного и невритами лицевого нервов (от 2 до 4 раз в год); хроническими остеомиелитами костей лица (2 раза в год); хрон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ским одонтогенным воспалением верхнечелюстной пазухи (2 раза в год); хроническим воспалением слюнных желез (2 раза в год); пр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аковыми заболеваниями челюстей и полости рта, злокачественн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 новообразованиями челюстей и полости рта (совместно с онкол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ми в зависимости от стадии заболевания); врожденными расщел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и челюстно-лицевой области (2 раза в год); зубочелюстным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омалиями (2—3 раза в год); врожденными и приобретенными д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циями челюстей (2 раза в год)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5880" indent="-3358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12. Болезни кожи и подкожной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етчатки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00-L99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3106440"/>
            <a:ext cx="8229600" cy="30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5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13. Болезни костно-мышечной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ы и соединительной ткани. М00-М99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581040" y="1991880"/>
            <a:ext cx="816768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ансерному учёту подлежат сколиозы, плоскостопие, остеохондропатии, остеохондроз. Нарушение осанки,  плос-кая стопа,  сутулость,  вальгусная  и  варусная  деформация  стоп  наблюдаются   по   списочному   составу  и  соответст-венно  в графе 15 (диспансерные) не показываются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е осанки,   сутулость – М53.2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иоз – М4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ско-вальгусная деформация стопы – М21.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ско-варусная деформация стопы – М21.1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скостопие и плоская стопа – М21.4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 образом,  плоскостопие  включается  в  строку 14.1, а сколиозы, юношеский остеохондроз в строку 14.3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е осанки включать в строку 14.0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еохондроз у взрослых кодируется M50 – M5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и показывается по строке 14.0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"/>
          <p:cNvSpPr/>
          <p:nvPr/>
        </p:nvSpPr>
        <p:spPr>
          <a:xfrm>
            <a:off x="349200" y="1728720"/>
            <a:ext cx="855360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анный отчет включаются сведения   об общем числе зарегистрированных в данном учреждении у больных  заболеваний и о больных с заболеваниями, по поводу которых осуществляется диспансеризация населения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3600" spc="-1" strike="noStrike">
              <a:solidFill>
                <a:srgbClr val="cc0000"/>
              </a:solidFill>
              <a:latin typeface="Dinmed"/>
            </a:endParaRPr>
          </a:p>
        </p:txBody>
      </p:sp>
      <p:sp>
        <p:nvSpPr>
          <p:cNvPr id="72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04640" y="436680"/>
            <a:ext cx="822960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14. Болезни мочеполовой системы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00-N99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88640"/>
            <a:ext cx="8229600" cy="46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5.2 (почечная недостаточность) Показывается вся почечная недостаточность, как острая, так и хроническая. При сахарном диабете с почечной недостаточностью, сахарный диабет проходит по строке 5.2, а почечная недостаточность по строке 15.2 и т.д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енома простаты – N4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тройства менструаций - на (Д) учёт берётся олиго и аменорея 1,2 степени. У девочек до 17 лет эрозия шейки матки (если нет возможности лечить). Альгодисменорею в графе «диспансерные» показывать не нужно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052280"/>
            <a:ext cx="8362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5.7 – всегда больше строки 15.7.1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5.8 - эндометриоз с (Д) учёта снимается посмертно или в глубокой менопаузе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5.9 - расстройства менструаций - на (Д) учёт берётся олиго и аменорея 1,2 степени. У девочек до 17 лет эрозия шейки матки (если нет возможности лечить). Альгодисменорею в графе «диспансерные» показывать не нужно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5.10 (т. 3000) – женщины с бесплодием снимаются с учета если они родили, перешагнули детородный возраст, выбыли, умерли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11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15. Беременность, роды и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родовый период. О00-О99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6840" y="198900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ются случаи акушерской патологии. Данные этой строки  должны  определённым  образом соотноситься с дан-ными по форме № 32 таблицы 2130 (все нозологии) и  табли-цы  2111  (учитывая  патологию,   требующую   дальнейшего диспансерного наблюдения)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соматическое заболевание возникло во время бере-менности  –  кодировать его необходимо по классу О.   Ранее известную  (и  зарегистрированную)  соматическую патоло- гию, обнаруживаемую у женщины во время беременности, следует также учитывать по классу О с соответствующей заменой ранее заполненного по другому классу статистического талона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16. Отдельные состояния, возникающие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ринатальном периоде. Р00-Р96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991880"/>
            <a:ext cx="829152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7.0 таблиц 2000 и 3000 заполняется только в слу-чаях перинатальной смертности  и касается состояния здоро-вья матери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е случаи кодируются кодами Р00-Р04, а не кодами  класса 15 «Беременность, роды и послеродовый период»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ому в таблице 1000 коды МКБ-10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-Р96, в табли-цах 2000 и 3000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-04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42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br>
              <a:rPr sz="20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детей, заболевания регистрируются как острые (таблица 1000 и 1500 графа 4 равна графе 9), дети наблюдаются в  течение 1 меся-ца, поэтому в графе 15 на конец отчетного периода  показывают  де-тей, у которых эти состояния развились в декабре месяце.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Остатков с прошлого года нет (0) т.к. за год формируется патология, которая кодируется другим классом. Данная строка  д.б.  Равна  (крайне редко) или больше данных по Форме  № 32,  т.к.  частично  диагнозы выставляются в поликлинике педиатрами, неврологами и др. врачами. Внимание:  из  выписки родильного  отделения в поли-клинике кодируем только то, что вынесено в диагноз. Все текстовые описания кодированию не подлежат.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200"/>
            </a:br>
            <a:br>
              <a:rPr sz="2100"/>
            </a:b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395280" y="6021360"/>
            <a:ext cx="83851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1" name=""/>
          <p:cNvGraphicFramePr/>
          <p:nvPr/>
        </p:nvGraphicFramePr>
        <p:xfrm>
          <a:off x="685800" y="550800"/>
          <a:ext cx="7924680" cy="5772240"/>
        </p:xfrm>
        <a:graphic>
          <a:graphicData uri="http://schemas.openxmlformats.org/drawingml/2006/table">
            <a:tbl>
              <a:tblPr/>
              <a:tblGrid>
                <a:gridCol w="7924680"/>
              </a:tblGrid>
              <a:tr h="1015920"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00-P04 Поражения плода и новорожденного, обусловленные состояниями матери, осложнениями беременности, родов и родоразрешения </a:t>
                      </a:r>
                      <a:endParaRPr b="1" lang="en-US" sz="1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1120">
                <a:tc>
                  <a:txBody>
                    <a:bodyPr lIns="23040" rIns="23040" tIns="22680" bIns="226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"/>
                        </a:rPr>
                        <a:t>P00 Поражения плода и новорожденного, обусловленные состояниями матери, которые могут быть не связаны с настоящей беременностью </a:t>
                      </a:r>
                      <a:endParaRPr b="1" lang="en-US" sz="1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50760">
                <a:tc>
                  <a:txBody>
                    <a:bodyPr lIns="23040" rIns="23040" tIns="22680" bIns="226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"/>
                        </a:rPr>
                        <a:t>P01 Поражения плода и новорожденного обусловленные осложнениями беременности у матери </a:t>
                      </a:r>
                      <a:endParaRPr b="1" lang="en-US" sz="1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52560">
                <a:tc>
                  <a:txBody>
                    <a:bodyPr lIns="23040" rIns="23040" tIns="22680" bIns="226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"/>
                        </a:rPr>
                        <a:t>P02 Поражения плода и новорожденного, обусловленные осложнениями со стороны плаценты, пуповины и плодных оболочек </a:t>
                      </a:r>
                      <a:endParaRPr b="1" lang="en-US" sz="1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51120">
                <a:tc>
                  <a:txBody>
                    <a:bodyPr lIns="23040" rIns="23040" tIns="22680" bIns="226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"/>
                        </a:rPr>
                        <a:t>P03 Поражения плода и новорожденного, обусловленные другими осложнениями родов и родоразрешения </a:t>
                      </a:r>
                      <a:endParaRPr b="1" lang="en-US" sz="1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50760">
                <a:tc>
                  <a:txBody>
                    <a:bodyPr lIns="23040" rIns="23040" tIns="22680" bIns="226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"/>
                        </a:rPr>
                        <a:t>P04 Поражения плода и новорожденного, обусловленные воздействием вредных веществ, проникающих через плаценту или грудное молоко </a:t>
                      </a:r>
                      <a:endParaRPr b="1" lang="en-US" sz="1800" spc="-1" strike="noStrike">
                        <a:solidFill>
                          <a:srgbClr val="cc0000"/>
                        </a:solidFill>
                        <a:latin typeface="Dinmed"/>
                      </a:endParaRPr>
                    </a:p>
                  </a:txBody>
                  <a:tcPr anchor="t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02" name="Rectangle 2"/>
          <p:cNvSpPr/>
          <p:nvPr/>
        </p:nvSpPr>
        <p:spPr>
          <a:xfrm>
            <a:off x="831960" y="219240"/>
            <a:ext cx="7275240" cy="1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Dinmed"/>
            </a:endParaRPr>
          </a:p>
        </p:txBody>
      </p:sp>
      <p:sp>
        <p:nvSpPr>
          <p:cNvPr id="303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17. Врожденные аномалии (пороки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я), деформации и хромосомные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я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00-Q99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3176280"/>
            <a:ext cx="8229600" cy="29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50920" y="764640"/>
            <a:ext cx="864216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18. Симптомы, признаки и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лонения от нормы, выявленные при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еских и лабораторных исследованиях, не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цированные в других рубриках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00-R99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61440" y="2805120"/>
            <a:ext cx="8602920" cy="36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ния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 класса (стр. 19.0), не должны регистрироватьс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олевание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19. Травмы, отравления и некоторые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е последствия воздействия внешних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00-T98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ния  должны соответствовать патологическим сос-тояниям, указанным в форме №57 «Сведения  о  травмах, от-равлениях и  некоторых  других  последствиях  воздействия внешних причин»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ы  4 и 9  могут быть не  равны.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ы шифрования последствий травм: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алённые последствия перелома можно шифровать  -  М84.1 – несрас-тание перелома,  М82.2 – замедленное сращение перелома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ствия ЧМТ кодируются в зависимости от клиники проявлений: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оническая посттравматическая  головная боль G44.3,  травматическая  транзиторная  церебральная  ишемия  G45.8,  др. уточнённое  поражение головного мозга, в том числе травматическая болезнь мозга G93.8, энце-фалопатия   посттравматическая  F07.2,   энцефалопатия  неуточнённая  G93.4,  относящиеся к патологии нервной системы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1"/>
          <p:cNvSpPr/>
          <p:nvPr/>
        </p:nvSpPr>
        <p:spPr>
          <a:xfrm>
            <a:off x="684360" y="704880"/>
            <a:ext cx="8208720" cy="63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4572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орму включают один раз в год сведения об основном, фоновом, конкурирующем  и сопутствующем заболеваниях.</a:t>
            </a:r>
            <a:endParaRPr b="1" lang="en-US" sz="3200" spc="-1" strike="noStrike">
              <a:solidFill>
                <a:srgbClr val="cc0000"/>
              </a:solidFill>
              <a:latin typeface="Dinmed"/>
            </a:endParaRPr>
          </a:p>
          <a:p>
            <a:pPr marL="343080" indent="457200" algn="just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Dinmed"/>
            </a:endParaRPr>
          </a:p>
          <a:p>
            <a:pPr marL="343080" indent="4572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б осложнениях  основного  и других заболеваний в форму не включают.</a:t>
            </a:r>
            <a:endParaRPr b="1" lang="en-US" sz="3200" spc="-1" strike="noStrike">
              <a:solidFill>
                <a:srgbClr val="cc0000"/>
              </a:solidFill>
              <a:latin typeface="Dinmed"/>
            </a:endParaRPr>
          </a:p>
          <a:p>
            <a:pPr marL="343080" indent="457200" algn="just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Dinmed"/>
            </a:endParaRPr>
          </a:p>
          <a:p>
            <a:pPr marL="343080" indent="4572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ы, имеющие два и более заболе-вания, показываются по соответствующим строкам по числу выявленных  и  зарегист-рированных заболеваний.</a:t>
            </a:r>
            <a:endParaRPr b="1" lang="en-US" sz="3200" spc="-1" strike="noStrike">
              <a:solidFill>
                <a:srgbClr val="cc0000"/>
              </a:solidFill>
              <a:latin typeface="Dinmed"/>
            </a:endParaRPr>
          </a:p>
        </p:txBody>
      </p:sp>
      <p:sp>
        <p:nvSpPr>
          <p:cNvPr id="74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21. Факторы, влияющие на состояние здоровья населения и обращения в учреждения здравоохранения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00-Z99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292428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ласс Z  входят  данные  о здоровых людях, у которых отклонения от нормы еще не  трансформировались в опреде-ленную патологию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1915920"/>
            <a:ext cx="77724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тельно проводить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й, межформенный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межгодовой контроли. </a:t>
            </a:r>
            <a:br>
              <a:rPr sz="2900"/>
            </a:b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1371600" y="5262480"/>
            <a:ext cx="6400800" cy="26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рий Иванович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ьков</a:t>
            </a:r>
            <a:br>
              <a:rPr sz="4000"/>
            </a:b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05 февраля 2018 год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-495-618-31-83 доп. 220, 236, 235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06 февраля 2018 год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-495-611-51-47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kovYI@mail.ru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1371600" y="6239880"/>
            <a:ext cx="640080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Text Box 2"/>
          <p:cNvSpPr/>
          <p:nvPr/>
        </p:nvSpPr>
        <p:spPr>
          <a:xfrm>
            <a:off x="864000" y="216000"/>
            <a:ext cx="278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200" spc="-1" strike="noStrike">
              <a:solidFill>
                <a:srgbClr val="cc0000"/>
              </a:solidFill>
              <a:latin typeface="Dinm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02:45:16Z</dcterms:created>
  <dc:creator>hong</dc:creator>
  <dc:description/>
  <dc:language>en-US</dc:language>
  <cp:lastModifiedBy>Глушонкова А.В.</cp:lastModifiedBy>
  <dcterms:modified xsi:type="dcterms:W3CDTF">2017-12-01T07:09:19Z</dcterms:modified>
  <cp:revision>384</cp:revision>
  <dc:subject/>
  <dc:title>슬라이드 1</dc:title>
</cp:coreProperties>
</file>