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86B5-DF84-4689-9213-9B9BE41CC1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D04-6BB8-4058-9A14-41DF4D2110E7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378-4E76-418C-89ED-814DC729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5E8-0EF0-42F5-B366-B52D08DE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73A73-99F3-4343-ADAC-D245DE09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B03BD-F0B8-4058-A576-7FD65CB5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70D91-A2A3-416D-BFA6-A34145BC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A9F77-35F3-426A-B55E-9926912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7719C-8A67-4F7C-A826-DBE7E55B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9B582-16A9-459C-A301-1D32AAD9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60219-5FD7-4B55-B8BB-1CE7279B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47DA0-E8BB-4820-B09D-40B396F5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98B51-3878-40A7-B47D-09C54CBA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1AB22-55CB-41F5-8F43-04BA0A31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E38-39BF-4EBE-AB56-9A4DDC8F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B19E2-BF2E-4F6C-B85E-C441E012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998A9-D36C-4D24-9C43-3793D792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BA9DA-B8C9-4EBD-BD9D-7721DE15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C0660-8D98-40B3-BBAA-1DAA34DD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43A82-F374-431F-A79E-2D2DC543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11657-6B20-4932-B4B9-BB7A0EA7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4D3B2-3151-4337-B05D-35C0ED27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D66D8-8008-44A9-862C-7B38E28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8AE3C-74E9-4886-B3D9-A57FF355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6EF05-19A8-4F5A-B2C5-8900E079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B72-973E-4EAE-ABC1-143A50E4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0ACF6-5676-477A-B86B-6B0B5B30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AE63B-0CC9-49BD-906A-C76CC031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56ED2-790B-4CA0-B5F2-67BADDC7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1D31A-DD78-4E85-98F5-B46A1E66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DD6E7-15AF-432A-906C-285A04DB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A6A0B-E046-46D1-AD1D-5EB5D464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680C-D9DF-4201-A973-EC449403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5C89C-3054-4750-89D3-71718C3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35307-1BC2-431C-A6B9-7E52FE1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C5675-36CE-4AAA-AD72-0479B650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3B1F-BAAF-4A79-9830-9CB31CF5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68BF1-B03A-4BE0-BC84-11296037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E8DC6-9276-4AAF-B12E-1A6600C0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60C7D-4479-4C83-85C0-175CF92B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D59CB-57D8-4610-8275-901A3E86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EE29A-082F-44B9-897C-842A3529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828E7-5C7B-417C-ABBE-5AC5D1B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63801-49E4-489C-880B-EA4E8AAC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BF541-2728-4903-B54E-B491C9E1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6C78C-FAC7-47F0-9D69-FCFA31E9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62A7C-92A3-4D9C-9085-B6911B5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89D3-8338-4E81-9047-AD2AA174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2D138-38B7-4CCA-B440-D9CEAE4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C220A-2F6C-4DD5-BF17-F54BDE9E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0F239-A751-43CE-8D08-E4061597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B33A7-E659-4735-B8C5-522EA40F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DEE4F-251E-4163-9A9A-36376436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A2C0B-299B-4AAD-9658-9AFB77F3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E2440-6F7A-4AEE-B164-CCE47F6F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96010-94AB-45C1-8F62-13F09BD8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F8256-1957-4250-B1CA-FE80C334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1EDC6-7630-40AE-9F7C-346CE6DB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33CF-9545-45B3-B311-DE0B7E98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E922B-60DF-4343-B095-9EF1324A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D7E15-B701-40B4-A72B-CF7F7E27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F0835-77E9-4AD7-B6D2-8F930914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246E1-3CA5-4204-957A-D5C888F5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E290F-6479-45C5-9541-1B049231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FF4A0-4432-4448-9CD5-314DBBFF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7A473-A3C1-4721-9A98-1BAD22F1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BEAF-1B42-4B70-A91E-6E6A1CC5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FC33-8F7B-46DB-8A1E-DEC9CC77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C851-01DE-490E-B7BC-3E4A159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2F96-08B9-4613-A969-B5C5E07D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8E3-F6CF-47D8-8D42-555F8AB8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EA58-13F9-4215-81F6-3280715D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5F10-F7F9-450E-91CF-8452CE9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80B4-27A4-4848-A697-058C8355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3FE9-5BBD-4A70-9EEC-6D309265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D1D7-B588-4962-8689-E52E80C4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2C70-2603-41C8-9637-B63C322C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6FF1-D551-47E7-8697-FB18F39D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0CE5-B9D5-488C-804E-74885BA2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08E9-E561-4F60-8CD0-538FB705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B2083-EAE8-4E83-B2F9-7BFF214E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B92-C2C8-4E9D-A015-E65AB54B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6DF0-1389-4488-9922-BABB3BB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C0BC-AFC7-4D87-8B33-BCE1CAFE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CF59-2CEF-4CCB-B726-B4D2BB00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8F04-7B7B-49AC-A096-4E8F89F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4F97-FD9C-4261-99E2-B1A81686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E2709-7515-47CA-8CC1-E457A821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2BD4-A255-4A47-8FF5-901A605D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B7E8-EA70-4A67-A2EF-D3C85982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24E21-2EE2-4397-8CCC-6E06E141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80CF-0846-4039-8747-A236455F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6B2-9007-420A-BD3D-62E66CF5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87EF4-5A96-43E8-8B04-E81F1C9A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5C009-39B1-4375-88EF-947E732B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E629C-168D-4A6E-B50A-D240102B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2053-E50B-4AB1-99FE-6E3847B0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6E4C-A532-41AF-8E5A-B75D631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FFFA3-0580-459C-8D04-9874103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1419-02A0-4788-8C30-2D120D43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E3A1-21C1-4CB2-AB7C-FE35B3E0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C5F4D-1213-493B-BA4A-09F7B3F5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C8C7-1438-4383-85D2-B9AFB5B3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351-C6CD-404D-B005-6A14F4F1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C1C1-181C-465E-BD42-33066C2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71389-D5B8-41F5-A1BA-E16CF5A3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B1A8-217F-4AB3-A640-2BB6829C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B6A11-7E24-4F49-8584-3E90E94E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15E7E-ED64-46DB-B1D2-125AB80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1F5EF-74C0-4BFB-A99F-E7120F13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90E9-91B5-478F-ACF2-D858BB0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0BB7-FA00-4F81-888F-16F8DB6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3E2F-65C3-4597-97E6-C52A94D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DB79E-8FCC-4E60-B024-1DF525CD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861-D0C8-492F-8FBC-AEAD5871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9A28-F3D6-409E-A9B8-93D43798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C9ABD-E0E6-451E-8BEA-7D36D1C6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F340F-E62F-45A0-908B-B76E3CEF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D62B7-AE72-4D3C-9925-0F4EC4A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F90C4-2BA1-4B9D-9373-6BE910D7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484A-6790-4D0B-9CA9-1CE85EF0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AF866-C6CB-47D6-8B7D-87CEBBE5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848F-9637-40CC-B92F-085055FF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9EDA5-8B1D-4311-A570-94F54AC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DE9FA-AE2E-41BC-AA5C-293A0EA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2C5-95F7-4479-A124-ED75FF3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4DE08-E798-416A-9181-172FD310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64B57-6680-460E-BF69-82ED2F73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AF9C0-7647-484E-8DF1-B8F971DB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2EC35-9083-41A2-ADB7-0B04D1E8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A8975-786F-44D9-93B1-09FDBDC8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87CC-C7DB-486C-A1E7-FA9C0CE8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6823C-CAEA-44DD-8C15-F65F5708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1C863-085A-44B4-9EA4-5BBF6F39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55302-EFAF-48C4-AC73-20EF37BF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4566A-761D-4563-8901-75B320A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0A7-FF1B-425D-A3BE-78F15BE7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0BA2F-46AC-47FC-B51C-607E83E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8CA7F-4E3F-47C5-B443-358DFC64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58E3F-AC2E-4139-9A7D-38DCC56A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55CBC-0276-4625-86C4-DC57A53B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85869-4861-4EF3-AACA-E4D301F8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9F337-835E-4AE8-90F3-8F49B11D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EDBFD-98DB-43B9-95D3-D9582D42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9E3AF-92D7-41B8-A8CB-ACEF35D1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05FCD-00CD-4A4D-9316-A7A46BAC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59098-DE25-4E60-BB43-893B8963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DFC-0409-4470-B720-E3C6E40A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C6EFD-C5C2-4750-924D-FBF0F9DC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943C-875A-4FC4-B236-C35F3B3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7924C-0528-4B3C-A0D7-19B19AF8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C884C-1F12-4E6A-85DF-6EDCBD49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EBB1F-BD24-4526-BF0E-9CC12476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C8826-064A-4A00-997D-B3D495C6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46F1-C0C5-4DE1-A67D-6ED783B6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E1A76-EAAF-4AFD-AF50-65D0C085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70175-7B17-4416-AD90-ECBE23B1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A4D97-D2A9-48DB-B85D-4A23B7AC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B0E1-5EF3-4F34-822B-AD8D2FD8E37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15C6-FBEA-4582-8603-D991B0D151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2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13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14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E6F7-2A8B-45BE-8507-9F5489D7E7E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7A8B-18B4-4AAF-A45E-980186D22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олилиния 19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5" name="Полилиния 20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pSp>
        <p:nvGrpSpPr>
          <p:cNvPr id="436" name="Прямоугольный треугольник 22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7" name="Прямоугольный треугольник 22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pic>
        <p:nvPicPr>
          <p:cNvPr id="439" name="Прямая соединительная линия 23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0" name="Нашивка 24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41" name="Нашивка 25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946A-9E94-47DE-90C9-84074A37D437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3D18-8D89-4159-82E7-FDC645B25A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88EF-E47F-4B23-9F57-690EE9484F3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BB01-A7D9-4343-B6AC-AB0B2477AE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AC59-4C69-4C9C-AB13-6DC4F525F97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C6FA-27AC-4C64-8ED6-231B81693B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E61B-933F-4029-8B4E-E41168236C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BBCB-831C-4ADB-8AE3-E71254043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57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58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59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ый треугольник 1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pSp>
        <p:nvGrpSpPr>
          <p:cNvPr id="97" name="Группа 2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8" name="Полилиния 22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99" name="Полилиния 23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grpSp>
          <p:nvGrpSpPr>
            <p:cNvPr id="100" name="Полилиния 24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101" name="Полилиния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dafbfe"/>
                  </a:solidFill>
                  <a:latin typeface="-윤고딕140"/>
                </a:endParaRPr>
              </a:p>
            </p:txBody>
          </p:sp>
        </p:grpSp>
        <p:pic>
          <p:nvPicPr>
            <p:cNvPr id="103" name="Прямая соединительная линия 25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7F7D-1DD9-4A87-8750-A6E6F896C793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CC6-10D1-4523-A34B-50376503BC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5FFF-FF1B-47B0-8582-2FC733E7462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47A8-562D-4FB0-8A27-FAF206DB20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ашивка 19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Нашивка 20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EEC2-0C76-4F50-87B1-96D1F4DD8522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FBB6-5719-4131-8764-1B09BBAE52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B7C3-CE98-4D9D-8AAC-A9D4F75608F7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BB6-0DE6-4137-BD83-83CE0A60E8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8A90-B84B-40F1-B246-BFFD3FD0A11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26E4-5148-4F6F-9A96-946FAB6074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B9D9-4190-4891-B6C2-4DD7C3F498A2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647A-86AF-479E-A540-B394FF2298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B43C-7BFF-4DF7-B644-115F90265EF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94E5-4DD5-4E5D-9EAD-D7EFB83E0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55720" y="260280"/>
            <a:ext cx="4363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3" name="Прямоугольник 20"/>
          <p:cNvSpPr/>
          <p:nvPr/>
        </p:nvSpPr>
        <p:spPr>
          <a:xfrm>
            <a:off x="855720" y="765000"/>
            <a:ext cx="79642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СВЕДЕНИЯ О ЧИСЛЕ ЗАБОЛЕВАНИЙ,ЗАРЕГИСТРИРОВАННЫХ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У ПАЦИЕНТОВ,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ПРОЖИВАЮЩИХ В РАЙОНЕ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ОБСЛУЖИВАНИЯ           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МЕДИЦИНСКОЙ ОРГАНИЗАЦИИ </a:t>
            </a:r>
            <a:br>
              <a:rPr sz="9600"/>
            </a:b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за  2018 год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4" name="Овал 2"/>
          <p:cNvSpPr/>
          <p:nvPr/>
        </p:nvSpPr>
        <p:spPr>
          <a:xfrm>
            <a:off x="3348000" y="5013360"/>
            <a:ext cx="2354400" cy="1633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5" name="Овал 3"/>
          <p:cNvSpPr/>
          <p:nvPr/>
        </p:nvSpPr>
        <p:spPr>
          <a:xfrm>
            <a:off x="1968480" y="5332320"/>
            <a:ext cx="5113440" cy="994320"/>
          </a:xfrm>
          <a:prstGeom prst="ellipse">
            <a:avLst/>
          </a:prstGeom>
          <a:solidFill>
            <a:srgbClr val="a8b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ФСН №12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0" name="Прямоугольник 2"/>
          <p:cNvSpPr/>
          <p:nvPr/>
        </p:nvSpPr>
        <p:spPr>
          <a:xfrm>
            <a:off x="108000" y="506520"/>
            <a:ext cx="9036000" cy="54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т.1000– выявлен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перв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фосмотре, из графы 8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т.3000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явлено  при  диспансер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ых   групп взрослого населения, из графы 6;  в таблице 2000 выявлено  при  диспансеризац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1т.1000 (12-2000, 10-3000)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нято с диспансерного             наблю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 всем причинам: выздоровление, смерть, переезд на другое место жительства и др.)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2 (13-2000, 11-3000)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стоит под диспансерным наблюдением на конец отчет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8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т.1000 (15-2000, 12-3000)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стояло под диспансерным наблюдением на начало отчетно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ы 5,11,14, 16-в таблице 2000 –все данные о юнош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ять можно с диспансерного наблюдения (п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ричинам: выздоровление, смерть, переезд на   другое место жительства и др.)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в другую возрастную группу </a:t>
            </a: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не входит в графу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«снято с диспансерного наблюдения»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341280" y="5827680"/>
            <a:ext cx="833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жно помнить в т. 2000: всего «минус» юноши «равно» девушки!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3" name="Прямоугольник 2"/>
          <p:cNvSpPr/>
          <p:nvPr/>
        </p:nvSpPr>
        <p:spPr>
          <a:xfrm>
            <a:off x="755640" y="105264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ит, острый миокардит, острые  респираторные  инфекции  верхних и  нижних  дыхательных  путей,  грипп, а  также  травмы,  за  исключением  последствий и др.) регистрируются столько раз, сколько они возникают в течение отчетного года. При этом графа 4 должна быть равна графа 8 т. 1000 (2000-7,3000-6)  по  соответствующим  строкам  таблиц 1000, 1500, 2000, 3000 и  4000.  На  начало года по данным строкам 0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5" name="Прямоугольник 1"/>
          <p:cNvSpPr/>
          <p:nvPr/>
        </p:nvSpPr>
        <p:spPr>
          <a:xfrm>
            <a:off x="858960" y="66024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«всего» и «впервые в жизни установленный диагноз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графы равны!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6" name="TextBox 1"/>
          <p:cNvSpPr/>
          <p:nvPr/>
        </p:nvSpPr>
        <p:spPr>
          <a:xfrm>
            <a:off x="771480" y="2968560"/>
            <a:ext cx="767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-наблюдение либо по I25.8 (при переходе в ОИМ), либо по I20 (стр. 10.4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7" name="TextBox 4"/>
          <p:cNvSpPr/>
          <p:nvPr/>
        </p:nvSpPr>
        <p:spPr>
          <a:xfrm>
            <a:off x="539640" y="389268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ми нарушениями мозгового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я наблюдаются в течение 28 дней, а затем сним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испансерного учета, поэтому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«Состоит на ДУ»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заболева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9" name="Прямоугольник 1"/>
          <p:cNvSpPr/>
          <p:nvPr/>
        </p:nvSpPr>
        <p:spPr>
          <a:xfrm>
            <a:off x="0" y="549360"/>
            <a:ext cx="9036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 всегд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ичный (+), с (-) н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графах «всего» и «с впервые в жизни уст. диагнозом», а диспансерных по ишемической болезни сердца, в графе «состоит по наблюдением на конец отчетного года»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0" name="TextBox 1"/>
          <p:cNvSpPr/>
          <p:nvPr/>
        </p:nvSpPr>
        <p:spPr>
          <a:xfrm>
            <a:off x="437760" y="3068640"/>
            <a:ext cx="83588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первичный (+), с (-) нет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гр. 4 всегда равна гр. 9. По диагнозу «Инсульт»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ые подлежат диспансерному  наблюдению по гр. 15   на протяжении 30 дней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момента начальных  проявлений или более в пределах одного эпизода лече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диспансерное наблюдение осуществляется по последствия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ьта – парезы, параличи, энцефалопатия, речевые нарушения и т.д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омнить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код I69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пользуется тольк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мертно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2" name="Прямоугольник 2"/>
          <p:cNvSpPr/>
          <p:nvPr/>
        </p:nvSpPr>
        <p:spPr>
          <a:xfrm>
            <a:off x="54000" y="506520"/>
            <a:ext cx="8858160" cy="69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0.6.7 заполняются графы «всего» и «с впервые в жизни уст. диагнозом»,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Пневмония - графа «всего» = графе «с впервые в жизни уст. диагнозом»,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графа «взято под диспансерное наблюдение» = графе «взято под диспансерное наблюдение из впервые в жизни»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4" name="Прямоугольник 1"/>
          <p:cNvSpPr/>
          <p:nvPr/>
        </p:nvSpPr>
        <p:spPr>
          <a:xfrm>
            <a:off x="611280" y="506520"/>
            <a:ext cx="7921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00-K93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5" name="TextBox 1"/>
          <p:cNvSpPr/>
          <p:nvPr/>
        </p:nvSpPr>
        <p:spPr>
          <a:xfrm>
            <a:off x="297360" y="1754280"/>
            <a:ext cx="85474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ю множественным прогрессирующим  кариесом зубов (4 раза в год);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й формой пародонтита (1 раз в 6 мес.),  тяжелой формой (каждые 3 мес.); пародонтозом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раз в 6 мес. для профилактики осложнений); хроническими гингивитами, стоматитами,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йлитами, глоссальгией (от 2 до 4 раз в год);  одонтогенными невралгиями тройничного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вритами лицевого нервов  (от 2 до 4 раз в год); хроническими остеомиелитами костей лиц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раза в год); хроническим одонтогенным воспалением верхнечелюстной пазухи (2 раза в год);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м воспалением слюнных желез (2 раза в год); предраковыми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ми челюстей и полости рта, злокачественными новообразованиями челюстей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лости рта (совместно с онкологами в зависимости от стадии заболевания);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ыми расщелинами челюстно-лицевой области  (2 раза в год); зубочелюстными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ми (2—3 раза в год);  врожденными и приобретенными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ми челюстей (2 раза в год)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7" name="Прямоугольник 1"/>
          <p:cNvSpPr/>
          <p:nvPr/>
        </p:nvSpPr>
        <p:spPr>
          <a:xfrm>
            <a:off x="611280" y="765000"/>
            <a:ext cx="8066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42.1</a:t>
            </a:r>
            <a:r>
              <a:rPr b="1" lang="ru-RU" sz="2400" spc="-1" strike="noStrike" u="sng">
                <a:solidFill>
                  <a:srgbClr val="dafbf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охондроз позвоночника у взрослых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охондроз позвоночник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рекомендаци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48.0, М 54, М50.0, М50.1, М50.2, М50.3, М50.8, М50.9, М51.0, М51.1, М51.2, М51.3, М51.8, М51.9, М53.2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Просим обратить внимание специалистов на более точную формулировку диагнозов при остеохондрозе!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9" name="Прямоугольник 1"/>
          <p:cNvSpPr/>
          <p:nvPr/>
        </p:nvSpPr>
        <p:spPr>
          <a:xfrm>
            <a:off x="684360" y="646200"/>
            <a:ext cx="777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3600"/>
            </a:b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3600"/>
            </a:b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и межгодовой контроли!!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Разница по любому показателю в годовом отчете более, чем на 5% требует объяснения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Проводите сверку с мониторингами!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1" name="Прямоугольник 1"/>
          <p:cNvSpPr/>
          <p:nvPr/>
        </p:nvSpPr>
        <p:spPr>
          <a:xfrm>
            <a:off x="611280" y="4581360"/>
            <a:ext cx="784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рсина И.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82153962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sinaii@miacugra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2" name="TextBox 1"/>
          <p:cNvSpPr/>
          <p:nvPr/>
        </p:nvSpPr>
        <p:spPr>
          <a:xfrm>
            <a:off x="1403640" y="1774800"/>
            <a:ext cx="645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Благодарю за внимание!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8"/>
          <p:cNvSpPr/>
          <p:nvPr/>
        </p:nvSpPr>
        <p:spPr>
          <a:xfrm>
            <a:off x="179280" y="189000"/>
            <a:ext cx="6337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7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8" name="TextBox 1"/>
          <p:cNvSpPr/>
          <p:nvPr/>
        </p:nvSpPr>
        <p:spPr>
          <a:xfrm>
            <a:off x="302760" y="68724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!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579" name="Схема 2" descr=""/>
          <p:cNvPicPr/>
          <p:nvPr/>
        </p:nvPicPr>
        <p:blipFill>
          <a:blip r:embed="rId1"/>
          <a:stretch/>
        </p:blipFill>
        <p:spPr>
          <a:xfrm>
            <a:off x="3975120" y="963720"/>
            <a:ext cx="5059440" cy="4601880"/>
          </a:xfrm>
          <a:prstGeom prst="rect">
            <a:avLst/>
          </a:prstGeom>
          <a:ln w="0">
            <a:noFill/>
          </a:ln>
        </p:spPr>
      </p:pic>
      <p:sp>
        <p:nvSpPr>
          <p:cNvPr id="580" name="TextBox 4"/>
          <p:cNvSpPr/>
          <p:nvPr/>
        </p:nvSpPr>
        <p:spPr>
          <a:xfrm>
            <a:off x="250920" y="1477800"/>
            <a:ext cx="3647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ть формы статистического наблюдения за 2018 год по юридическому лицу без входящих подразделений! Филиалы предоставляются отдельно!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744480" y="80172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4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996840" y="23716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a76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744480" y="3602160"/>
            <a:ext cx="789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онар, минуя поликлинику, следует включать в отчёт на общих основаниях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алон может быть заполнен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дан в поликлини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либо  заполнен в поликлинике на основании выписки из карты стационарного больного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95400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586" name="Схема 2" descr=""/>
          <p:cNvPicPr/>
          <p:nvPr/>
        </p:nvPicPr>
        <p:blipFill>
          <a:blip r:embed="rId1"/>
          <a:stretch/>
        </p:blipFill>
        <p:spPr>
          <a:xfrm>
            <a:off x="347760" y="865080"/>
            <a:ext cx="8899560" cy="500544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4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9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590" name="Схема 3" descr=""/>
          <p:cNvPicPr/>
          <p:nvPr/>
        </p:nvPicPr>
        <p:blipFill>
          <a:blip r:embed="rId1"/>
          <a:stretch/>
        </p:blipFill>
        <p:spPr>
          <a:xfrm>
            <a:off x="96840" y="847800"/>
            <a:ext cx="8656560" cy="560844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6" descr=""/>
          <p:cNvPicPr/>
          <p:nvPr/>
        </p:nvPicPr>
        <p:blipFill>
          <a:blip r:embed="rId2"/>
          <a:stretch/>
        </p:blipFill>
        <p:spPr>
          <a:xfrm>
            <a:off x="468360" y="24447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70c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3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594" name="Схема 2" descr=""/>
          <p:cNvPicPr/>
          <p:nvPr/>
        </p:nvPicPr>
        <p:blipFill>
          <a:blip r:embed="rId1"/>
          <a:stretch/>
        </p:blipFill>
        <p:spPr>
          <a:xfrm>
            <a:off x="42840" y="1925640"/>
            <a:ext cx="9217080" cy="484668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1" descr=""/>
          <p:cNvPicPr/>
          <p:nvPr/>
        </p:nvPicPr>
        <p:blipFill>
          <a:blip r:embed="rId2"/>
          <a:stretch/>
        </p:blipFill>
        <p:spPr>
          <a:xfrm>
            <a:off x="7596360" y="165240"/>
            <a:ext cx="122868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7" name="Прямоугольник 37"/>
          <p:cNvSpPr/>
          <p:nvPr/>
        </p:nvSpPr>
        <p:spPr>
          <a:xfrm>
            <a:off x="39528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0560" y="1832040"/>
            <a:ext cx="87138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пациентов, состоящих на конец 2018 года под диспансерным наблюдение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под диспансерным наблюдением лиц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с хроническим вирусным гепатитом (В18) и циррозом печени (К74.6) одновременно«1»________чел.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с хроническим вирусным гепатитом (В18) и  гепатоцеллюлярным раком (С22.0)                                                                          одновременно«2»________ч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"/>
          <p:cNvSpPr/>
          <p:nvPr/>
        </p:nvSpPr>
        <p:spPr>
          <a:xfrm>
            <a:off x="3419640" y="62064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Изменения: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0" name="TextBox 2"/>
          <p:cNvSpPr/>
          <p:nvPr/>
        </p:nvSpPr>
        <p:spPr>
          <a:xfrm>
            <a:off x="927000" y="1233360"/>
            <a:ext cx="74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Добавлены таблицы 1003, 2003, 3003, 4003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601" name="Рисунок 1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3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3" name="Прямоугольник 37"/>
          <p:cNvSpPr/>
          <p:nvPr/>
        </p:nvSpPr>
        <p:spPr>
          <a:xfrm>
            <a:off x="53964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24000" y="1268280"/>
          <a:ext cx="8640720" cy="3013200"/>
        </p:xfrm>
        <a:graphic>
          <a:graphicData uri="http://schemas.openxmlformats.org/drawingml/2006/table">
            <a:tbl>
              <a:tblPr/>
              <a:tblGrid>
                <a:gridCol w="2303280"/>
                <a:gridCol w="660600"/>
                <a:gridCol w="785520"/>
                <a:gridCol w="500040"/>
                <a:gridCol w="642960"/>
                <a:gridCol w="642960"/>
                <a:gridCol w="569880"/>
                <a:gridCol w="500040"/>
                <a:gridCol w="714600"/>
                <a:gridCol w="571320"/>
                <a:gridCol w="749520"/>
              </a:tblGrid>
              <a:tr h="18252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 при  диспан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изации определенных групп взрослого населения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7221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4a7b"/>
                </a:solidFill>
                <a:latin typeface="Calibri"/>
              </a:rPr>
              <a:t>В таблицы 1000, 2000, 3000, 4000 добавлена ст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17520" y="4265640"/>
          <a:ext cx="8647200" cy="2424240"/>
        </p:xfrm>
        <a:graphic>
          <a:graphicData uri="http://schemas.openxmlformats.org/drawingml/2006/table">
            <a:tbl>
              <a:tblPr/>
              <a:tblGrid>
                <a:gridCol w="2305080"/>
                <a:gridCol w="649080"/>
                <a:gridCol w="792360"/>
                <a:gridCol w="504720"/>
                <a:gridCol w="647640"/>
                <a:gridCol w="649440"/>
                <a:gridCol w="576360"/>
                <a:gridCol w="504720"/>
                <a:gridCol w="719280"/>
                <a:gridCol w="577800"/>
                <a:gridCol w="720720"/>
              </a:tblGrid>
              <a:tr h="54756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-Е1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: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ажением глаз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.3, Е11.3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.3, Е13.3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4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ажением почек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.2, Е11.2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.2, Е13.2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4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 (из стр. 5.2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   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функция гипофиз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8" name="Прямоугольник 2"/>
          <p:cNvSpPr/>
          <p:nvPr/>
        </p:nvSpPr>
        <p:spPr>
          <a:xfrm>
            <a:off x="179280" y="765000"/>
            <a:ext cx="86407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болевания, зарегистрированные у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   в году (+ и -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этом графа 4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графам 5+6 в таблице 1000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7 (2000-6, 3000-5)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зято под диспансерное наблюдение 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в течение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 графы 4 «всего» (+ и -)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8 (2000-7,3000-6) 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олевания, зарегистрированные у 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пациентов впервые в жизн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,  из графы 4;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т.1000 (2000-8, 3000-7)  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зято под диспансерное          наблюд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ечение года (+) , из графы 9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всем строкам таблиц 1000, 2000, 3000, 4000 из графы «Взято под диспансерное наблюдение» минус графа «Снято с диспансерного наблюдения» равно «Состоит под диспансерным наблюдением»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Дюдина Светлана Юрьевна</cp:lastModifiedBy>
  <dcterms:modified xsi:type="dcterms:W3CDTF">2018-12-19T04:48:20Z</dcterms:modified>
  <cp:revision>577</cp:revision>
  <dc:subject/>
  <dc:title>슬라이드 1</dc:title>
</cp:coreProperties>
</file>