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397-A7ED-4120-8C23-210FFB71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3CD-CA41-463E-BE8F-560B6A6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4D7B1-8B2A-4AD0-B6A7-2A70286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292F-9FE4-45CE-AC12-8CE7A406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89442-4DBC-4EF4-B5ED-E36EBC2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D230-89A5-4CEB-9A83-B9091F25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830F3-321E-4D19-A586-F1F4940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AE747-A57D-4C45-A8B8-3231098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D08F1-BD9F-407C-9C29-78FA17E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0451D-CD94-4E6E-B511-306B0BDB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0F44E-019C-4AA1-B9F1-386DFD16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4CE61-6CD9-4EAC-93D3-7254252E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C76-B951-42D6-A038-F5D74376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85D2-F7D6-4439-A1ED-4518AE02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61F40-D5E9-4EA4-9A43-0DB4FA0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47B8-F44D-4055-AE07-C3AF9A1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D456-1CD4-4A00-87EA-EC440F0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9410D-D43D-434E-A851-10B95CD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F9D4-1A3D-450B-8972-7798D30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D8DE5-6739-4C64-A478-3BAF770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24720-A7EC-4EE3-9859-94AD66C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4C67E-C267-48B9-B4CC-A6520E0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0552B-A428-4F5A-9D85-411BBE31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A5B-D031-4DC1-BB8A-DB2816D6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7DBE4-D596-4AC0-89AE-82E26C6E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382E6-42CA-4001-8C83-25673D54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7CE22-82B3-45DE-9CB4-0EEF8F2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76613-E109-471F-8CF4-D9CEA0B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31DA-9465-40DB-BC04-968E1EE2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46E99-8A8E-42C0-B04C-95E33E5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7798-6B36-4947-AAE7-D24C6F7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03A09-520D-4474-A8D1-5C016BB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6F5A-E761-4CC0-8AD0-0AC3967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57BFD-E21C-4185-965A-4198A49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DED-5E71-44C6-AE51-48E40F2D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654C-EEB1-4685-B4E1-3B3787E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84F7A-ACB8-4E11-AA58-71885235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93B8F-20D7-4FE9-ABFE-C6348B94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0C498-0B9B-44D9-B2DF-2A815976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C48A5-67C0-449D-A026-E64B2E5B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46B93-B43E-4FE4-AB30-891EF175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544BA-FB01-41B7-97A3-38B0959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D3B61-2B64-45C6-B17F-3661B49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E0DF8-2B3C-411E-8CD4-A681C7D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3B673-599F-44E9-812F-C20DB7C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3A7-39D2-486A-B8F6-42D7623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5C33D-9156-4323-8F7F-F8E1333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C1ED1-C845-488B-8FA4-1B5CF78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F9ED6-C45F-4AE1-9CD9-9C632A1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5A62-51FB-4629-911B-B2D208A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27045-EAC9-4F55-8F62-1E636E60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20B52-F72A-482E-9B44-7FD969A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5DE22-18B0-4398-A16C-73F8D61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C10C5-6BD8-4D32-AA78-BE0D97A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D61FC-6D10-43A4-9773-CFFB990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5D01C-B528-4A3C-9A52-68F5E04D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8D8-685E-4F56-AB6C-F585452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57C24-403B-4E1B-8A4C-80AF151D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9B051-A519-4FCB-84DA-42FCC74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D9C60-6895-4790-A534-D21F1C09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B355F-BBCC-4659-9A44-7DED52E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BDEE0-5BF6-40EB-9536-31ECE76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4EAE4-53DB-43BE-A624-74FBEFE8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642F7-906A-4B5A-8EE3-C36A9905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E4943-0D2C-4DE1-BA0A-3FD4BFB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FC520-3333-42FC-B934-BDA6538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6785A-5DF8-4562-8AE8-EEE0689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16BA-BF82-433A-95E1-0073C3BE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2880A-B059-4A8F-BF9C-9328D062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CE0F5-42A0-4484-8ED4-7461FCB3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516D6-34FC-4C87-9AEE-85B080C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A2BF3-DEE3-47F2-B253-A316D47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9A4A9-6005-4365-9645-B1D58BF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AC304-3F4E-42A5-B1CE-14E1AAE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0011B-7886-45BF-BB17-62227FC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788F3-0303-454D-AF6B-B6CD337E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3FF3C-77FC-4354-A733-7BD50963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F74E1-B329-4602-9AE4-86BD4467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D28F-52A9-4246-B56A-DAB5F8A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CD9FA-D308-431B-8282-E78D915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0B7CD-E4BE-4572-A1A1-4437503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085D8-7AB0-42D8-81A7-272BC95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9C495-E3E8-4E60-BDD3-B3EEB1F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3F23C-A98B-4C20-8EB3-F3B8E163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56082-0F5B-4E2E-847B-D6D30FC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6FD2C-FC89-41FD-9352-D3534CEE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50C4D-E78A-4335-A6DC-5B4AA45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4B694-F024-4F11-B63F-DB770DF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2FF83-FE3E-4797-A49E-33E9C2BD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9A6-C830-4471-8AF9-EEF2CD1E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8C3B3-5A4E-426B-BE27-66B6C7F2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0101C-1AC7-4C19-97DF-A536094E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AA9E1-0918-4370-8E85-E5726F57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B58FF-DD42-4EAE-BB63-662AB3A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1FD4E-149B-46AC-AB49-D43D7585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8C3ED-A9A2-4EB5-A653-CF770A5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D3473-620F-40BD-9BF0-C2A9744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1529D-867C-4BDA-9C8A-C1769AE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B29CB-0E48-4400-8AF3-8D5FF02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D468E-78FC-4765-961C-690D38E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12E5-6DD2-4AAF-BF02-B79677D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87806-307A-4C8F-9D3D-A794913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C163C-76F3-4FF1-BFF1-7C4531DE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242CD-A7C7-405A-8109-B9227674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B65C0-92ED-4B35-970F-466438A3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BC9C4-F64C-43ED-B819-525C3135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0846A-BE27-4AE0-9A98-11F2674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8D392-F43C-4028-B5AF-8F084A9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05A57-7545-4F56-825C-1502FFA4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FF072-5D22-4FF7-8FB9-E2269EB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22687-7412-4BB2-B5E0-6EA31B6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933-2577-4340-B6DC-36E62C15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B144-E41B-48BC-8B23-E0CC05F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DC618-BCDB-4CA4-92A3-72B6602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6D2BF-D56B-40D8-BC3D-D2E67924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A3D5B-9F66-4080-982B-2B42143A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DFB99-DD3A-4943-B9E4-3291400D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5CA5C-3074-42D3-BC6D-92A0F20C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B85C36-AA7A-46BE-9852-31C1EF70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1B29A-22F6-4EC9-96EA-2E522DA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EDB7F-496C-4EBE-B6C8-7457333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BFF2E-A895-4A7D-8F9D-542B36A3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AB635-53A1-4645-ADE1-FAA78D8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5EE-7DE4-49FD-99F6-23F6E9C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34225-2FEF-4D7D-896D-72F25519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F27CD-169C-4055-A1C6-1AF6EC7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8C3BE-1589-4082-911D-EB2B74A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8CAEE-A53C-4879-9619-1078901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A07E3-45FF-4455-A81C-31540E8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3E2EC-B9F8-4E79-9222-81BD7F6A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0CE75-FC08-473E-A5E3-02A0C42B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9F3-B140-4272-B2AE-72DB01B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448C-8D6F-49BE-9D7E-FDBB9207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F6E8-37A8-486C-BC3C-E9B835CF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F970-8440-4990-B480-2323FBE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6730-6C41-4BA1-92CF-F237EF93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FBEF-9D24-49E4-9149-FB6B218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BB1A-7FED-4ACB-8A72-6434A72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EFC7-0CEC-4A94-B34F-A686207B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B40-3DC8-4107-928F-05A1395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890E-F384-45A1-80BB-608B68C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6E98-82FE-4D95-9F14-B265E6A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F171-5B01-4F89-A1B0-88CB1D1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1DBA-ADB2-4E23-9DEF-5BC3D36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FC90-8ABD-44C3-AC01-ECAF9D8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4C17-B522-4330-97C5-0ABA838F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D006-52A9-475C-9A80-DF7C967E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DC45-ACE6-4308-AEE3-C1CB0E85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D755-6FD9-45D6-9403-5A1BB03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25C0-32CD-4668-90C4-E50050EC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D04-68EB-4442-89E5-9C91C17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F364-EBF4-4F6B-A133-FEE7CBDD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098D-1D77-4FCC-ACB5-86E3383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5476-1345-405D-B9C6-17D9D443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F3CB-C116-4E24-B404-9B452FF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71A2-0974-407A-BE51-1E793E5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73F7-40BB-459E-862E-3A6BDE1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102B-9372-4770-9A1A-F3FDA3F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1BA9-C573-4679-B397-CE07B348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9F10-D329-4316-B400-095C8D88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54AD-F9A0-4432-B28E-8A46013F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122-16F6-4149-A05F-69F89689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12E9-FF6D-42A6-830E-57F6A68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51E3-7736-4B28-B942-C90FD70C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D5455-0666-46A6-9F5D-9C5BE5A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7DFD-5795-40DC-811C-3F5EC1B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FF2D-0431-4801-AE76-BC26215A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DE46-DB32-449D-9A8E-281FDD7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CAC2-7615-4839-BCE5-8C01E1D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D5C2-0C30-47F8-82D4-977EAD4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DDD0-2F59-4920-8AF1-A9804A1C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0917-3918-4B82-9EBA-497945E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117-DAE7-4DC1-9872-B4CEEF3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8D1F-3E53-4176-AA8A-F2DB4835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D63C-90B3-4859-993B-1876C051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9491-2941-4085-B696-5AFAFF6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C375F-1258-43A8-872E-4F8024F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8FE8-6BC3-4811-98BC-C5586B8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4A61-DE25-49B2-93CA-DA55B7E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C2EE-0006-4297-97C5-00356DA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1BDA-05A8-4A49-BFD3-C479201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C315-6DB5-4F8D-AD40-0D42869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87BF-D738-4450-9CF3-59DF75DA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7DD-6A5F-44A7-9AA3-2D15A91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2B7C-99B3-4D96-B59C-5AD82D1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ED2FC-3394-4E1D-9F21-50D3D9F8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CBD48-2E50-4290-A80A-BF059668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8008-647F-4564-9112-6AF88EE8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45AE-784E-4439-8ECF-D260736E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76B5-A036-4D97-A3F4-BB255697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97BA-E3B6-4661-A6B3-A7D83852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2CA4-C94B-4137-B595-D4D9285D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834A0-813F-4DA7-A66B-BD5F8C7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580B-0252-457B-97F9-66E82DB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AE1-D2B7-471C-AEF7-F87051A0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5FA3-7F0E-46A7-A234-B3787D1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4086-DDA1-4A06-814F-35618B24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2C31-F4A4-4228-9FCC-15248107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6A90-1B7B-4297-94B7-9688DB7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85DE-0954-4229-9FBB-3EA38D97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7BFAC-9E93-4588-A234-DBA9527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3C96-D905-4E31-BB4F-C1BA8DF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4588-C2F0-4AB2-AEF2-97ED75B4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08EA-3A2B-4F23-B1E0-5922137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CE10-8367-4D94-8A0F-8679E97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DD8-D7E9-4520-9553-A40D5B8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33DDB-4B61-4C70-B699-0AA0C1B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4CEBF-8649-41CC-8D5E-D0A6201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9AD2-64DB-445A-96EE-5F743A9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9C868-4477-4B60-8164-1375039E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96A89-30A8-431E-9A90-4E6189CF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6FA9-B360-4F71-9D8B-31931A0C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E064-B9CA-4F6C-AAFF-0344A1F7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D70FA-840D-40BD-8354-8824D6D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FF4AF-E925-4233-AACF-9E6F19B5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FDC92-D8CE-401D-BABE-86C452DD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D86-4C5F-4B2B-92F8-BA437D2C986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A72F-E891-45EA-A33F-0056D5ADD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17B-1074-4226-ACF1-7A4CC12021D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D1D8-67BF-437D-B88A-E6D9681411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615-2462-4194-8172-5A36230FCC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6EB-DDC1-4C06-898F-C6623239E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49F5-CBDC-4C2C-B8EC-20C41118E4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90E1-7E6D-4277-9675-3C39152A7D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-윤고딕140"/>
              </a:rPr>
              <a:t>“</a:t>
            </a:r>
            <a:endParaRPr b="1" lang="en-US" sz="8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-윤고딕140"/>
              </a:rPr>
              <a:t>”</a:t>
            </a:r>
            <a:endParaRPr b="1" lang="en-US" sz="8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7D3-8372-457B-9C88-7FC40493E2E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B221-5A32-4038-897B-77547135A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7FA6-90E3-4F5F-870E-BE8675DC0A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151-C086-4CE0-960B-73ABA5792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40A-05F0-4FAA-9544-635B75B5945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31A5-48BB-453D-9A5B-FFD4F5726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5B5-5763-4869-8997-66BCB6777A8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B5C-A0B4-454B-B870-E1EC0AB89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627-8617-4FC1-846B-C53A481CB47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3EC9-3C41-4A3B-8F04-5B8B6DCA98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B57-0D1B-43F2-A8E0-395970BC57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A531-F3C0-4F8A-93BC-934AB938A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14F8-C9B4-4A4F-B019-127BCC4A13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71E9-73FD-4CF9-8017-A34A26DA6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C70-D64B-4F0C-A1FB-74EF2465B58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6AC-CECB-4092-B4BF-94291401E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9DBA-EEFC-4828-8677-9481DAEB500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DD03-81A3-437F-AA1E-DDA475772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DB0-09A4-4A9B-801B-BFAF4DDD35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F0A-F7A1-4CF9-B766-903064356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4C48-AD20-46B4-BEE6-352CE479782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CDA-39FA-49D7-9E2B-437335CDE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9410-B96A-4EB6-A286-07292FD941D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3B7-6659-4496-B16A-F26A408A2A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D6E-EDD2-4653-839B-E26D700426E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357-6FCD-44DA-BFDA-C9E3F705B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7C7-00AA-48E3-A01A-E73B9C91442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E2F-CD2C-4369-A05A-5CE619523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855720" y="260280"/>
            <a:ext cx="4363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6" name="Прямоугольник 20"/>
          <p:cNvSpPr/>
          <p:nvPr/>
        </p:nvSpPr>
        <p:spPr>
          <a:xfrm>
            <a:off x="324000" y="765000"/>
            <a:ext cx="871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ВЕДЕНИЯ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 ЧИСЛЕ ЗАБОЛЕВАНИЙ,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РЕГИСТРИРОВАННЫХ У   ПАЦИЕНТОВ,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ОЖИВАЮЩИХ В РАЙОНЕ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СЛУЖИВАНИЯ МЕДИЦИНСКОЙ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7" name="Овал 2"/>
          <p:cNvSpPr/>
          <p:nvPr/>
        </p:nvSpPr>
        <p:spPr>
          <a:xfrm>
            <a:off x="3348000" y="5013360"/>
            <a:ext cx="2354400" cy="163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8" name="Овал 3"/>
          <p:cNvSpPr/>
          <p:nvPr/>
        </p:nvSpPr>
        <p:spPr>
          <a:xfrm>
            <a:off x="1968480" y="5332320"/>
            <a:ext cx="5113440" cy="994320"/>
          </a:xfrm>
          <a:prstGeom prst="ellipse">
            <a:avLst/>
          </a:prstGeom>
          <a:solidFill>
            <a:srgbClr val="f0d7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ФСН №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fa3ee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2019 ГОД 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1. ДЕТИ (0-14 ЛЕТ ВКЛЮЧИТЕЛЬНО)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1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7" name="Таблица 1" descr=""/>
          <p:cNvPicPr/>
          <p:nvPr/>
        </p:nvPicPr>
        <p:blipFill>
          <a:blip r:embed="rId1"/>
          <a:stretch/>
        </p:blipFill>
        <p:spPr>
          <a:xfrm>
            <a:off x="622440" y="2603520"/>
            <a:ext cx="7905600" cy="2870280"/>
          </a:xfrm>
          <a:prstGeom prst="rect">
            <a:avLst/>
          </a:prstGeom>
          <a:ln w="0">
            <a:noFill/>
          </a:ln>
        </p:spPr>
      </p:pic>
      <p:sp>
        <p:nvSpPr>
          <p:cNvPr id="81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8cb8"/>
                </a:solidFill>
                <a:latin typeface="-윤고딕140"/>
                <a:ea typeface="-윤고딕140"/>
              </a:rPr>
              <a:t>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-윤고딕140"/>
                <a:ea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20" name="Таблица 1" descr=""/>
          <p:cNvPicPr/>
          <p:nvPr/>
        </p:nvPicPr>
        <p:blipFill>
          <a:blip r:embed="rId1"/>
          <a:stretch/>
        </p:blipFill>
        <p:spPr>
          <a:xfrm>
            <a:off x="743040" y="1006560"/>
            <a:ext cx="7589880" cy="59068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2. ДЕТИ ПЕРВЫХ ТРЕХ ЛЕТ ЖИЗНИ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w Cen MT"/>
                <a:ea typeface="-윤고딕140"/>
              </a:rPr>
              <a:t>ТАБЛИЦА 1600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ДЕТИ ПЕРВОГО ГОДА ЖИЗНИ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ФАКТОРЫ, ВЛИЯЮЩИЕ НА СОСТОЯНИЕ ЗДОРОВЬЯ НАСЕЛЕНИЯ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И ОБРАЩЕНИЯ В МЕДИЦИНСКИЕ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(С ПРОФИЛАКТИЧЕСКОЙ И ИНОЙ ЦЕЛЬЮ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w Cen MT"/>
                <a:ea typeface="-윤고딕140"/>
              </a:rPr>
              <a:t>ТАБЛИЦА ЗАПОЛНЯЕТСЯ ПО ОБРАЩЕНИЯМ ДЕТЕЙ ПЕРВОГО ГОДА ЖИЗНИ (РОДИВШИЕСЯ В 2018 ГОДУ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26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712880"/>
            <a:ext cx="8248680" cy="283536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46280" y="781200"/>
            <a:ext cx="8146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0" name="Таблица 4" descr=""/>
          <p:cNvPicPr/>
          <p:nvPr/>
        </p:nvPicPr>
        <p:blipFill>
          <a:blip r:embed="rId1"/>
          <a:stretch/>
        </p:blipFill>
        <p:spPr>
          <a:xfrm>
            <a:off x="530280" y="1749600"/>
            <a:ext cx="80341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42520" y="950400"/>
            <a:ext cx="8147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4. ВЗРОСЛЫЕ 18 ЛЕТ И БОЛЕ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3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Таблица 1" descr=""/>
          <p:cNvPicPr/>
          <p:nvPr/>
        </p:nvPicPr>
        <p:blipFill>
          <a:blip r:embed="rId1"/>
          <a:stretch/>
        </p:blipFill>
        <p:spPr>
          <a:xfrm>
            <a:off x="487440" y="2109960"/>
            <a:ext cx="7913520" cy="38638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8cb8"/>
                </a:solidFill>
                <a:latin typeface="Tw Cen MT"/>
              </a:rPr>
              <a:t>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5.</a:t>
            </a:r>
            <a:r>
              <a:rPr b="1" lang="ru-RU" sz="1600" spc="-1" strike="noStrike">
                <a:solidFill>
                  <a:srgbClr val="698cb8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ВЗРОСЛЫЕ СТАРШЕ ТРУДОСПОСОБНОГО ВОЗРАСТА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                     (С 55 ЛЕТ У ЖЕНЩИН И С 60 ЛЕТ У МУЖЧИН)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4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Таблица 1" descr=""/>
          <p:cNvPicPr/>
          <p:nvPr/>
        </p:nvPicPr>
        <p:blipFill>
          <a:blip r:embed="rId1"/>
          <a:stretch/>
        </p:blipFill>
        <p:spPr>
          <a:xfrm>
            <a:off x="622440" y="2749680"/>
            <a:ext cx="7905600" cy="36576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Графа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9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 (в т. 3000- гр.10)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трактовка не изменена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3" name="Rectangle 33"/>
          <p:cNvSpPr/>
          <p:nvPr/>
        </p:nvSpPr>
        <p:spPr>
          <a:xfrm>
            <a:off x="900000" y="317520"/>
            <a:ext cx="3743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873000" y="260280"/>
            <a:ext cx="463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80" name="Рисунок 4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781" name="Прямоугольник 1"/>
          <p:cNvSpPr/>
          <p:nvPr/>
        </p:nvSpPr>
        <p:spPr>
          <a:xfrm>
            <a:off x="250920" y="2133720"/>
            <a:ext cx="8583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ентов, проживающих в районе обслуживания  медицинской организации»,  составляется  всеми  медицинскими организациями, входящие в номенклатуру медицинских организаций, оказывающие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Прямоугольник 1"/>
          <p:cNvSpPr/>
          <p:nvPr/>
        </p:nvSpPr>
        <p:spPr>
          <a:xfrm>
            <a:off x="611280" y="98100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2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7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3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1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11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7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Прямоугольник 2"/>
          <p:cNvSpPr/>
          <p:nvPr/>
        </p:nvSpPr>
        <p:spPr>
          <a:xfrm>
            <a:off x="468360" y="1628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1(т.1000), гр.12(т.2000),гр.10 (т.3000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–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входит в графу «снято с диспансерного наблюдения»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9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рямоугольник 2"/>
          <p:cNvSpPr/>
          <p:nvPr/>
        </p:nvSpPr>
        <p:spPr>
          <a:xfrm>
            <a:off x="250920" y="20606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ответственно графа «»взято под диспансерное наблюдение» и графа «Снято с диспансерного наблюдения»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всем строкам таблиц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000 (гр.7), 2000 (гр.6), 3000 (гр.5), 4000 (гр.5)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- минус графа «снято» равно графе «состоит на конец года»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в том числе и строкам раздела 6.0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1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3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рямоугольник 2"/>
          <p:cNvSpPr/>
          <p:nvPr/>
        </p:nvSpPr>
        <p:spPr>
          <a:xfrm>
            <a:off x="4406760" y="19836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5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56" name="Таблица 4" descr=""/>
          <p:cNvPicPr/>
          <p:nvPr/>
        </p:nvPicPr>
        <p:blipFill>
          <a:blip r:embed="rId1"/>
          <a:stretch/>
        </p:blipFill>
        <p:spPr>
          <a:xfrm>
            <a:off x="743040" y="1006560"/>
            <a:ext cx="75898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900000" y="141264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ЗАПОЛНЯЮТСЯ В СООТВЕТСТВИИ С ТРЕБОВАНИЯМИ ПО ЗАПОЛНЕНИЮ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Rectangle 33"/>
          <p:cNvSpPr/>
          <p:nvPr/>
        </p:nvSpPr>
        <p:spPr>
          <a:xfrm>
            <a:off x="900000" y="317520"/>
            <a:ext cx="4751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Прямоугольник 2"/>
          <p:cNvSpPr/>
          <p:nvPr/>
        </p:nvSpPr>
        <p:spPr>
          <a:xfrm>
            <a:off x="395280" y="1557360"/>
            <a:ext cx="864072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сего» (гр.4) – «из них: юноши» (гр.5) = «всего девушки»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 впервые в жизни ..» (гр.7) – «из заболеваний … юноши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.11) = «девушки впервые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вушки впервые»  -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должно быть отрицательных 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3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5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8"/>
          <p:cNvSpPr/>
          <p:nvPr/>
        </p:nvSpPr>
        <p:spPr>
          <a:xfrm>
            <a:off x="179280" y="189000"/>
            <a:ext cx="6337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4" name="TextBox 1"/>
          <p:cNvSpPr/>
          <p:nvPr/>
        </p:nvSpPr>
        <p:spPr>
          <a:xfrm>
            <a:off x="302760" y="68724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ратить внимание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85" name="Схема 2" descr=""/>
          <p:cNvPicPr/>
          <p:nvPr/>
        </p:nvPicPr>
        <p:blipFill>
          <a:blip r:embed="rId1"/>
          <a:stretch/>
        </p:blipFill>
        <p:spPr>
          <a:xfrm>
            <a:off x="3992400" y="963720"/>
            <a:ext cx="5042160" cy="4583160"/>
          </a:xfrm>
          <a:prstGeom prst="rect">
            <a:avLst/>
          </a:prstGeom>
          <a:ln w="0">
            <a:noFill/>
          </a:ln>
        </p:spPr>
      </p:pic>
      <p:sp>
        <p:nvSpPr>
          <p:cNvPr id="786" name="TextBox 4"/>
          <p:cNvSpPr/>
          <p:nvPr/>
        </p:nvSpPr>
        <p:spPr>
          <a:xfrm>
            <a:off x="250920" y="1477800"/>
            <a:ext cx="364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едоставлять формы статистического наблюдения за 2019 год по юридическому лицу без входящих подразделений!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Филиалы предоставляются отдельно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Прямоугольник 2"/>
          <p:cNvSpPr/>
          <p:nvPr/>
        </p:nvSpPr>
        <p:spPr>
          <a:xfrm>
            <a:off x="684360" y="563400"/>
            <a:ext cx="784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которые острые  заболевания  и состояния (например: острый       отит, острый миокардит, острые  респираторные  инфекции  верхних и нижних  дыхательных  путей,  грипп, а  также травмы, за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сключением  по следствий и др.) регистрируются столько раз,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колько они возникают в течение отчетного года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 этом графа 4 должна быть равна  графе  9  по  соответствующим  строкам  таблиц 1000, 1500, 2000, 3000 и  400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а  начало года по данным строкам 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Это не относится к тем заболеваниям, при которых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трые формы могут переходить в хронические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 обострении хронических заболеваний регистрируют эти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ронические заболевания, а не их острые фор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7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Прямоугольник 2"/>
          <p:cNvSpPr/>
          <p:nvPr/>
        </p:nvSpPr>
        <p:spPr>
          <a:xfrm>
            <a:off x="34920" y="1341360"/>
            <a:ext cx="90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болевания, которые требуют подачи экстренных извещений в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Прямоугольник 2"/>
          <p:cNvSpPr/>
          <p:nvPr/>
        </p:nvSpPr>
        <p:spPr>
          <a:xfrm>
            <a:off x="755640" y="105264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"Выписного эпикриза". При этом если пациент пришел на прием, то в Талоне производится отметка о регистрации всех заболеваний для включения  этих сведений в форму федерального  статистического наблюдения № 12 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осится отметка о посещении. Если  пациент на  прием  не  пришел, то в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лоне регистрируются все заболевания без отметки о посещени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Талоне также 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чета. Эта данные  необходимы для заполнения формы федерального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атис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3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Прямоугольник 2"/>
          <p:cNvSpPr/>
          <p:nvPr/>
        </p:nvSpPr>
        <p:spPr>
          <a:xfrm>
            <a:off x="324000" y="134136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4. Болезни эндокринной системы, расстройства питания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нарушения обмена веществ. Е00-Е90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-윤고딕140"/>
              </a:rPr>
              <a:t>Гиперплазия щитовидной желез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никновения нанизма (карликовости)  могут  быть различны, соответственно  и кодировать  его  нужно  по-разному. Пример: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 вызванный лекарственными средствами – Е23.1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, обусловленный гипофизэктомией – Е89.3,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, обусловленный гормонально неактивной аденомой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физа – Е23.6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5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Прямоугольник 2"/>
          <p:cNvSpPr/>
          <p:nvPr/>
        </p:nvSpPr>
        <p:spPr>
          <a:xfrm>
            <a:off x="755640" y="1268280"/>
            <a:ext cx="7848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5. Психические расстройства 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 поведения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F00-F9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ы 4, 9, 15 формы 12 равны соответствующим графам и строка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форм 10, 11, 36, 37 (за минусом *) и с обязательным движением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поряжение МЗ РФ 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Прямоугольник 2"/>
          <p:cNvSpPr/>
          <p:nvPr/>
        </p:nvSpPr>
        <p:spPr>
          <a:xfrm>
            <a:off x="1008000" y="77760"/>
            <a:ext cx="7848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F00*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Деменция  при болезни Альцгеймера (G30.-+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F02*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еменция при других болезнях, классифицированных в других рубриках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G3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оздняя болезнь Альцгейме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8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ругие формы болезни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Альцгеймера неуточнен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2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Паркинсона</a:t>
            </a:r>
            <a:br>
              <a:rPr sz="1000"/>
            </a:b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9" name="Прямоугольник 3"/>
          <p:cNvSpPr/>
          <p:nvPr/>
        </p:nvSpPr>
        <p:spPr>
          <a:xfrm>
            <a:off x="1979640" y="54547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агнозы по неврологии показываются п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чке 7.0, по строке 6.0 не показываются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0" name="Rectangle 33"/>
          <p:cNvSpPr/>
          <p:nvPr/>
        </p:nvSpPr>
        <p:spPr>
          <a:xfrm>
            <a:off x="900000" y="22068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Прямоугольник 2"/>
          <p:cNvSpPr/>
          <p:nvPr/>
        </p:nvSpPr>
        <p:spPr>
          <a:xfrm>
            <a:off x="1476360" y="0"/>
            <a:ext cx="662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6. Болезни нервной системы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00-G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2" name="Прямоугольник 3"/>
          <p:cNvSpPr/>
          <p:nvPr/>
        </p:nvSpPr>
        <p:spPr>
          <a:xfrm>
            <a:off x="517680" y="1413000"/>
            <a:ext cx="78483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7.0.  Вегетативные расстройства, которые проявляются в нарушении регуляции сердечно-сосудистой, дыхательной и др. систем организма, могут быть синдромом таких заболеваний, как: гипертоническая болезнь, хроническ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шемическ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болезнь сердца, эндокринные нарушения и т.д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этом случа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учету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длежит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новно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болевание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вегетативной нервной системы кодируются G90.8,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матоформн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сфункция вегетативной нервной системы F45.3 (диагноз ставит психиатр)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 7.6 и 7.9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егд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больш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уммы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дстрочников. У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зрослых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(письмо МЗиСР РФ от 26 апреля 2011 г. №14-9/10/2-4150)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3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рямоугольник 1"/>
          <p:cNvSpPr/>
          <p:nvPr/>
        </p:nvSpPr>
        <p:spPr>
          <a:xfrm>
            <a:off x="179280" y="549360"/>
            <a:ext cx="87854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5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7" name="Прямоугольник 2"/>
          <p:cNvSpPr/>
          <p:nvPr/>
        </p:nvSpPr>
        <p:spPr>
          <a:xfrm>
            <a:off x="468360" y="2536920"/>
            <a:ext cx="8136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8.0 в графе «диспансерные» показываются: миопия и гиперметропия средней и высокой степени, паралитическое и не аккомадационно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соглазие, сложный астигматизм …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8" name="TextBox 3"/>
          <p:cNvSpPr/>
          <p:nvPr/>
        </p:nvSpPr>
        <p:spPr>
          <a:xfrm>
            <a:off x="744480" y="801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оответствии с Порядком заполнения формы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федерального статистического наблюдения №12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все таблицы заполняются по всем строкам и графам</a:t>
            </a:r>
            <a:br>
              <a:rPr sz="24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9" name="TextBox 4"/>
          <p:cNvSpPr/>
          <p:nvPr/>
        </p:nvSpPr>
        <p:spPr>
          <a:xfrm>
            <a:off x="996840" y="23716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крещенные графоклетк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заполняются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0" name="TextBox 5"/>
          <p:cNvSpPr/>
          <p:nvPr/>
        </p:nvSpPr>
        <p:spPr>
          <a:xfrm>
            <a:off x="744480" y="3602160"/>
            <a:ext cx="78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ведения о заболеваниях, выявленных у  больных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оступивших в стационар, минуя поликлинику, след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ключать в отчёт на общих основания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татталон может быть заполнен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стационаре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передан в поликли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,    либо  заполнен в поликлиник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на основании выписки из карты стационарного больног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Прямоугольник 1"/>
          <p:cNvSpPr/>
          <p:nvPr/>
        </p:nvSpPr>
        <p:spPr>
          <a:xfrm>
            <a:off x="1332000" y="1413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8. Болезни уха и сосцевидного отростка. Н60-Н95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0" name="Прямоугольник 2"/>
          <p:cNvSpPr/>
          <p:nvPr/>
        </p:nvSpPr>
        <p:spPr>
          <a:xfrm>
            <a:off x="684360" y="2367000"/>
            <a:ext cx="7632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Прямоугольник 2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9. Болезни системы кровообращения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I00-I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3" name="Прямоугольник 3"/>
          <p:cNvSpPr/>
          <p:nvPr/>
        </p:nvSpPr>
        <p:spPr>
          <a:xfrm>
            <a:off x="684360" y="1365120"/>
            <a:ext cx="7775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1"/>
          <p:cNvSpPr/>
          <p:nvPr/>
        </p:nvSpPr>
        <p:spPr>
          <a:xfrm>
            <a:off x="611280" y="1989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мер: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церебральны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теросклероз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с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торичной гипертензие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– I67.2; или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церебральный атеросклероз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и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ертоническая болезнь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– 2 талона (I67.2 и  I10) разносятся по двум строкам – строка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0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6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и строка 10.3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6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ик 1"/>
          <p:cNvSpPr/>
          <p:nvPr/>
        </p:nvSpPr>
        <p:spPr>
          <a:xfrm>
            <a:off x="684360" y="1268280"/>
            <a:ext cx="7848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Прямоугольник 1"/>
          <p:cNvSpPr/>
          <p:nvPr/>
        </p:nvSpPr>
        <p:spPr>
          <a:xfrm>
            <a:off x="1042920" y="2133720"/>
            <a:ext cx="7129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4.1.1 –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I20.0 –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СТАБИЛЬНАЯ СТЕНОКАРДИЯ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егистрируется раз в год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полняются графы 4 и 9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4 = графе 9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0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Прямоугольник 1"/>
          <p:cNvSpPr/>
          <p:nvPr/>
        </p:nvSpPr>
        <p:spPr>
          <a:xfrm>
            <a:off x="733320" y="1268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Прямоугольник 1"/>
          <p:cNvSpPr/>
          <p:nvPr/>
        </p:nvSpPr>
        <p:spPr>
          <a:xfrm>
            <a:off x="927000" y="1413000"/>
            <a:ext cx="770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-윤고딕140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4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Прямоугольник 1"/>
          <p:cNvSpPr/>
          <p:nvPr/>
        </p:nvSpPr>
        <p:spPr>
          <a:xfrm>
            <a:off x="611280" y="134136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5 включает пролапс митрального клапана (код I34.1)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5.4 включает только идиопатические (самостоятельные)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формы заболеваний. </a:t>
            </a:r>
            <a:br>
              <a:rPr sz="3200"/>
            </a:b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6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Прямоугольник 1"/>
          <p:cNvSpPr/>
          <p:nvPr/>
        </p:nvSpPr>
        <p:spPr>
          <a:xfrm>
            <a:off x="925560" y="90792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5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8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оугольник 2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8.2 - не включать флебит портальной вены (K75.1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0" name="Rectangle 33"/>
          <p:cNvSpPr/>
          <p:nvPr/>
        </p:nvSpPr>
        <p:spPr>
          <a:xfrm>
            <a:off x="900000" y="317520"/>
            <a:ext cx="439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2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93" name="Рисунок 6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794" name="Прямоугольник 1"/>
          <p:cNvSpPr/>
          <p:nvPr/>
        </p:nvSpPr>
        <p:spPr>
          <a:xfrm>
            <a:off x="468360" y="253512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ления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ую помощь в амбулаторных условия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дущая  только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ый прием, составляет форму по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трокам лишь в том случае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данной организации у пациентов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выявляются  эти заболевания, но 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их лечение,  а также  и диспансерно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пациен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2"/>
          <p:cNvSpPr/>
          <p:nvPr/>
        </p:nvSpPr>
        <p:spPr>
          <a:xfrm>
            <a:off x="1042920" y="1557360"/>
            <a:ext cx="7129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строке 10.6.7 заполняются графы 4, 9 и они равны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2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Прямоугольник 2"/>
          <p:cNvSpPr/>
          <p:nvPr/>
        </p:nvSpPr>
        <p:spPr>
          <a:xfrm>
            <a:off x="1187280" y="1197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0. Болезни органов дыхания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J00-J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4" name="Прямоугольник 3"/>
          <p:cNvSpPr/>
          <p:nvPr/>
        </p:nvSpPr>
        <p:spPr>
          <a:xfrm>
            <a:off x="684360" y="1773360"/>
            <a:ext cx="77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ети по приказу №725 от 15.06.83г – 12 месяцев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5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2"/>
          <p:cNvSpPr/>
          <p:nvPr/>
        </p:nvSpPr>
        <p:spPr>
          <a:xfrm>
            <a:off x="684360" y="1052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-윤고딕140"/>
              </a:rPr>
              <a:t>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 детей до 1 года жизни хронических заболеваний быть не должн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невмония - графа 4 = графе 8, графа 7 = графе 9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зница между выявлено и взято на Д-учет может быть за счет умерших, выбывши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7" name="Rectangle 33"/>
          <p:cNvSpPr/>
          <p:nvPr/>
        </p:nvSpPr>
        <p:spPr>
          <a:xfrm>
            <a:off x="900000" y="317520"/>
            <a:ext cx="381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Прямоугольник 2"/>
          <p:cNvSpPr/>
          <p:nvPr/>
        </p:nvSpPr>
        <p:spPr>
          <a:xfrm>
            <a:off x="900000" y="907920"/>
            <a:ext cx="73440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рые (со знаком  +)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этим строкам графы 4 и 8 таблиц 1000, 4 и 7 - 2000, 4 и 6- 3000 и 4 и 6- 4000 равны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9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"/>
          <p:cNvSpPr/>
          <p:nvPr/>
        </p:nvSpPr>
        <p:spPr>
          <a:xfrm>
            <a:off x="0" y="1125360"/>
            <a:ext cx="882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1. Болезни органов пищевар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K00-K93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1" name="Прямоугольник 2"/>
          <p:cNvSpPr/>
          <p:nvPr/>
        </p:nvSpPr>
        <p:spPr>
          <a:xfrm>
            <a:off x="755640" y="278136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болевания зубов включают в форму 12 только в том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лучае, если больной подлежит диспансерному наблюдению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. 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2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"/>
          <p:cNvSpPr/>
          <p:nvPr/>
        </p:nvSpPr>
        <p:spPr>
          <a:xfrm>
            <a:off x="611280" y="126828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4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Прямоугольник 1"/>
          <p:cNvSpPr/>
          <p:nvPr/>
        </p:nvSpPr>
        <p:spPr>
          <a:xfrm>
            <a:off x="1116000" y="119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2. Болезни кожи и подкожной клетчатки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L00-L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6" name="Прямоугольник 2"/>
          <p:cNvSpPr/>
          <p:nvPr/>
        </p:nvSpPr>
        <p:spPr>
          <a:xfrm>
            <a:off x="1042920" y="206064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3. Болезни костно-мышечной системы и соединительной ткани. М00-М99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7" name="Прямоугольник 3"/>
          <p:cNvSpPr/>
          <p:nvPr/>
        </p:nvSpPr>
        <p:spPr>
          <a:xfrm>
            <a:off x="755640" y="2997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Нарушение осанки,   сутулость – М53.2  Сколиоз – М4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8" name="Rectangle 33"/>
          <p:cNvSpPr/>
          <p:nvPr/>
        </p:nvSpPr>
        <p:spPr>
          <a:xfrm>
            <a:off x="900000" y="317520"/>
            <a:ext cx="4176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Прямоугольник 1"/>
          <p:cNvSpPr/>
          <p:nvPr/>
        </p:nvSpPr>
        <p:spPr>
          <a:xfrm>
            <a:off x="826920" y="1989000"/>
            <a:ext cx="7705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-вальгусная деформация стопы – М21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варусная деформация стопы – М21.1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стопие и плоская стопа – М21.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Нарушение осанки включать в строку 14.0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Прямоугольник 1"/>
          <p:cNvSpPr/>
          <p:nvPr/>
        </p:nvSpPr>
        <p:spPr>
          <a:xfrm>
            <a:off x="826920" y="184464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у взрослых кодируется M50 – M54 и показывается по строке 14.0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М42.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позвоночника у взрослых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позвоночника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инические рекомендации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(М48.0, М 54, М50.0, М50.1, М50.2, М50.3, М50.8, М50.9, М51.0, М51.1, М51.2, М51.3, М51.8, М51.9, М53.2)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1" name="Rectangle 33"/>
          <p:cNvSpPr/>
          <p:nvPr/>
        </p:nvSpPr>
        <p:spPr>
          <a:xfrm>
            <a:off x="1052640" y="469800"/>
            <a:ext cx="3951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Прямоугольник 1"/>
          <p:cNvSpPr/>
          <p:nvPr/>
        </p:nvSpPr>
        <p:spPr>
          <a:xfrm>
            <a:off x="755640" y="1341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4. Болезни мочеполовой системы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N00-N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3" name="Прямоугольник 2"/>
          <p:cNvSpPr/>
          <p:nvPr/>
        </p:nvSpPr>
        <p:spPr>
          <a:xfrm>
            <a:off x="611280" y="206064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денома простаты – N4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4" name="Rectangle 33"/>
          <p:cNvSpPr/>
          <p:nvPr/>
        </p:nvSpPr>
        <p:spPr>
          <a:xfrm>
            <a:off x="900000" y="317520"/>
            <a:ext cx="446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6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97" name="Рисунок 6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798" name="Прямоугольник 2"/>
          <p:cNvSpPr/>
          <p:nvPr/>
        </p:nvSpPr>
        <p:spPr>
          <a:xfrm>
            <a:off x="1886040" y="1268280"/>
            <a:ext cx="69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а основании сведений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 01 января по 31 декабря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1"/>
          <p:cNvSpPr/>
          <p:nvPr/>
        </p:nvSpPr>
        <p:spPr>
          <a:xfrm>
            <a:off x="900000" y="1052640"/>
            <a:ext cx="74898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7 – всегда больше строки 15.7.1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Строка 15.8 - эндометриоз с Д-учёта снимается посмертно или в глубокой менопауз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9 - расстройства менструаций – на Д-учёт берётся олиго- и аменорея 1, 2 степени. У девочек до 17 лет эрозия шейки матк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(если нет возможности лечить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льгодисменорею в графе «диспансерные» показывать не нуж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1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6" name="Rectangle 33"/>
          <p:cNvSpPr/>
          <p:nvPr/>
        </p:nvSpPr>
        <p:spPr>
          <a:xfrm>
            <a:off x="900000" y="317520"/>
            <a:ext cx="511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1"/>
          <p:cNvSpPr/>
          <p:nvPr/>
        </p:nvSpPr>
        <p:spPr>
          <a:xfrm>
            <a:off x="90000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5. Беременность, роды и послеродовый период. О00-О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8" name="Прямоугольник 2"/>
          <p:cNvSpPr/>
          <p:nvPr/>
        </p:nvSpPr>
        <p:spPr>
          <a:xfrm>
            <a:off x="828720" y="20955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.</a:t>
            </a: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9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Прямоугольник 1"/>
          <p:cNvSpPr/>
          <p:nvPr/>
        </p:nvSpPr>
        <p:spPr>
          <a:xfrm>
            <a:off x="900000" y="1052640"/>
            <a:ext cx="7559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6. Отдельные состояния, возникающие в перинатальном периоде. Р00-Р96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1" name="Прямоугольник 2"/>
          <p:cNvSpPr/>
          <p:nvPr/>
        </p:nvSpPr>
        <p:spPr>
          <a:xfrm>
            <a:off x="755640" y="2160720"/>
            <a:ext cx="78487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таблице 1000 коды МКБ-10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P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05-Р96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2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Прямоугольник 1"/>
          <p:cNvSpPr/>
          <p:nvPr/>
        </p:nvSpPr>
        <p:spPr>
          <a:xfrm>
            <a:off x="684360" y="917640"/>
            <a:ext cx="77054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имание:  из  выписки родильного  отделения в поликлинике кодируем только то, что вынесено в диагноз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е текстовые описания кодированию не подлежат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1100"/>
            </a:br>
            <a:br>
              <a:rPr sz="1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4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Прямоугольник 1"/>
          <p:cNvSpPr/>
          <p:nvPr/>
        </p:nvSpPr>
        <p:spPr>
          <a:xfrm>
            <a:off x="755640" y="934920"/>
            <a:ext cx="7993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Q00-Q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6" name="Прямоугольник 2"/>
          <p:cNvSpPr/>
          <p:nvPr/>
        </p:nvSpPr>
        <p:spPr>
          <a:xfrm>
            <a:off x="179280" y="2565360"/>
            <a:ext cx="8640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8. Симптомы, признаки и отклонения от нормы, выявленные пр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инических и лабораторных исследованиях, не классифицированные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других рубрик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R00-R99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7" name="Прямоугольник 3"/>
          <p:cNvSpPr/>
          <p:nvPr/>
        </p:nvSpPr>
        <p:spPr>
          <a:xfrm>
            <a:off x="322200" y="4443480"/>
            <a:ext cx="849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стояния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з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8 класса (стр. 19.0), не должны регистрироваться как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8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Прямоугольник 1"/>
          <p:cNvSpPr/>
          <p:nvPr/>
        </p:nvSpPr>
        <p:spPr>
          <a:xfrm>
            <a:off x="611280" y="1413000"/>
            <a:ext cx="8064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S00-T98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0" name="Прямоугольник 2"/>
          <p:cNvSpPr/>
          <p:nvPr/>
        </p:nvSpPr>
        <p:spPr>
          <a:xfrm>
            <a:off x="539640" y="2781360"/>
            <a:ext cx="820908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Графы  «всего» и «впервые»  могут быть не  равны.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1" name="Rectangle 33"/>
          <p:cNvSpPr/>
          <p:nvPr/>
        </p:nvSpPr>
        <p:spPr>
          <a:xfrm>
            <a:off x="900000" y="317520"/>
            <a:ext cx="4103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Прямоугольник 1"/>
          <p:cNvSpPr/>
          <p:nvPr/>
        </p:nvSpPr>
        <p:spPr>
          <a:xfrm>
            <a:off x="684360" y="1773360"/>
            <a:ext cx="79200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меры шифрования последствий травм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следствия ЧМТ кодируются в зависимости от клиники проявлений: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роническая посттравматическая  головная боль G44.3, 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равматическая  транзиторная  церебральная  ишемия  G45.8, 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1800"/>
            </a:br>
            <a:br>
              <a:rPr sz="1000"/>
            </a:b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3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Z00-Z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5" name="Прямоугольник 2"/>
          <p:cNvSpPr/>
          <p:nvPr/>
        </p:nvSpPr>
        <p:spPr>
          <a:xfrm>
            <a:off x="755640" y="2874960"/>
            <a:ext cx="76327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Прямоугольник 1"/>
          <p:cNvSpPr/>
          <p:nvPr/>
        </p:nvSpPr>
        <p:spPr>
          <a:xfrm>
            <a:off x="971640" y="112536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ы 2000, 3000, 4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: 5.1.1, 5.11, 5.12, 5.13, 5.14, 5.15, 7.8.2, 18.2, 18.5, 18.6, 18.7, 18.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графе «впервые в жизни» – (Х – должен стоять 0) стоит число – представить пояснительную записку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лица 4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: 5.7, 5.8, 7.10, 3.1, 15.9, 15.1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графа 9 – (Х – должен стоять 0) стоит число – проверить первичную документац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8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9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793800" y="1724040"/>
            <a:ext cx="7975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0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1" name="Рисунок 6" descr=""/>
          <p:cNvPicPr/>
          <p:nvPr/>
        </p:nvPicPr>
        <p:blipFill>
          <a:blip r:embed="rId1"/>
          <a:stretch/>
        </p:blipFill>
        <p:spPr>
          <a:xfrm>
            <a:off x="-360360" y="260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02" name="Прямоугольник 1"/>
          <p:cNvSpPr/>
          <p:nvPr/>
        </p:nvSpPr>
        <p:spPr>
          <a:xfrm>
            <a:off x="1042920" y="650880"/>
            <a:ext cx="77058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ти первых трех лет жизн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, 1600, 1601, 165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, 1800, 1900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003, 21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00, 4001, 4003, 4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-윤고딕140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-윤고딕140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7" name="Прямоугольник 1"/>
          <p:cNvSpPr/>
          <p:nvPr/>
        </p:nvSpPr>
        <p:spPr>
          <a:xfrm>
            <a:off x="684360" y="646200"/>
            <a:ext cx="777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межгодовой контроли!!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зница по любому показателю в годовом отчете более, чем на 5% требует объяснения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оводите сверку с мониторингами!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9" name="Прямоугольник 1"/>
          <p:cNvSpPr/>
          <p:nvPr/>
        </p:nvSpPr>
        <p:spPr>
          <a:xfrm>
            <a:off x="704880" y="3284640"/>
            <a:ext cx="78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Чурсина И.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е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89821539623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Emai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chursinaii@miacugra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0" name="TextBox 1"/>
          <p:cNvSpPr/>
          <p:nvPr/>
        </p:nvSpPr>
        <p:spPr>
          <a:xfrm>
            <a:off x="1403640" y="1774800"/>
            <a:ext cx="64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Благодарю за внимание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4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5" name="Рисунок 6" descr=""/>
          <p:cNvPicPr/>
          <p:nvPr/>
        </p:nvPicPr>
        <p:blipFill>
          <a:blip r:embed="rId1"/>
          <a:stretch/>
        </p:blipFill>
        <p:spPr>
          <a:xfrm>
            <a:off x="7553160" y="5300640"/>
            <a:ext cx="1576440" cy="1576440"/>
          </a:xfrm>
          <a:prstGeom prst="rect">
            <a:avLst/>
          </a:prstGeom>
          <a:ln w="0">
            <a:noFill/>
          </a:ln>
        </p:spPr>
      </p:pic>
      <p:sp>
        <p:nvSpPr>
          <p:cNvPr id="806" name="Прямоугольник 1"/>
          <p:cNvSpPr/>
          <p:nvPr/>
        </p:nvSpPr>
        <p:spPr>
          <a:xfrm>
            <a:off x="30240" y="1027080"/>
            <a:ext cx="88628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об общем числ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егистрированных заболеваний в данном   учреждении у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циентов и о больных с заболеваниями, по поводу которых     осуществляется диспансеризац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вом, конкурирующем  и сопутствующем  забо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ответствующим  строкам по  числу  выявленных  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ных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8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9" name="Рисунок 6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3492360" cy="3168720"/>
          </a:xfrm>
          <a:prstGeom prst="rect">
            <a:avLst/>
          </a:prstGeom>
          <a:ln w="0">
            <a:noFill/>
          </a:ln>
        </p:spPr>
      </p:pic>
      <p:sp>
        <p:nvSpPr>
          <p:cNvPr id="810" name="Прямоугольник 2"/>
          <p:cNvSpPr/>
          <p:nvPr/>
        </p:nvSpPr>
        <p:spPr>
          <a:xfrm>
            <a:off x="0" y="736560"/>
            <a:ext cx="8893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форму 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1" name="TextBox 3"/>
          <p:cNvSpPr/>
          <p:nvPr/>
        </p:nvSpPr>
        <p:spPr>
          <a:xfrm>
            <a:off x="247680" y="4176720"/>
            <a:ext cx="515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В форму 12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не включают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сведения о подозрени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на заболевание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Чурсина Ирина Ильдаровна</cp:lastModifiedBy>
  <cp:lastPrinted>2019-12-16T07:46:53Z</cp:lastPrinted>
  <dcterms:modified xsi:type="dcterms:W3CDTF">2019-12-16T08:23:02Z</dcterms:modified>
  <cp:revision>607</cp:revision>
  <dc:subject/>
  <dc:title>슬라이드 1</dc:title>
</cp:coreProperties>
</file>