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ftr" idx="14"/>
          </p:nvPr>
        </p:nvSpPr>
        <p:spPr>
          <a:xfrm>
            <a:off x="-3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 type="sldNum" idx="15"/>
          </p:nvPr>
        </p:nvSpPr>
        <p:spPr>
          <a:xfrm>
            <a:off x="38844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721DC-21BC-4D4A-ACCB-BC4C57B183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95F98-0777-4500-8D8F-620EEDABB69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3FA8-CC23-4C70-B7DF-D0D5D607A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505B-FC61-472E-A123-B4DCA028B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AC39-9AA7-48DC-82F9-8A18233F2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4F0E-3C72-4F1B-AA1C-B22F06E2D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40F8F-2FCA-421E-AAF0-D23C83E0C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E51EE-4980-46BB-818B-D9A8FDFE9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39F7E-C89E-4A3A-A026-876A20C39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C4652-2D1C-49CF-95E5-120558341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872A0-944E-4661-95C9-A3D91CC85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75407-BD1B-4B58-B89D-2371105AA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B8695-903F-4BB4-9A83-A267213E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9A0F-1544-49FB-8B62-0EEFC0FD4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BD8B9-8474-4A50-81F0-CA9C7F966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D4035-53DE-416D-B95E-4CCE385A0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CF241-57ED-46A4-B0C1-2644A7636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3759A-F48C-48EF-B161-55C808D35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750ED-F71B-4673-9EFF-9790DAC28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D7FDBB-1168-4B5B-9FE2-165DCA9C0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59A7D6-7700-4C9E-B321-A57F2B6FC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3B4213-AD01-430B-91F6-0E76C541E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267E32-735D-4E09-9720-F1635F210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74CC04-77FE-4963-8E45-FFBB65854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60BF-F54E-4005-A03F-FA5E9FF02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B74C4E-8D3D-4BF5-AA6A-BE71012A2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CF0F6E-6069-4A54-8CEA-7EB50E989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BD6350-28D8-4672-811C-DBD192F1B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97B89A-E15A-492D-8153-A379E330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536E72-3316-45AD-A2DB-B1798D26F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BDBC02-3E7A-4A62-829D-4DABAA7D6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3C98E1-F422-4EE1-803D-FF7D30FDF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E37844-9DC5-452C-A69D-9180749DF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530A2D-68E6-42B8-9D0E-789885667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95C0A0-00DC-4435-B18B-EDABAAE35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B02E-0E32-4556-8E5A-C0E3D1D4F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8AB948-E05B-4C79-884A-2049E5D7A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C7A2EA-5790-4760-8A7B-1B9A30629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EEDC3B-D6C4-450A-AFCC-75417DC71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F4FB13-BB26-447D-AF28-AF5018393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0DAF5B-732D-47FC-B5F3-512B5FF56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47F621-A637-405A-9408-ECA95A773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775EEC-2368-44B6-98D3-E4DBA7AFA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BB106D-85A1-45EA-82B6-982005ABC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A8F2E0-55B0-48E6-8D2B-F3999FA38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5A60-1F9E-4203-94D2-F56C53168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FAEC-71FD-4A9C-8C08-E58D5E748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EDE3-3A2F-491E-8289-D35F48153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4F03-F5F2-4F16-9C02-B6ED3BF93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52B9-6672-484A-8718-8C3D37F18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DB485-6A0E-4508-8856-E15F67F462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66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3F93C-86D2-40CE-A929-A2D1B931790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23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5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27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8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29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4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5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36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3DA70-E6D5-4AFB-A4C2-6E6D01FFBC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84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6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7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88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9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90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5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6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97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798FC-76FC-4162-A607-6859DA94ADE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e3e3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e3e3ff"/>
                </a:solidFill>
                <a:latin typeface="Times New Roman"/>
              </a:rPr>
              <a:t>“</a:t>
            </a:r>
            <a:r>
              <a:rPr b="1" lang="ru-RU" sz="2800" spc="-1" strike="noStrike">
                <a:solidFill>
                  <a:srgbClr val="e3e3ff"/>
                </a:solidFill>
                <a:latin typeface="Times New Roman"/>
              </a:rPr>
              <a:t>Сведения о контингентах больных с психическими расстройствами, находящихся на активном диспансерном наблюдении и на принудительном лечении</a:t>
            </a:r>
            <a:r>
              <a:rPr b="1" lang="en-US" sz="2800" spc="-1" strike="noStrike">
                <a:solidFill>
                  <a:srgbClr val="e3e3ff"/>
                </a:solidFill>
                <a:latin typeface="Times New Roman"/>
              </a:rPr>
              <a:t>” </a:t>
            </a:r>
            <a:r>
              <a:rPr b="1" lang="ru-RU" sz="2800" spc="-1" strike="noStrike">
                <a:solidFill>
                  <a:srgbClr val="e3e3ff"/>
                </a:solidFill>
                <a:latin typeface="Times New Roman"/>
              </a:rPr>
              <a:t>(Форма № 36-ПЛ) </a:t>
            </a:r>
            <a:br>
              <a:rPr sz="2800"/>
            </a:b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132000" y="4221000"/>
            <a:ext cx="55548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ФГБУ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МИЦПН имени В.П.Сербского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Минздрава Росс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тдел судебно-психиатрической профилакт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Лазько Наталья Викторо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Шарабидзе Нино Гурамо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Основы предварительной подготовки отчет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4" name="TextBox 3"/>
          <p:cNvSpPr/>
          <p:nvPr/>
        </p:nvSpPr>
        <p:spPr>
          <a:xfrm>
            <a:off x="684360" y="1844640"/>
            <a:ext cx="7559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. Использование программы «ТЕРПИНС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. Сравнение с показателями предыдущего год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. Подготовка пояснительных записок по проблемным показателям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Box 18"/>
          <p:cNvSpPr/>
          <p:nvPr/>
        </p:nvSpPr>
        <p:spPr>
          <a:xfrm>
            <a:off x="0" y="404640"/>
            <a:ext cx="9499680" cy="55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нтингенты больных, находящихся под активным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испансерным наблюдением  АДН ( таблица 2100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 Проверка показателя «группы риска» (р.з.15-30%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 2110, п.3 число снятых с АДН в связи с отсутствие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ведений в течение года (р.з.2-3%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. 2130,п. 2 сопоставить с показателем находящихся 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тационарном ПЛ (сумма строк 5 и 6 гр.14 таб.2200) –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 РФ за 2019г. - 39,5%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11280" y="112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539280" y="1989000"/>
            <a:ext cx="814716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ислитель:  сумма строк 5 и 6 по гр.8 таблицы 2100 формы 36-ПЛ минус сумма строк 5 и 6 гр.10 той же таблиц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наменатель: сумма строк 5 и 6 по гр.8 таблицы 2100 формы 36-П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множить на 10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едпочтительное значение от 15 до 30%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Прямоугольник 2"/>
          <p:cNvSpPr/>
          <p:nvPr/>
        </p:nvSpPr>
        <p:spPr>
          <a:xfrm>
            <a:off x="395280" y="115920"/>
            <a:ext cx="8280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Расчёт показателя, характеризующего формирование группы АДН (%% больных, поставленных под АДН и не совершивших в течение жизни ООД –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“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группа риска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”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)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0080" y="15840"/>
            <a:ext cx="867708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e3e3ff"/>
                </a:solidFill>
                <a:latin typeface="Arial"/>
              </a:rPr>
              <a:t>Контингенты больных, находящихся на принудительном наблюдении и лечении у психиатра в амбулаторных условиях (ПНЛА)</a:t>
            </a:r>
            <a:endParaRPr b="0" lang="en-US" sz="31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68360" y="1773000"/>
            <a:ext cx="8391600" cy="50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таблицы 2140- 219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Соотношение числа находящихся на  ПНЛА ко всем лицам с ПММХ (38,5% по РФ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Средняя продолжительность ПНЛА (по РФ в 2019г. – 625 дней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2190,п.1 – совершившие новое ООД в отчетном году (по РФ снижение показателя в течение 10 лет с 5 до 3,2% в 2018г., 3,9% в 2019г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 Не поступившие в ПС после ПНЛ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3e3ff"/>
                </a:solidFill>
                <a:latin typeface="Arial"/>
              </a:rPr>
              <a:t>Состав больных, находящихся на принудительном лечении в психиатрических стационарах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Соотношение видов ПЛ (гр.14 стр.9 и 11 к сумме стр.5 и 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Длительность стационарного П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Причины длительности пребывания (от 5 до 10 лет и больше 10 лет – 223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 Оценка летальности (по РФ 1,5 % в 2018г., 1,3 % в 2019г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. Фиксировать нападения больных в период ПЛ (224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609120" y="404640"/>
            <a:ext cx="8001000" cy="599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Дополнительные сведения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можно получить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-mail: sharabidze.n@serbsky.r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cc"/>
                </a:solidFill>
                <a:latin typeface="Arial"/>
              </a:rPr>
              <a:t>тел. 8(495) 637-58-44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сайты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ФГБУ «НМИЦПН им. В.П. Сербского» Минздрава России -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rbsky.r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НПЦ ПЗДП ДЗМ или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pb6.r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ел.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8 (495) 952-54-39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установки программы ТЕРПИНС-9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обходимо запустить установочный файл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SETUP_TERPINS9.EXE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609120" y="685440"/>
            <a:ext cx="8001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600" spc="-1" strike="noStrike">
                <a:solidFill>
                  <a:srgbClr val="ffffff"/>
                </a:solidFill>
                <a:latin typeface="Arial"/>
              </a:rPr>
              <a:t>Спасибо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9600" spc="-1" strike="noStrike">
                <a:solidFill>
                  <a:srgbClr val="ffffff"/>
                </a:solidFill>
                <a:latin typeface="Arial"/>
              </a:rPr>
              <a:t>за внимание!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6:52:47Z</dcterms:created>
  <dc:creator>gv</dc:creator>
  <dc:description/>
  <dc:language>en-US</dc:language>
  <cp:lastModifiedBy>Наталья Викторовна Лазько</cp:lastModifiedBy>
  <cp:lastPrinted>2017-12-07T17:18:35Z</cp:lastPrinted>
  <dcterms:modified xsi:type="dcterms:W3CDTF">2020-11-23T13:09:44Z</dcterms:modified>
  <cp:revision>801</cp:revision>
  <dc:subject/>
  <dc:title>Таблица 1 Состав невменяемых психически больных по характеру рекомендованных медицинских мер (в %) в 2005 г. Дальневосточный федеральный округ РФ</dc:title>
</cp:coreProperties>
</file>