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9F62-B5B4-425B-928E-BA3D43399D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CBD2-C2A4-497C-8A77-FD90C48AC7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505E4F-0774-408A-9875-30B6F81582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686B-24CC-421E-8598-5A783B5D04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AF95-5473-45DE-AEE3-44DF03B965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4915-258E-48AC-A028-502E06CEF3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39D7-BB31-456C-B58B-0BC2DB068F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6684-C86B-40EB-B5CC-FC83107831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8BCB-61AA-4119-A6BE-EE68AEF22D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FD1-535C-4E6F-AE15-56D61B65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102-F0E3-4F97-8567-824AA763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4DDA-B4A3-4A54-98C0-6543B87E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2C3-2999-4EE3-B585-C865B860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6A1-37A4-444F-A993-D8A22352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A6C-FE54-4944-A3A4-D3B9B23A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226-C6FD-45D5-A0C1-8671A515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B0B-EDA1-4560-9591-C6D89FCB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E1A-CE82-4938-9CC7-58808735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6DD-1698-4476-9AEB-52295699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A28-5AAB-4F87-B23A-B898FD6C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CB2-CC49-4300-BD51-F8E7660F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D372-20B8-4C49-A3D0-9DF1C82336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5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5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5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6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6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6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cp:lastPrinted>2020-12-02T13:30:30Z</cp:lastPrinted>
  <dcterms:modified xsi:type="dcterms:W3CDTF">2020-12-03T06:24:11Z</dcterms:modified>
  <cp:revision>513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