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76BC-2282-407C-859B-6BAE9FEE32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8708-6AF5-4B12-A1DE-48D581E149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B62A-66DE-4E99-B5BC-AF2EAF9E57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33F0-9762-44B9-AFD6-EE2C7A56A0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28BE-C60C-4B31-BEAB-8C8DA10E8A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2D56-4EC5-4141-9F40-5616CD9EF2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741E-24E5-4770-9A36-75284C197E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BB1E-86F9-4DAC-ABF2-CEA55FD84A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DF1D-A175-41AC-A7BC-0B3E0A71FB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43AB-832A-43A6-91CE-3E0BA479A9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0D0B-2232-4A61-936E-D3BDE546F5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DE24-1399-4355-999F-ABABF0CC90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E8C0-5D3A-4510-94BD-EF9EEBD853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D5D1-2399-42EB-800B-6B1284790B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0038-0746-4580-9A86-6B04820337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814E-E624-4AD6-AA9F-FCB7B64F1A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A656-0884-4F53-8FCA-01616C96DD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F560-A2F5-41FB-9089-4F3A10DE4A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8C40-E9D1-48C0-84D4-EE32ADFA2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AA8C-BA47-44C1-AB55-6D037BF71B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657B-0835-4ACD-9605-199D771325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7A4E-A913-48AC-B291-97329BF7A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25D7-D1CA-4DF8-80A2-3AD09BF468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9115-ED46-4DD1-AAD5-7B14DDAB11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2BB9-BBCC-4013-A0FE-D34DC794AB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044A-8D4C-40C0-9232-B98CEE82C5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D59E-9B8A-4DB6-A603-33B8F6C322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0FFC-5CFF-4567-BC1F-E79D375CCF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3756-2D60-45BB-9D0F-B661DD9AC5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7EF0-6959-4D5D-90B0-4CE2148C81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EDC2-C704-4872-9A8D-EE3CA08EB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98B2-84E0-4337-9509-E0D43B23B7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329B-E3D3-4257-8832-1EB071EDB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C20A-88FB-47C2-B837-C3B6FB2278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6B21-65A0-47E9-A5DE-B1FE82DFD0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16CA-22BE-4B45-9BB1-4AE5E4855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3DEC-DABE-47BE-A7C9-72A1C3B22F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AD47-CF70-4230-8CE3-B0E5162A5B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5721-7EDA-4365-A14F-915CECAC4C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E614-1AD1-409A-8534-99F546D864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E4D0-45E1-46F8-99D6-A9BCBA692B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8860-3EA5-47E6-87F0-9EF75EFE3D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6988-C44A-4391-8F58-CA36CFDE80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C01B-79C0-4AF4-B735-0B315D3C9E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C9F7-A4F9-44F4-B2FF-58C2676928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B97E-D7F3-4A07-8A3D-F27E9DE1DC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99BC-CF64-49BC-83B0-33CBB7ECEF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3DB5-A884-414D-96F9-8B82A38E55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56C9-DCD8-401A-A901-A8E3A5D3A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6002-AE96-4C76-B76E-D61102992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0351-F746-4708-A277-7BBDCEF905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ABC-526B-4175-8182-AB5F33B6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4CD9-E562-4156-9C8A-1AF62BDB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C61-EB59-49F7-9EA3-AAF2B377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CBA-4620-43E3-90B1-F037054C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70BD-52CB-4877-903D-FA4E8B18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B5A-340E-4BB2-9425-9ECC7A94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93B2-E068-485B-8DEF-A1362843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1AA-05DC-41A4-851A-724A6A21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5B2-12AE-4DF9-ACE0-CB3F5C55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8A2B-E5C4-4A44-9070-8D42B6FA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3BD8-81E3-4999-B4D3-830E2DBB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8AA-0323-4BA7-9774-1DAF5E19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88DA-72C0-4EDA-B828-9B2AEFC7033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7858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полнительные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казателях работы дневных стационаров медицинских организаций, оказывающих помощь на дом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ционаров на дому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7400" y="333360"/>
            <a:ext cx="82566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субъекта Российской Федерации ___________________________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РАБОТЫ ДНЕВНЫХ СТАЦИОНАРОВ МЕДИЦИНСКИХ ОРГАНИЗАЦИЙ, ОКАЗЫВАЮЩИХ МЕДИЦИНСКУЮ ПОМОЩЬ НА ДОМУ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к дневных стационаров медицинских организаций, оказывающих медицинскую помощь на дом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49480"/>
          <a:ext cx="8064720" cy="3176640"/>
        </p:xfrm>
        <a:graphic>
          <a:graphicData uri="http://schemas.openxmlformats.org/drawingml/2006/table">
            <a:tbl>
              <a:tblPr/>
              <a:tblGrid>
                <a:gridCol w="1584360"/>
                <a:gridCol w="360360"/>
                <a:gridCol w="358920"/>
                <a:gridCol w="504720"/>
                <a:gridCol w="503280"/>
                <a:gridCol w="576360"/>
                <a:gridCol w="544320"/>
                <a:gridCol w="573120"/>
                <a:gridCol w="498600"/>
                <a:gridCol w="466560"/>
                <a:gridCol w="561960"/>
                <a:gridCol w="561960"/>
                <a:gridCol w="517680"/>
                <a:gridCol w="452520"/>
              </a:tblGrid>
              <a:tr h="140760"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него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-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9640" y="5246640"/>
          <a:ext cx="8209080" cy="685800"/>
        </p:xfrm>
        <a:graphic>
          <a:graphicData uri="http://schemas.openxmlformats.org/drawingml/2006/table">
            <a:tbl>
              <a:tblPr/>
              <a:tblGrid>
                <a:gridCol w="149400"/>
                <a:gridCol w="2636640"/>
                <a:gridCol w="2819160"/>
                <a:gridCol w="1455120"/>
                <a:gridCol w="138960"/>
                <a:gridCol w="1009800"/>
              </a:tblGrid>
              <a:tr h="548280">
                <a:tc gridSpan="4"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дневном стационаре при  подразделениях медицинских организаций, оказывающих медицинскую помощь  на дому всего 1________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етей 2 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75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39640" y="5950080"/>
          <a:ext cx="8136000" cy="365040"/>
        </p:xfrm>
        <a:graphic>
          <a:graphicData uri="http://schemas.openxmlformats.org/drawingml/2006/table">
            <a:tbl>
              <a:tblPr/>
              <a:tblGrid>
                <a:gridCol w="7373880"/>
                <a:gridCol w="439920"/>
                <a:gridCol w="322200"/>
              </a:tblGrid>
              <a:tr h="3650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исанных сельских жителей из дневных стационаров медицинских организаций, оказывающих медицинскую помощь  на дому 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3560" y="5079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Взрослые (18 лет и старше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36680" y="1027080"/>
          <a:ext cx="8286480" cy="5775480"/>
        </p:xfrm>
        <a:graphic>
          <a:graphicData uri="http://schemas.openxmlformats.org/drawingml/2006/table">
            <a:tbl>
              <a:tblPr/>
              <a:tblGrid>
                <a:gridCol w="3558960"/>
                <a:gridCol w="360360"/>
                <a:gridCol w="720720"/>
                <a:gridCol w="1295640"/>
                <a:gridCol w="1368360"/>
                <a:gridCol w="9824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Дети (0-17 лет включительн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28760" y="957240"/>
          <a:ext cx="8229600" cy="5538960"/>
        </p:xfrm>
        <a:graphic>
          <a:graphicData uri="http://schemas.openxmlformats.org/drawingml/2006/table">
            <a:tbl>
              <a:tblPr/>
              <a:tblGrid>
                <a:gridCol w="3495600"/>
                <a:gridCol w="360360"/>
                <a:gridCol w="718920"/>
                <a:gridCol w="1440000"/>
                <a:gridCol w="1297080"/>
                <a:gridCol w="9176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cp:lastPrinted>2020-12-02T13:53:05Z</cp:lastPrinted>
  <dcterms:modified xsi:type="dcterms:W3CDTF">2020-12-03T06:27:00Z</dcterms:modified>
  <cp:revision>378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