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F71-FA0F-487B-866B-63E7AB05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3F2-0DA7-4FA9-B1D0-23CB80B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68E-8952-47CC-A112-B59D9FF5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CC2-297C-4C4A-9907-68FEA186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3B2-90BE-49C3-9755-9E1C9428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EE8-91A4-488B-AFA0-8FAF0E41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C0E-E066-46B2-BF66-BF06FE96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BEB-FD2F-4D8B-8D97-63B26B2E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1D2-D103-450B-88E7-42A03C05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CD0-4BFD-4742-A4CB-5B60E9A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276-330D-4C00-A782-F246A854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DB8-A546-4FEC-B5FB-3C12FC5A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AE0-AF1D-4DCE-9200-FEAE281D12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357120"/>
            <a:ext cx="77929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№ 14 дс «Сведения о деятельности дневных стационаров медицинских организаций» за 2018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235160"/>
                <a:gridCol w="42048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61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стациона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 = 141.1000.1.03 + 141.1000.2.03 +141.1000.3.0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499760"/>
            <a:ext cx="83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занятых должностей в дневных стационарах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 = 141.1000.1.04. + 141.1000.2.04. +141.1000.3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физических лиц в дневных стационарах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 = 141.1000.1.05. + 141.1000.2.05. +141.1000.3.05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амбулато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=141.1000.1.06. + 141.1000.2.06. + 141.1000.3.0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6760" y="1499760"/>
            <a:ext cx="83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занятых должностей в дневных стационарах медицинских организаций, оказывающих помощь в амбулато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 = 141.1000.1.07. + 141.1000.2.07. +141.1000.3.07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физических лиц в дневных стационарах медицинских организаций, оказывающих помощь в амбулато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 = 141.1000.1.08. + 141.1000.2.08. +141.1000.3.08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6760" y="1499760"/>
            <a:ext cx="83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стационаре на до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. = 141.1000.1.09. + 141.1000.2.09. + 141.1000.3.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занятых должностей в стационаре на до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. = 141.1000.1.10. + 141.1000.2.10. +141.1000.3.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физических лиц в стационаре на дом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. = 141.1000.1.11. + 141.1000.2.11. +141.1000.3.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172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162864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ых стационарах указываются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. Использование коек дневного стационара медицинской организации по профилям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казываются сведения о пациентах старше трудоспособного возраста на койках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о числе коек для взрослых в дневных стационарах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о числе коек для детей в дневных стационарах для взросл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1052640"/>
          <a:ext cx="8640720" cy="5684760"/>
        </p:xfrm>
        <a:graphic>
          <a:graphicData uri="http://schemas.openxmlformats.org/drawingml/2006/table">
            <a:tbl>
              <a:tblPr/>
              <a:tblGrid>
                <a:gridCol w="1295280"/>
                <a:gridCol w="433440"/>
                <a:gridCol w="647640"/>
                <a:gridCol w="647640"/>
                <a:gridCol w="576360"/>
                <a:gridCol w="720720"/>
                <a:gridCol w="718920"/>
                <a:gridCol w="720720"/>
                <a:gridCol w="719280"/>
                <a:gridCol w="720720"/>
                <a:gridCol w="720720"/>
                <a:gridCol w="719280"/>
              </a:tblGrid>
              <a:tr h="4413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-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-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8"/>
          <p:cNvSpPr/>
          <p:nvPr/>
        </p:nvSpPr>
        <p:spPr>
          <a:xfrm>
            <a:off x="3492360" y="458136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195640" y="494172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2195640" y="580536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364000" y="4941720"/>
            <a:ext cx="7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7524720" y="494172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536400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752472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36400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52472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3564000" y="630864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0040" y="1214280"/>
          <a:ext cx="8229600" cy="4316400"/>
        </p:xfrm>
        <a:graphic>
          <a:graphicData uri="http://schemas.openxmlformats.org/drawingml/2006/table">
            <a:tbl>
              <a:tblPr/>
              <a:tblGrid>
                <a:gridCol w="785880"/>
                <a:gridCol w="58572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480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Заголовок 1"/>
          <p:cNvSpPr/>
          <p:nvPr/>
        </p:nvSpPr>
        <p:spPr>
          <a:xfrm>
            <a:off x="500040" y="5715000"/>
            <a:ext cx="8329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4920" y="836640"/>
            <a:ext cx="853596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920" y="836640"/>
            <a:ext cx="853596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1500120"/>
            <a:ext cx="795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медицинских организаций, в том числе амбулаторно-поликлинических, больничных организац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71320" y="1357200"/>
            <a:ext cx="8086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3000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сведения о числе выписанных и умерших пациентов в возрасте 18 лет и старше по классам болезней по дневным стационарам и стационарам на дому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71320" y="1357200"/>
            <a:ext cx="8086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е 3500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сведения о числе выписанных и умерших пациентов в возрасте от 0 до 17 лет включительно по классам болезней по дневным стационарам и стационарам на дому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1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435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5 от 13 ноября 2003 г. «Об утверждений инструкций по заполнению учетной медицинской документации»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8-12-13T20:32:24Z</dcterms:modified>
  <cp:revision>263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