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7FCE-AD1D-4647-937E-67CC3370B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E3D6-E0A1-4F9B-8F06-C7D55F4892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361-DE5F-446C-86A7-F910C34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F1F-2D54-4999-AA20-A84B030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44B-5CB8-4C4D-AA1E-43C142BD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A89-B059-4F90-B78B-EDA1DE5D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677F-9655-411A-A120-7C1A7A81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D99-3F18-4FBC-BFDA-F12A662B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FEDE-5DF7-4D72-8D0F-2B64F83E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AAA-7CB5-4AD5-9A2F-5DC960A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A06-B553-4838-BA7B-3EC5B383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E92D-7FAF-4745-9E62-D241524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B98-4C15-48FD-B824-9B3156A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E5A-2B2E-490E-9229-8456C16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0CD-19E8-4B0E-8FB0-07963CDD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7E7B-77DE-439E-8753-8A24828B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9CE-C04F-4C4F-A3B3-CC93B421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49B8-357E-4F9D-A38B-E43702D9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6CC-2674-42C0-99DF-8B4EFBBD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B807-DFAF-4E31-9FA6-F211C563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C466-847F-4DD7-8EA0-B31AFC37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BF51-9E84-4892-9243-638A23A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7BD4-410F-46F4-898B-15CEC11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656B-BFCE-4F3E-B371-50050058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C92-A3AD-4777-B47A-5ECA558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5B37-AE74-4942-8A7B-5F11216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BA09-DEEF-4666-817E-74625CA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B26F6-E388-4F82-A3A7-FA00BF4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9E3C-A63A-4BD4-9E6C-95B3227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8A74-56AB-4837-9941-25F6576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7905-F8F9-4009-8E6B-CBB23B4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B79A-9B4A-4C9A-99BF-869C3801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621BA-442C-41DE-8F3E-3641CCAA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9475-FBBD-4F14-BA3C-84D8279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C7A1-99EA-4556-8AA0-550D5A8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D41-A317-40A4-95B2-A020F60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2EA4-7BD1-460C-B318-71F075E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8E9A-9DDE-464B-A89B-B8F172D2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43F9-0408-424E-A721-6A29B40C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178A-E35B-4C43-9123-32281EF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349D-6470-499B-952B-48BDB01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C0F9E-9499-4836-85A0-CA4BBB3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BB7E-7348-483F-B301-36413C8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FA75-2DDD-4800-966A-D1544FFA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7F43-AF16-4CCC-A61D-E45B131C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566-03DC-47F2-9428-C7BC824B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D24-6842-4956-AA33-7DFD066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F2C-906E-40AB-96F3-389DC62C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FCB-5C9F-45A2-9557-6AE84695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489-7207-4644-BB70-A77E0FE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FE6-8937-4A0A-AE82-0DABE2A318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5F58-34E0-4EC1-B77D-2E1FC419E80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C682-C5F7-475A-A41E-85898AEF07C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E4F-1DBD-4E6E-B61E-DDE7FDB2AF7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штаба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835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3656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И 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за  2018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8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743200" cy="3751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&gt;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 &gt;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=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523880" y="946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1951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 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174600" y="247500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3 (4/5) = таблица 4 000  стр. 1 гр. 3 (4/5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277920" y="3048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309600" y="42480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95120" y="49514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271440" y="55976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Т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R249-Y3</cp:lastModifiedBy>
  <cp:lastPrinted>2016-12-07T09:58:05Z</cp:lastPrinted>
  <dcterms:modified xsi:type="dcterms:W3CDTF">2018-12-04T12:58:54Z</dcterms:modified>
  <cp:revision>5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