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3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  <p:sldId id="282" r:id="rId46"/>
    <p:sldId id="283" r:id="rId47"/>
    <p:sldId id="284" r:id="rId48"/>
    <p:sldId id="285" r:id="rId49"/>
    <p:sldId id="286" r:id="rId50"/>
    <p:sldId id="287" r:id="rId51"/>
    <p:sldId id="288" r:id="rId52"/>
    <p:sldId id="289" r:id="rId53"/>
    <p:sldId id="290" r:id="rId54"/>
    <p:sldId id="291" r:id="rId55"/>
    <p:sldId id="292" r:id="rId56"/>
    <p:sldId id="293" r:id="rId57"/>
    <p:sldId id="294" r:id="rId58"/>
    <p:sldId id="295" r:id="rId5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slide" Target="slides/slide27.xml"/><Relationship Id="rId47" Type="http://schemas.openxmlformats.org/officeDocument/2006/relationships/slide" Target="slides/slide28.xml"/><Relationship Id="rId48" Type="http://schemas.openxmlformats.org/officeDocument/2006/relationships/slide" Target="slides/slide29.xml"/><Relationship Id="rId49" Type="http://schemas.openxmlformats.org/officeDocument/2006/relationships/slide" Target="slides/slide30.xml"/><Relationship Id="rId50" Type="http://schemas.openxmlformats.org/officeDocument/2006/relationships/slide" Target="slides/slide31.xml"/><Relationship Id="rId51" Type="http://schemas.openxmlformats.org/officeDocument/2006/relationships/slide" Target="slides/slide32.xml"/><Relationship Id="rId52" Type="http://schemas.openxmlformats.org/officeDocument/2006/relationships/slide" Target="slides/slide33.xml"/><Relationship Id="rId53" Type="http://schemas.openxmlformats.org/officeDocument/2006/relationships/slide" Target="slides/slide34.xml"/><Relationship Id="rId54" Type="http://schemas.openxmlformats.org/officeDocument/2006/relationships/slide" Target="slides/slide35.xml"/><Relationship Id="rId55" Type="http://schemas.openxmlformats.org/officeDocument/2006/relationships/slide" Target="slides/slide36.xml"/><Relationship Id="rId56" Type="http://schemas.openxmlformats.org/officeDocument/2006/relationships/slide" Target="slides/slide37.xml"/><Relationship Id="rId57" Type="http://schemas.openxmlformats.org/officeDocument/2006/relationships/slide" Target="slides/slide38.xml"/><Relationship Id="rId58" Type="http://schemas.openxmlformats.org/officeDocument/2006/relationships/slide" Target="slides/slide39.xml"/><Relationship Id="rId59" Type="http://schemas.openxmlformats.org/officeDocument/2006/relationships/slide" Target="slides/slide40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dt" idx="5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 type="ftr" idx="53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6"/>
          <p:cNvSpPr>
            <a:spLocks noGrp="1"/>
          </p:cNvSpPr>
          <p:nvPr>
            <p:ph type="sldNum" idx="54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D979C-8F67-436C-BB66-AFF8FCB23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2A406-0776-4DA4-A215-75607A07F8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549CB-7E26-400C-88B4-3708E06D7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5F829-3C9A-49BA-A860-EBF292671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E0E7-542D-441C-82D0-0F1E90423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5F56-58A2-4FFF-BA62-034DA747F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6172BA-B7F5-47DA-B310-6872391F9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CCE516-4EA1-466D-90F0-4B889ABA7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56BD3D-D581-408B-ACE1-823ADF018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7AD073-C33B-43F4-97C7-01ACECBE7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F8A099-87C8-418E-97CE-F5466D7E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AB0A8A-77A9-4797-A7C3-8BD98B06F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77FA2A-14D0-48C1-9E6F-32F3754F1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7C6211-0F88-4455-8B80-578621931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726E27-A7BF-441B-98D2-9B2BB626D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CCE9A4-9667-4957-A574-9E2F76455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BB2E-45B6-4CA1-B9F5-835CA82AF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32067B-E203-45EF-8497-73CD8752B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8D91F2-C368-4737-9185-BD30221E6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ADAEA1-A714-401E-908C-DD1E8401E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FF972D-5397-4336-B84F-5711892C8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2B8DE0-17E9-4854-B846-8969186C9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58F4BD-0C87-4D31-9AF3-E8916763D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AAFB9E-AEA3-4F25-867F-D43F9833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FC01A8-2723-47D7-B925-0138BCFA7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D86ACA-0FA1-49BE-8144-0E289FC0B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040CA6-2F95-4075-8CBC-6EA73A7F6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455C-3870-43E8-AD5C-8A5788DB6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FC04E0-27D1-42E2-8B45-610E8B254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2609D7-9B98-4F32-9233-54B587A45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047855-D48A-4520-B4DE-03B7A0FE9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7DFC42-E999-492D-BF76-56443AAF3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2F9412-6C06-4A1C-92AB-1CF06925C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208328-4B29-49A2-8F3F-95CA8DFB7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233134-5FFB-4846-B96E-41668CBBD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C05C00-006A-4C83-B759-E8280AAD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AD24AB-80DA-4CB7-A6BD-6DFA729D9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DD2C11-81EA-49A4-A9CC-2F8241A2C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DB8AD-2CD1-488A-9DE2-DA2728AA4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B652BD-9E54-40A8-9D9E-41BEC5DA1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C1705F-CFE1-4F28-B5A9-1DEF72EA2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E3F326-0971-4ED2-8B38-6AE060141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78077D-18EC-485E-8E7F-5B5E56D2C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08628A-77F0-43DD-8169-674D12BC2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8428ED-16B6-4567-A959-03B7E8374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CF2E7E-05F0-40D8-A726-DFC2A63D6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EB5B4B-CD0C-49A9-B39C-42B4BE1B1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24F0C1-7894-4388-8738-295362D89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219308-2B67-48FC-9F92-76A5BD8E1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31BC2-568C-40DD-85D3-AEA848A1B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2CFF94-AA51-43C2-BEDC-BBA8E63BA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02C4D1-310E-404F-958C-1BDCE617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1A0F5E-DFA7-457D-9306-D7B8ECBC7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50FE9D-11FD-496F-AA10-FCBE9A2A9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4B4120-0422-4042-A7CD-D4B165F04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F1295F-09A7-4694-8491-F0C1245CC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A179F9-EDB3-495E-BFCC-EA0A3C4C5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32CD6F-660D-4074-8966-A792B2AF1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A31D6D-FBAD-47DC-9BFC-AE172E5AA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AA111D-0352-4DDD-AB0B-CED55CA33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E19CC-0723-436F-9F28-F5CF1DF46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5CA259-D94A-4D62-B854-352FE4917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356DC3-70E3-4ECA-9D4D-2ADE37F7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DBB9D3-897F-4EBF-99D6-E85D6555E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858BFD-5620-440B-9F93-0D577564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2DE2E8-1A79-4399-A097-A2824B632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B621B2-BA83-4AEA-B9D4-8E54AB620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671A0B-BA3C-41CB-99B3-70AC0E210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969122-815C-4F2C-99A7-2A2E29610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FF4C81-772B-4E79-BF1E-383980850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9BB764-DEBC-443D-A714-E670A5764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879FE-5081-445F-ABED-1307C0CC6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E501F4-CE17-4757-8531-F1AC16B1A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529358-98C5-4FBE-8CF3-DC54F5E31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0FF33F-D6D9-417B-A815-449965338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B64760-53E4-4C4F-849B-0425C6600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156227-D192-44DB-B762-65CAE22B2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17FAB6-7AD7-4E9A-A2B9-B29E0A4F2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E87F8C-5440-4305-8B98-68B83FA52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305C6F-B3A1-45E6-8495-EF24F3AAF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7F95DF-A4AB-41FC-97E6-BCB825E19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3C7C01-5312-4BE8-A570-393191631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55C13-52BC-4C3E-AFC9-3BB04625A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D08DCA-49F9-4B6E-910F-38112D819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9D0FFB-B631-4BC6-8207-04789E795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068AB4-9277-4324-85EF-448EF09F0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0BFF86-474E-4E4E-B1DB-BF9E70BDE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018365-BC03-4556-B445-E4E85E48C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DBDA90-E37E-4157-8940-AE997E38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F45037-5261-4B79-9BBD-5A9C9F47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D9A51C-D636-4807-ADC7-832FF12C0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992F62-7A9B-4002-8733-FBA284AB5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CB3C64-DA91-4FA3-ADC9-08638F56B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2322A-01D6-4529-AE24-719B91C59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473FD6-3B99-486A-9460-DB8838123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F6E03C-F44E-4A65-B964-B1A9E9315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675EC5-1E1B-4028-AC84-7DCB7E9D5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91F307-070B-41E1-85BA-158282B15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CBD5C0-9F4F-4E59-ADD1-29E1EF42C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23A147-4C03-45B1-9F48-C80FBD05F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1EBC28-6995-43B0-BAC4-58E23D78D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6B1EBD-39CC-4113-A750-3E8AE86EC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F0F391-2901-4398-B566-A54CA867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8AF8CB-6469-4F62-94FE-255BBDC2D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32F61-CE0A-465F-9E21-58488B5D5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52FA17-5F90-45D6-920D-881EED46B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0BB969-2AD9-4658-AE0C-5CDBB1108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7D52AC-2816-40F2-B9FD-95199F8B4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123BBA-5008-490A-A836-8983FE315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0D26F6-B3C2-435F-A081-4C1F9A787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ECC993-8468-4788-8105-2AE31DE40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DAEFD6-30D3-4FE6-B5D8-3E122FACB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CAECB8-8649-44DB-ADFC-2C26F06FB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3AB403-B3E8-455B-8BBF-785FB2808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50B477-B67D-4661-8B3E-5EBD06525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2446-7669-4CF9-91FC-E6DEFC3D9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0933B-6C25-457E-AD83-8E1964E81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2F964E-1569-4617-826E-87D9D05C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AEC6CC-DACE-4884-8AB5-230F2894E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BC1CFF-31D3-4906-BE74-A96607A67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612BD7-7842-4BEF-A0D7-16FDD2A2F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CD33CA-EF98-4843-9EE9-E7FDC3117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52596-B4C2-44B9-B0A8-46DAB902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7E9C7-C1D1-4924-843D-C6DD805CA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920DC-5F58-4175-838E-B7F9E354B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9A7D6-CC7C-4B3E-B52E-729E448CA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7D391-1489-434C-9E35-DA34B882F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6B7A3-1740-4855-BAD4-E584D3235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57368-B02C-47E4-8283-23FF3C302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60346-9549-4545-9BDB-C0A31D6EB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0DDD7-74C3-4699-9CBB-1B90A617B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8955-B928-4748-A7D5-2172EAE2C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92B09-8F91-427C-A98E-1B5AF0FDD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57AE8-E74C-4C68-B3CA-CF7BC502C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AE4F3-5BD4-4E82-BF71-07250DDE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268C7-61AB-4691-8B92-68C896F9F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9C25E-4095-42E0-9475-2004161E5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65D2E-E0E5-448D-B9A2-D026B83DA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56FA1-27BF-49E0-89C6-6790FAA7E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46E2C-8AD1-4EB1-AC32-1129DA94F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FD0D3-0D9C-4718-BD87-40DEB588E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4EEDC-9FF3-4552-9CAD-19660A68A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CEC6-FA63-4670-A410-BA438366B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FBBE2-AE73-44CE-9B0A-C90BEE449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3559C-3856-468B-B71D-57CD78DC6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6D054-A309-40C4-BF30-74165150D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0C123-71AD-4B78-8D97-C27F20959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64757-3BC7-4EA0-8413-D2F6F9DD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FF383-B4E9-4A6F-A336-18950B59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E44C4-718A-4AFE-86B6-C7A217110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23B71-741A-429D-A7BF-07851AFB4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BBC57-4520-485F-8B76-4B4A6855F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20B820-C343-4684-8BBC-496DD532B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F9A5-38D7-4E51-86A6-48A9BCCA7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354E71-AA22-4C36-B043-E0A6924A2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0757E8-5AC8-441D-B662-647ACD7F9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49919-5903-4EB6-BFDD-07812BF5F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194288-0961-49BC-B66F-E03D55CE7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D6B62D-9E20-4175-AB4F-6D048B423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0ED6A9-8306-49BC-B536-4FBD4684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838178-82D7-461D-854C-7566C0A0C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CF7B7-422B-4DBD-BEF3-5DA2D685D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6973A1-230F-4F18-8F09-F74BB131F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319EDC-C89F-44CD-8921-8ACD9AAEB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DFFB-75C9-4E37-9EA9-2C1AF5882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FDA7FE-1844-4669-92AA-8FDE8B7BB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89ED03-1FFA-40A3-ADD6-CB01DD534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9BB0C3-F9B9-4494-B825-54FE9FF43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EB7109-430B-418A-A2C8-06542A41E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426F42-2235-4EFA-810A-613536F3B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031E94-EC92-4C0C-8DA5-6A5EC8103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E06178-2B4B-48C9-B2E9-C1065150D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F61E7E-2C84-4EED-AED4-81990A3E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D6FC20-2EF9-4873-A187-97CDDC5D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F11625-BA8B-491B-8AD0-19788BE3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05AF-2A3F-47A0-887F-D504C4257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63F920-806B-4B8A-BF02-CA16E51F9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EFCC62-E1F3-4D94-8775-375723C13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0744CF-BD49-4F43-8E30-399535908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F072F3-F466-4807-92BF-A6A61FF86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D91CDF-AC38-4312-B23E-0806D0BD7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CEAD22-A96E-4145-9CA2-2BA63649D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28877D-E602-4816-BF44-6E0A8179F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C9415F-653D-4426-AC21-38FE048C1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E6001C-4429-44CC-B100-50316E8D0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CBAF74-C01C-4134-98FF-C89CDDD2D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159D-5DFE-4AA4-BADA-6AE9AA1AA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C1B782-0C63-4E7A-AD96-B932467F5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C06F67-9989-4960-BD87-6AFE899A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9662BA-3E56-469E-816D-EB0C7CB52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05F49B-6BAE-4D69-BF12-C8A158521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B207E8-CC98-4B6A-9775-D8955E58C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A2A7AB-D6AF-4930-A319-765D36FC1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F6FDD2-FAE0-4CF3-907A-678A4607D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46269B-FC2C-4632-B079-DE880B868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F00682-B92D-4099-B49F-5F5B4D0E5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1C290F-B0ED-4367-AFA4-C966C2CA1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BA8C-52D5-4A19-87E1-26171ED7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A24F32-0C7E-4EA2-924C-46D5E1526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901B40-CA07-41D1-AC39-5356E095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B30418-1519-490E-81EF-39073BED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225D6E-F207-4633-AB0E-2B480871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25A12C-6B45-47B2-8075-1A4D387AF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064CC9-252B-4587-912A-FE592BF04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5BAFA1-524B-44D9-B2A4-A4BD4AFE6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494976-D819-4E62-AA80-A113B2A73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4227BE-994C-40FC-8C92-33137E96C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5B41B1-E012-479B-ADEA-39C92FC18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>
                <a:gd name="textAreaLeft" fmla="*/ 0 w 571320"/>
                <a:gd name="textAreaRight" fmla="*/ 571320 w 57132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>
                <a:gd name="textAreaLeft" fmla="*/ 0 w 1442880"/>
                <a:gd name="textAreaRight" fmla="*/ 1443240 w 14428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2CA2E-F929-42A6-9AE9-DF0D02EC1FB6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>
                <a:gd name="textAreaLeft" fmla="*/ 0 w 571320"/>
                <a:gd name="textAreaRight" fmla="*/ 571320 w 57132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>
                <a:gd name="textAreaLeft" fmla="*/ 0 w 1442880"/>
                <a:gd name="textAreaRight" fmla="*/ 1443240 w 14428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>
              <a:gd name="textAreaLeft" fmla="*/ 0 w 1359000"/>
              <a:gd name="textAreaRight" fmla="*/ 1359360 w 135900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4185F-03EE-4654-85E4-AAA5FAFB58A4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>
                <a:gd name="textAreaLeft" fmla="*/ 0 w 571320"/>
                <a:gd name="textAreaRight" fmla="*/ 571320 w 57132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>
                <a:gd name="textAreaLeft" fmla="*/ 0 w 1442880"/>
                <a:gd name="textAreaRight" fmla="*/ 1443240 w 14428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>
              <a:gd name="textAreaLeft" fmla="*/ 0 w 1359000"/>
              <a:gd name="textAreaRight" fmla="*/ 1359360 w 1359000"/>
              <a:gd name="textAreaTop" fmla="*/ 360 h 508320"/>
              <a:gd name="textAreaBottom" fmla="*/ 509040 h 50832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EBE10-B4F5-4270-8684-A0CA6C0B9D05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>
                <a:gd name="textAreaLeft" fmla="*/ 0 w 571320"/>
                <a:gd name="textAreaRight" fmla="*/ 571320 w 57132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>
                <a:gd name="textAreaLeft" fmla="*/ 0 w 1442880"/>
                <a:gd name="textAreaRight" fmla="*/ 1443240 w 14428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>
              <a:gd name="textAreaLeft" fmla="*/ 0 w 1359000"/>
              <a:gd name="textAreaRight" fmla="*/ 1359360 w 1359000"/>
              <a:gd name="textAreaTop" fmla="*/ 360 h 508320"/>
              <a:gd name="textAreaBottom" fmla="*/ 509040 h 50832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e78712"/>
                </a:solidFill>
                <a:latin typeface="Arial"/>
              </a:rPr>
              <a:t>“</a:t>
            </a:r>
            <a:endParaRPr b="1" i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e78712"/>
                </a:solidFill>
                <a:latin typeface="Arial"/>
              </a:rPr>
              <a:t>”</a:t>
            </a:r>
            <a:endParaRPr b="1" i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BC6B3-C42B-4748-8011-436A1BEB4435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>
                <a:gd name="textAreaLeft" fmla="*/ 0 w 571320"/>
                <a:gd name="textAreaRight" fmla="*/ 571320 w 57132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>
                <a:gd name="textAreaLeft" fmla="*/ 0 w 1442880"/>
                <a:gd name="textAreaRight" fmla="*/ 1443240 w 14428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>
              <a:gd name="textAreaLeft" fmla="*/ 0 w 1359000"/>
              <a:gd name="textAreaRight" fmla="*/ 1359360 w 135900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E0C2F-7B80-4A99-ACEB-5F5E66E56FEF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>
                <a:gd name="textAreaLeft" fmla="*/ 0 w 571320"/>
                <a:gd name="textAreaRight" fmla="*/ 571320 w 57132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>
                <a:gd name="textAreaLeft" fmla="*/ 0 w 1442880"/>
                <a:gd name="textAreaRight" fmla="*/ 1443240 w 14428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>
              <a:gd name="textAreaLeft" fmla="*/ 0 w 1359000"/>
              <a:gd name="textAreaRight" fmla="*/ 1359360 w 135900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e78712"/>
                </a:solidFill>
                <a:latin typeface="Arial"/>
              </a:rPr>
              <a:t>“</a:t>
            </a:r>
            <a:endParaRPr b="1" i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e78712"/>
                </a:solidFill>
                <a:latin typeface="Arial"/>
              </a:rPr>
              <a:t>”</a:t>
            </a:r>
            <a:endParaRPr b="1" i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9ADE2-D66E-46CF-B69D-ADCCBC651888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>
                <a:gd name="textAreaLeft" fmla="*/ 0 w 571320"/>
                <a:gd name="textAreaRight" fmla="*/ 571320 w 57132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>
                <a:gd name="textAreaLeft" fmla="*/ 0 w 1442880"/>
                <a:gd name="textAreaRight" fmla="*/ 1443240 w 14428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>
              <a:gd name="textAreaLeft" fmla="*/ 0 w 1359000"/>
              <a:gd name="textAreaRight" fmla="*/ 1359360 w 135900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54BF4-C5A6-46CC-8C4B-D8329CDAAC4B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>
                <a:gd name="textAreaLeft" fmla="*/ 0 w 571320"/>
                <a:gd name="textAreaRight" fmla="*/ 571320 w 57132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>
                <a:gd name="textAreaLeft" fmla="*/ 0 w 1442880"/>
                <a:gd name="textAreaRight" fmla="*/ 1443240 w 14428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>
              <a:gd name="textAreaLeft" fmla="*/ 0 w 1359000"/>
              <a:gd name="textAreaRight" fmla="*/ 1359360 w 135900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2B138-1FCB-46FF-BB13-3747D20C1768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>
                <a:gd name="textAreaLeft" fmla="*/ 0 w 571320"/>
                <a:gd name="textAreaRight" fmla="*/ 571320 w 57132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>
                <a:gd name="textAreaLeft" fmla="*/ 0 w 1442880"/>
                <a:gd name="textAreaRight" fmla="*/ 1443240 w 14428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>
              <a:gd name="textAreaLeft" fmla="*/ 0 w 1359000"/>
              <a:gd name="textAreaRight" fmla="*/ 1359360 w 135900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C05A0-4941-4E33-A9B6-9A0790D9C3E0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>
                <a:gd name="textAreaLeft" fmla="*/ 0 w 571320"/>
                <a:gd name="textAreaRight" fmla="*/ 571320 w 57132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>
                <a:gd name="textAreaLeft" fmla="*/ 0 w 1442880"/>
                <a:gd name="textAreaRight" fmla="*/ 1443240 w 14428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>
              <a:gd name="textAreaLeft" fmla="*/ 0 w 1395360"/>
              <a:gd name="textAreaRight" fmla="*/ 1395720 w 1395360"/>
              <a:gd name="textAreaTop" fmla="*/ 0 h 781200"/>
              <a:gd name="textAreaBottom" fmla="*/ 781560 h 781200"/>
            </a:gdLst>
            <a:ahLst/>
            <a:rect l="textAreaLeft" t="textAreaTop" r="textAreaRight" b="textAreaBottom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7D5A9-ACB8-4F27-B917-9D2EB97A18EC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>
                <a:gd name="textAreaLeft" fmla="*/ 0 w 571320"/>
                <a:gd name="textAreaRight" fmla="*/ 571320 w 57132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>
                <a:gd name="textAreaLeft" fmla="*/ 0 w 1442880"/>
                <a:gd name="textAreaRight" fmla="*/ 1443240 w 14428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>
              <a:gd name="textAreaLeft" fmla="*/ 0 w 1359000"/>
              <a:gd name="textAreaRight" fmla="*/ 1359360 w 135900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33E2A-8A29-4ABD-BC36-D30AF20BC3F6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>
                <a:gd name="textAreaLeft" fmla="*/ 0 w 571320"/>
                <a:gd name="textAreaRight" fmla="*/ 571320 w 57132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>
                <a:gd name="textAreaLeft" fmla="*/ 0 w 1442880"/>
                <a:gd name="textAreaRight" fmla="*/ 1443240 w 14428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>
              <a:gd name="textAreaLeft" fmla="*/ 0 w 1359000"/>
              <a:gd name="textAreaRight" fmla="*/ 1359360 w 1359000"/>
              <a:gd name="textAreaTop" fmla="*/ 360 h 508320"/>
              <a:gd name="textAreaBottom" fmla="*/ 509040 h 50832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93EF8-0A7F-423E-A5FC-B68FE91476F3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>
                <a:gd name="textAreaLeft" fmla="*/ 0 w 571320"/>
                <a:gd name="textAreaRight" fmla="*/ 571320 w 57132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>
                <a:gd name="textAreaLeft" fmla="*/ 0 w 1442880"/>
                <a:gd name="textAreaRight" fmla="*/ 1443240 w 14428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>
              <a:gd name="textAreaLeft" fmla="*/ 0 w 1359000"/>
              <a:gd name="textAreaRight" fmla="*/ 1359360 w 135900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555C1-9698-47D6-B2C6-F59DCA5DB55A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>
                <a:gd name="textAreaLeft" fmla="*/ 0 w 571320"/>
                <a:gd name="textAreaRight" fmla="*/ 571320 w 57132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>
                <a:gd name="textAreaLeft" fmla="*/ 0 w 1442880"/>
                <a:gd name="textAreaRight" fmla="*/ 1443240 w 14428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>
              <a:gd name="textAreaLeft" fmla="*/ 0 w 1359000"/>
              <a:gd name="textAreaRight" fmla="*/ 1359360 w 135900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60E28-F146-435A-920C-AC0D409A2277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>
                <a:gd name="textAreaLeft" fmla="*/ 0 w 571320"/>
                <a:gd name="textAreaRight" fmla="*/ 571320 w 57132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>
                <a:gd name="textAreaLeft" fmla="*/ 0 w 1442880"/>
                <a:gd name="textAreaRight" fmla="*/ 1443240 w 14428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>
              <a:gd name="textAreaLeft" fmla="*/ 0 w 1359000"/>
              <a:gd name="textAreaRight" fmla="*/ 1359360 w 135900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D52DA-FA76-4BFE-9D7F-075BDF572C17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>
                <a:gd name="textAreaLeft" fmla="*/ 0 w 571320"/>
                <a:gd name="textAreaRight" fmla="*/ 571320 w 57132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>
                <a:gd name="textAreaLeft" fmla="*/ 0 w 1442880"/>
                <a:gd name="textAreaRight" fmla="*/ 1443240 w 14428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>
              <a:gd name="textAreaLeft" fmla="*/ 0 w 1359000"/>
              <a:gd name="textAreaRight" fmla="*/ 1359360 w 135900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AAFCD-EF22-42A8-828D-77377EDB726F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>
                <a:gd name="textAreaLeft" fmla="*/ 0 w 571320"/>
                <a:gd name="textAreaRight" fmla="*/ 571320 w 57132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>
                <a:gd name="textAreaLeft" fmla="*/ 0 w 1442880"/>
                <a:gd name="textAreaRight" fmla="*/ 1443240 w 14428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>
              <a:gd name="textAreaLeft" fmla="*/ 0 w 1359000"/>
              <a:gd name="textAreaRight" fmla="*/ 1359360 w 135900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54058-B86F-4124-9DB2-C75295894389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Text Box 179"/>
          <p:cNvSpPr/>
          <p:nvPr/>
        </p:nvSpPr>
        <p:spPr>
          <a:xfrm>
            <a:off x="309600" y="1874880"/>
            <a:ext cx="86551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26"/>
                </a:solidFill>
                <a:latin typeface="Arial"/>
              </a:rPr>
              <a:t>Форма №</a:t>
            </a:r>
            <a:r>
              <a:rPr b="1" lang="en-US" sz="2800" spc="-1" strike="noStrike">
                <a:solidFill>
                  <a:srgbClr val="262626"/>
                </a:solidFill>
                <a:latin typeface="Arial"/>
              </a:rPr>
              <a:t>30</a:t>
            </a:r>
            <a:br>
              <a:rPr sz="2800"/>
            </a:br>
            <a:r>
              <a:rPr b="1" lang="ru-RU" sz="2800" spc="-1" strike="noStrike">
                <a:solidFill>
                  <a:srgbClr val="262626"/>
                </a:solidFill>
                <a:latin typeface="Arial"/>
              </a:rPr>
              <a:t>«Сведения о медицинской организации»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Подзаголовок 2"/>
          <p:cNvSpPr/>
          <p:nvPr/>
        </p:nvSpPr>
        <p:spPr>
          <a:xfrm>
            <a:off x="2496960" y="4351320"/>
            <a:ext cx="6312240" cy="16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АЗДЕЛ II.  ШТАТЫ  МЕДИЦИНСКОЙ  ОРГАНИЗАЦИИ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Прямоугольник 3"/>
          <p:cNvSpPr/>
          <p:nvPr/>
        </p:nvSpPr>
        <p:spPr>
          <a:xfrm>
            <a:off x="174600" y="542880"/>
            <a:ext cx="8969400" cy="1499760"/>
          </a:xfrm>
          <a:prstGeom prst="rect">
            <a:avLst/>
          </a:prstGeom>
          <a:solidFill>
            <a:srgbClr val="c1ca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СТЕРСТВО ЗДРАВООХРАНЕНИЯ РОССИЙСКОЙ ФЕДЕРАЦИИ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О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18 июля 2018 г. N 16-5/10/2-4709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…..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проведения аккредитации специалистов регламентируется приказом Минздрава России от 02.06.2016 N 334н "Об утверждении положения об аккредитации специалиста" (далее - Положение)….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Rectangle 3"/>
          <p:cNvSpPr/>
          <p:nvPr/>
        </p:nvSpPr>
        <p:spPr>
          <a:xfrm>
            <a:off x="201600" y="2376360"/>
            <a:ext cx="894240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6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«Врач-стоматолог»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пециальность «Стоматология общей практики»)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51"/>
              </a:spcBef>
              <a:buClr>
                <a:srgbClr val="6472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47252"/>
                </a:solidFill>
                <a:latin typeface="Arial"/>
                <a:ea typeface="Times New Roman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рач-терапевт участковый»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специальность «Лечебное дело»),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51"/>
              </a:spcBef>
              <a:buClr>
                <a:srgbClr val="6472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47252"/>
                </a:solidFill>
                <a:latin typeface="Arial"/>
                <a:ea typeface="Times New Roman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рач-педиатр участковый</a:t>
            </a:r>
            <a:r>
              <a:rPr b="1" lang="ru-RU" sz="2400" spc="-1" strike="noStrike">
                <a:solidFill>
                  <a:srgbClr val="647252"/>
                </a:solidFill>
                <a:latin typeface="Arial"/>
                <a:ea typeface="Times New Roman"/>
              </a:rPr>
              <a:t>»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специальность «Педиатрия»)</a:t>
            </a:r>
            <a:r>
              <a:rPr b="1" lang="ru-RU" sz="1800" spc="-1" strike="noStrike">
                <a:solidFill>
                  <a:srgbClr val="647252"/>
                </a:solidFill>
                <a:latin typeface="Arial"/>
                <a:ea typeface="Times New Roman"/>
              </a:rPr>
              <a:t>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51"/>
              </a:spcBef>
              <a:buClr>
                <a:srgbClr val="6472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51"/>
              </a:spcBef>
              <a:buClr>
                <a:srgbClr val="6472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47252"/>
                </a:solidFill>
                <a:latin typeface="Arial"/>
                <a:ea typeface="Times New Roman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рач клинической лабораторной диагностики»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пециальность «Медицинская биохимия»)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51"/>
              </a:spcBef>
              <a:buClr>
                <a:srgbClr val="6472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51"/>
              </a:spcBef>
              <a:buClr>
                <a:srgbClr val="6472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47252"/>
                </a:solidFill>
                <a:latin typeface="Arial"/>
                <a:ea typeface="Times New Roman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рач функциональной диагностики»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специальность Медицинская биофизика»)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«Врач-статистик»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специальность «Медицинская кибернетика»)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«Врач-эпидемиолог» и «Врач по общей гигиене»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специальность «Медико-профилактическое дело»)</a:t>
            </a:r>
            <a:r>
              <a:rPr b="1" lang="ru-RU" sz="1800" spc="-1" strike="noStrike">
                <a:solidFill>
                  <a:srgbClr val="647252"/>
                </a:solidFill>
                <a:latin typeface="Arial"/>
                <a:ea typeface="Times New Roman"/>
              </a:rPr>
              <a:t>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51"/>
              </a:spcBef>
              <a:buClr>
                <a:srgbClr val="6472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51"/>
              </a:spcBef>
              <a:buClr>
                <a:srgbClr val="6472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47252"/>
                </a:solidFill>
                <a:latin typeface="Arial"/>
                <a:ea typeface="Times New Roman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визор» и «Провизор-технолог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специальность «Фармация»)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2242800" y="225360"/>
            <a:ext cx="6900840" cy="44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Аккредитация специалистов со средним медицинским и фармацевтическим образованием в 2018 году</a:t>
            </a:r>
            <a:endParaRPr b="0" lang="en-US" sz="1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0" name=""/>
          <p:cNvSpPr txBox="1"/>
          <p:nvPr/>
        </p:nvSpPr>
        <p:spPr>
          <a:xfrm>
            <a:off x="334800" y="1157040"/>
            <a:ext cx="8809200" cy="55782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Фельдшер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        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пециальность «Лечебное дело»)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c1401d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ая сестра», «Медицинская сестра участковая», «Медицинская сестра патронажная», «Медицинская сестра приемного отделения», «Медицинская сестра палатная (постовая)», «Медицинская сестра перевязочной», «Медицинская сестра процедурной», «Медицинская сестра стерилизационной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пециальность «Сестринское дело»)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Фармацевт»     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пециальность «Фармация») 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Акушерка»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пециальность «Акушерское дело»)</a:t>
            </a:r>
            <a:r>
              <a:rPr b="1" lang="ru-RU" sz="1400" spc="-1" strike="noStrike">
                <a:solidFill>
                  <a:srgbClr val="c1401d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едицинская сестра по массажу/медицинский брат по массажу»              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пециальность «Медицинский массаж»)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убной техник»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пециальность «Стоматология ортопедическая») 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едицинский технолог», «Медицинский лабораторный техник (фельдшер-лаборант)» и «Лаборант»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пециальность «Лабораторная    диагностика»)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Гигиенист стоматологический»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пециальность «Стоматология  профилактическая»)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едицинский оптик-оптометрист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пециальность «Медицинская оптика»)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ник врача по эпидемиологии» и «Помощник врача по гигиене»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                                                                                                         (специальность «Медико-профилактическое дело»)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1" name=""/>
          <p:cNvGraphicFramePr/>
          <p:nvPr/>
        </p:nvGraphicFramePr>
        <p:xfrm>
          <a:off x="517680" y="1143000"/>
          <a:ext cx="8173800" cy="3657600"/>
        </p:xfrm>
        <a:graphic>
          <a:graphicData uri="http://schemas.openxmlformats.org/drawingml/2006/table">
            <a:tbl>
              <a:tblPr/>
              <a:tblGrid>
                <a:gridCol w="1350720"/>
                <a:gridCol w="496800"/>
                <a:gridCol w="568440"/>
                <a:gridCol w="641520"/>
                <a:gridCol w="637920"/>
                <a:gridCol w="569880"/>
                <a:gridCol w="638280"/>
                <a:gridCol w="568440"/>
                <a:gridCol w="995400"/>
                <a:gridCol w="853920"/>
                <a:gridCol w="852480"/>
              </a:tblGrid>
              <a:tr h="115740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9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2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боранты (из стр.1 Врачи – всего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cab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cab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2" name="Rectangle 108"/>
          <p:cNvSpPr/>
          <p:nvPr/>
        </p:nvSpPr>
        <p:spPr>
          <a:xfrm>
            <a:off x="434880" y="4911840"/>
            <a:ext cx="841860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соответствии с ранее действовавшими приказами Минздрава СССР от 21.10.1974  №990 и от 13.07.1989 №418 лица, получившие высшее профессиональное (немедицинкое) образование, могли замещать в учреждениях здравоохранения должности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рачей-лаборантов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казом Минздрава России от 25.12.1997 №380 к замещению должности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рача клинической лабораторной диагностик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были допущены лица с высшим медицинским образованием и сертификатом по специальности «Клиническая лабораторная диагностика»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Rectangle 2"/>
          <p:cNvSpPr/>
          <p:nvPr/>
        </p:nvSpPr>
        <p:spPr>
          <a:xfrm>
            <a:off x="1600200" y="457200"/>
            <a:ext cx="5938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аблица 1100. Должности и физические лица медицинской организа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4" name=""/>
          <p:cNvGraphicFramePr/>
          <p:nvPr/>
        </p:nvGraphicFramePr>
        <p:xfrm>
          <a:off x="517680" y="1143000"/>
          <a:ext cx="8173800" cy="3657600"/>
        </p:xfrm>
        <a:graphic>
          <a:graphicData uri="http://schemas.openxmlformats.org/drawingml/2006/table">
            <a:tbl>
              <a:tblPr/>
              <a:tblGrid>
                <a:gridCol w="1350720"/>
                <a:gridCol w="496800"/>
                <a:gridCol w="568440"/>
                <a:gridCol w="641520"/>
                <a:gridCol w="637920"/>
                <a:gridCol w="569880"/>
                <a:gridCol w="638280"/>
                <a:gridCol w="568440"/>
                <a:gridCol w="995400"/>
                <a:gridCol w="853920"/>
                <a:gridCol w="852480"/>
              </a:tblGrid>
              <a:tr h="115740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9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2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боранты (из стр.1 Врачи – всего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cab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cab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5" name="Rectangle 108"/>
          <p:cNvSpPr/>
          <p:nvPr/>
        </p:nvSpPr>
        <p:spPr>
          <a:xfrm>
            <a:off x="434880" y="4911840"/>
            <a:ext cx="848700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уководителю медицинской организации было предоставлено ввести должность «Биолог»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.о. должность «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рач-лаборан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» сохраняется для специалистов с высшим профессиональным (немедицинским) образованием, принятых на работу до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01.10.1999 год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Эти работники могут продолжать профессиональную деятельность в занимаемых должностях без сертификата специалиста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Rectangle 2"/>
          <p:cNvSpPr/>
          <p:nvPr/>
        </p:nvSpPr>
        <p:spPr>
          <a:xfrm>
            <a:off x="1600200" y="457200"/>
            <a:ext cx="5938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аблица 1100. Должности и физические лица медицинской организа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7" name=""/>
          <p:cNvGraphicFramePr/>
          <p:nvPr/>
        </p:nvGraphicFramePr>
        <p:xfrm>
          <a:off x="200160" y="1143000"/>
          <a:ext cx="8721720" cy="5416560"/>
        </p:xfrm>
        <a:graphic>
          <a:graphicData uri="http://schemas.openxmlformats.org/drawingml/2006/table">
            <a:tbl>
              <a:tblPr/>
              <a:tblGrid>
                <a:gridCol w="1828800"/>
                <a:gridCol w="479160"/>
                <a:gridCol w="669960"/>
                <a:gridCol w="595440"/>
                <a:gridCol w="745920"/>
                <a:gridCol w="665280"/>
                <a:gridCol w="746280"/>
                <a:gridCol w="663480"/>
                <a:gridCol w="1163520"/>
                <a:gridCol w="1163880"/>
              </a:tblGrid>
              <a:tr h="94428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сертификат специалиста (из гр.9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8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68760" rIns="68760" tIns="0" bIns="0" anchor="b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инической лабораторной диагностики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cab6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cab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68760" rIns="68760" tIns="0" bIns="0" anchor="b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лаборант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cab6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cab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27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0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, число физических лиц специалистов с высшим немедицинским образованием, занимающих должности врачей,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cab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0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cab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0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0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й: лаборантов                 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cab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0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cab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8" name="Rectangle 2"/>
          <p:cNvSpPr/>
          <p:nvPr/>
        </p:nvSpPr>
        <p:spPr>
          <a:xfrm>
            <a:off x="1600200" y="457200"/>
            <a:ext cx="5938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аблица 1100. Должности и физические лица медицинской организа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AutoShape 17"/>
          <p:cNvSpPr/>
          <p:nvPr/>
        </p:nvSpPr>
        <p:spPr>
          <a:xfrm>
            <a:off x="6969240" y="4081320"/>
            <a:ext cx="1617480" cy="34632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ccb182"/>
            </a:solidFill>
            <a:miter/>
          </a:ln>
          <a:effectLst>
            <a:outerShdw dist="17819" dir="2700000" blurRad="0" rotWithShape="0">
              <a:srgbClr val="7a6a4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Скругленная прямоугольная выноска 9"/>
          <p:cNvSpPr/>
          <p:nvPr/>
        </p:nvSpPr>
        <p:spPr>
          <a:xfrm>
            <a:off x="5207040" y="3222720"/>
            <a:ext cx="1739880" cy="635040"/>
          </a:xfrm>
          <a:prstGeom prst="wedgeRoundRectCallout">
            <a:avLst>
              <a:gd name="adj1" fmla="val 36912"/>
              <a:gd name="adj2" fmla="val 95833"/>
              <a:gd name="adj3" fmla="val 16667"/>
            </a:avLst>
          </a:prstGeom>
          <a:solidFill>
            <a:srgbClr val="464a72"/>
          </a:solidFill>
          <a:ln w="9360">
            <a:solidFill>
              <a:srgbClr val="464a7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Высшее медицинское образование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AutoShape 47"/>
          <p:cNvSpPr/>
          <p:nvPr/>
        </p:nvSpPr>
        <p:spPr>
          <a:xfrm rot="2580000">
            <a:off x="6078240" y="4719240"/>
            <a:ext cx="1782720" cy="1355760"/>
          </a:xfrm>
          <a:custGeom>
            <a:avLst/>
            <a:gdLst>
              <a:gd name="textAreaLeft" fmla="*/ 261000 w 1782720"/>
              <a:gd name="textAreaRight" fmla="*/ 1521720 w 1782720"/>
              <a:gd name="textAreaTop" fmla="*/ 198360 h 1355760"/>
              <a:gd name="textAreaBottom" fmla="*/ 1157400 h 1355760"/>
            </a:gdLst>
            <a:ahLst/>
            <a:rect l="textAreaLeft" t="textAreaTop" r="textAreaRight" b="textAreaBottom"/>
            <a:pathLst>
              <a:path w="21600" h="21600">
                <a:moveTo>
                  <a:pt x="18094" y="10228"/>
                </a:moveTo>
                <a:cubicBezTo>
                  <a:pt x="17796" y="6420"/>
                  <a:pt x="14619" y="3483"/>
                  <a:pt x="10800" y="3483"/>
                </a:cubicBezTo>
                <a:cubicBezTo>
                  <a:pt x="10762" y="3482"/>
                  <a:pt x="10724" y="3483"/>
                  <a:pt x="10687" y="3483"/>
                </a:cubicBezTo>
                <a:lnTo>
                  <a:pt x="10633" y="1"/>
                </a:lnTo>
                <a:cubicBezTo>
                  <a:pt x="10689" y="0"/>
                  <a:pt x="10744" y="-1"/>
                  <a:pt x="10800" y="0"/>
                </a:cubicBezTo>
                <a:cubicBezTo>
                  <a:pt x="16437" y="0"/>
                  <a:pt x="21126" y="4335"/>
                  <a:pt x="21566" y="9955"/>
                </a:cubicBezTo>
                <a:lnTo>
                  <a:pt x="24258" y="9744"/>
                </a:lnTo>
                <a:lnTo>
                  <a:pt x="20179" y="14520"/>
                </a:lnTo>
                <a:lnTo>
                  <a:pt x="15402" y="10439"/>
                </a:lnTo>
                <a:lnTo>
                  <a:pt x="18094" y="10228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AutoShape 17"/>
          <p:cNvSpPr/>
          <p:nvPr/>
        </p:nvSpPr>
        <p:spPr>
          <a:xfrm>
            <a:off x="7772400" y="4649760"/>
            <a:ext cx="1122480" cy="40968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ff0000"/>
            </a:solidFill>
            <a:miter/>
          </a:ln>
          <a:effectLst>
            <a:outerShdw dist="17819" dir="2700000" blurRad="0" rotWithShape="0">
              <a:srgbClr val="7a6a4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Скругленная прямоугольная выноска 12"/>
          <p:cNvSpPr/>
          <p:nvPr/>
        </p:nvSpPr>
        <p:spPr>
          <a:xfrm>
            <a:off x="2795760" y="5170320"/>
            <a:ext cx="3917880" cy="635040"/>
          </a:xfrm>
          <a:prstGeom prst="wedgeRoundRectCallout">
            <a:avLst>
              <a:gd name="adj1" fmla="val -38675"/>
              <a:gd name="adj2" fmla="val -79606"/>
              <a:gd name="adj3" fmla="val 16667"/>
            </a:avLst>
          </a:prstGeom>
          <a:solidFill>
            <a:srgbClr val="464a7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Увеличение штатной численности и физлиц не должно быть. Вновь принятые специалисты  - на должность «Биолог»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4" name=""/>
          <p:cNvGraphicFramePr/>
          <p:nvPr/>
        </p:nvGraphicFramePr>
        <p:xfrm>
          <a:off x="355680" y="2075040"/>
          <a:ext cx="8402400" cy="3535200"/>
        </p:xfrm>
        <a:graphic>
          <a:graphicData uri="http://schemas.openxmlformats.org/drawingml/2006/table">
            <a:tbl>
              <a:tblPr/>
              <a:tblGrid>
                <a:gridCol w="1388880"/>
                <a:gridCol w="511200"/>
                <a:gridCol w="584280"/>
                <a:gridCol w="658800"/>
                <a:gridCol w="655560"/>
                <a:gridCol w="585720"/>
                <a:gridCol w="655920"/>
                <a:gridCol w="583920"/>
                <a:gridCol w="1024200"/>
                <a:gridCol w="877680"/>
                <a:gridCol w="876240"/>
              </a:tblGrid>
              <a:tr h="115740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9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атры участковые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cab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cab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5" name="Rectangle 2"/>
          <p:cNvSpPr/>
          <p:nvPr/>
        </p:nvSpPr>
        <p:spPr>
          <a:xfrm>
            <a:off x="1719360" y="947880"/>
            <a:ext cx="6573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аблица 1100. Должности и физические лица медицинской организа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Line 67"/>
          <p:cNvSpPr/>
          <p:nvPr/>
        </p:nvSpPr>
        <p:spPr>
          <a:xfrm flipH="1">
            <a:off x="6984720" y="5292720"/>
            <a:ext cx="414360" cy="363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AutoShape 47"/>
          <p:cNvSpPr/>
          <p:nvPr/>
        </p:nvSpPr>
        <p:spPr>
          <a:xfrm rot="18274800">
            <a:off x="7524720" y="4836600"/>
            <a:ext cx="731880" cy="817560"/>
          </a:xfrm>
          <a:custGeom>
            <a:avLst/>
            <a:gdLst>
              <a:gd name="textAreaLeft" fmla="*/ 106920 w 731880"/>
              <a:gd name="textAreaRight" fmla="*/ 624960 w 731880"/>
              <a:gd name="textAreaTop" fmla="*/ 119520 h 817560"/>
              <a:gd name="textAreaBottom" fmla="*/ 698040 h 817560"/>
            </a:gdLst>
            <a:ahLst/>
            <a:rect l="textAreaLeft" t="textAreaTop" r="textAreaRight" b="textAreaBottom"/>
            <a:pathLst>
              <a:path w="21600" h="21600">
                <a:moveTo>
                  <a:pt x="18094" y="10228"/>
                </a:moveTo>
                <a:cubicBezTo>
                  <a:pt x="17796" y="6420"/>
                  <a:pt x="14619" y="3483"/>
                  <a:pt x="10800" y="3483"/>
                </a:cubicBezTo>
                <a:cubicBezTo>
                  <a:pt x="10762" y="3482"/>
                  <a:pt x="10724" y="3483"/>
                  <a:pt x="10687" y="3483"/>
                </a:cubicBezTo>
                <a:lnTo>
                  <a:pt x="10633" y="1"/>
                </a:lnTo>
                <a:cubicBezTo>
                  <a:pt x="10689" y="0"/>
                  <a:pt x="10744" y="-1"/>
                  <a:pt x="10800" y="0"/>
                </a:cubicBezTo>
                <a:cubicBezTo>
                  <a:pt x="16437" y="0"/>
                  <a:pt x="21126" y="4335"/>
                  <a:pt x="21566" y="9955"/>
                </a:cubicBezTo>
                <a:lnTo>
                  <a:pt x="24258" y="9744"/>
                </a:lnTo>
                <a:lnTo>
                  <a:pt x="20179" y="14520"/>
                </a:lnTo>
                <a:lnTo>
                  <a:pt x="15402" y="10439"/>
                </a:lnTo>
                <a:lnTo>
                  <a:pt x="18094" y="10228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8" name=""/>
          <p:cNvGraphicFramePr/>
          <p:nvPr/>
        </p:nvGraphicFramePr>
        <p:xfrm>
          <a:off x="289080" y="1143000"/>
          <a:ext cx="8402400" cy="3535200"/>
        </p:xfrm>
        <a:graphic>
          <a:graphicData uri="http://schemas.openxmlformats.org/drawingml/2006/table">
            <a:tbl>
              <a:tblPr/>
              <a:tblGrid>
                <a:gridCol w="1388880"/>
                <a:gridCol w="511200"/>
                <a:gridCol w="584280"/>
                <a:gridCol w="658800"/>
                <a:gridCol w="655560"/>
                <a:gridCol w="585720"/>
                <a:gridCol w="655560"/>
                <a:gridCol w="584280"/>
                <a:gridCol w="1023840"/>
                <a:gridCol w="878040"/>
                <a:gridCol w="876240"/>
              </a:tblGrid>
              <a:tr h="115740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9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cab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cab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9" name="Rectangle 2"/>
          <p:cNvSpPr/>
          <p:nvPr/>
        </p:nvSpPr>
        <p:spPr>
          <a:xfrm>
            <a:off x="1600200" y="457200"/>
            <a:ext cx="5372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аблица 1100. Должности и физические лица медицинской организа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Rectangle 1538"/>
          <p:cNvSpPr/>
          <p:nvPr/>
        </p:nvSpPr>
        <p:spPr>
          <a:xfrm>
            <a:off x="290520" y="4842000"/>
            <a:ext cx="8369280" cy="1339560"/>
          </a:xfrm>
          <a:prstGeom prst="rect">
            <a:avLst/>
          </a:prstGeom>
          <a:solidFill>
            <a:srgbClr val="c1ca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рачи «скорой медицинской помощи», работающие в кабинетах неотложной помощи или в больницах скорой медицинской помощи указываются по графам «в амбулаторных условиях» или «в стационарных условиях» соответственно, при условии наличия должности «врач скорой медицинской помощи» в штатном расписании медицинской организации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Line 66"/>
          <p:cNvSpPr/>
          <p:nvPr/>
        </p:nvSpPr>
        <p:spPr>
          <a:xfrm flipH="1">
            <a:off x="3555720" y="4361040"/>
            <a:ext cx="414360" cy="363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Line 67"/>
          <p:cNvSpPr/>
          <p:nvPr/>
        </p:nvSpPr>
        <p:spPr>
          <a:xfrm flipH="1">
            <a:off x="4022280" y="4368960"/>
            <a:ext cx="414360" cy="363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Line 68"/>
          <p:cNvSpPr/>
          <p:nvPr/>
        </p:nvSpPr>
        <p:spPr>
          <a:xfrm flipH="1">
            <a:off x="4563720" y="4368960"/>
            <a:ext cx="414360" cy="363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Line 69"/>
          <p:cNvSpPr/>
          <p:nvPr/>
        </p:nvSpPr>
        <p:spPr>
          <a:xfrm flipH="1">
            <a:off x="5239800" y="4386240"/>
            <a:ext cx="414360" cy="363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Line 70"/>
          <p:cNvSpPr/>
          <p:nvPr/>
        </p:nvSpPr>
        <p:spPr>
          <a:xfrm flipH="1">
            <a:off x="6849720" y="4386240"/>
            <a:ext cx="414360" cy="363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Line 71"/>
          <p:cNvSpPr/>
          <p:nvPr/>
        </p:nvSpPr>
        <p:spPr>
          <a:xfrm flipH="1">
            <a:off x="7738560" y="4403880"/>
            <a:ext cx="414360" cy="363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7" name=""/>
          <p:cNvGraphicFramePr/>
          <p:nvPr/>
        </p:nvGraphicFramePr>
        <p:xfrm>
          <a:off x="260280" y="1424160"/>
          <a:ext cx="8532720" cy="3200400"/>
        </p:xfrm>
        <a:graphic>
          <a:graphicData uri="http://schemas.openxmlformats.org/drawingml/2006/table">
            <a:tbl>
              <a:tblPr/>
              <a:tblGrid>
                <a:gridCol w="1563840"/>
                <a:gridCol w="479520"/>
                <a:gridCol w="590400"/>
                <a:gridCol w="628560"/>
                <a:gridCol w="676440"/>
                <a:gridCol w="610920"/>
                <a:gridCol w="662040"/>
                <a:gridCol w="596880"/>
                <a:gridCol w="827280"/>
                <a:gridCol w="949320"/>
                <a:gridCol w="947520"/>
              </a:tblGrid>
              <a:tr h="11595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врач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cab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cab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8" name="Rectangle 1538"/>
          <p:cNvSpPr/>
          <p:nvPr/>
        </p:nvSpPr>
        <p:spPr>
          <a:xfrm>
            <a:off x="1433520" y="4913280"/>
            <a:ext cx="6362640" cy="763560"/>
          </a:xfrm>
          <a:prstGeom prst="rect">
            <a:avLst/>
          </a:prstGeom>
          <a:solidFill>
            <a:srgbClr val="ccb1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шибка: включаются должности отсутствующие в Номенклатуре должностей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произвольно наименованные)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Rectangle 2"/>
          <p:cNvSpPr/>
          <p:nvPr/>
        </p:nvSpPr>
        <p:spPr>
          <a:xfrm>
            <a:off x="1600200" y="457200"/>
            <a:ext cx="5372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аблица 1100. Должности и физические лица медицинской организа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0" name=""/>
          <p:cNvGraphicFramePr/>
          <p:nvPr/>
        </p:nvGraphicFramePr>
        <p:xfrm>
          <a:off x="252360" y="363600"/>
          <a:ext cx="8672400" cy="5843520"/>
        </p:xfrm>
        <a:graphic>
          <a:graphicData uri="http://schemas.openxmlformats.org/drawingml/2006/table">
            <a:tbl>
              <a:tblPr/>
              <a:tblGrid>
                <a:gridCol w="1462320"/>
                <a:gridCol w="512640"/>
                <a:gridCol w="439560"/>
                <a:gridCol w="560520"/>
                <a:gridCol w="604800"/>
                <a:gridCol w="546120"/>
                <a:gridCol w="588960"/>
                <a:gridCol w="533520"/>
                <a:gridCol w="1458720"/>
                <a:gridCol w="922320"/>
                <a:gridCol w="1042920"/>
              </a:tblGrid>
              <a:tr h="100440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6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врачей (стр.1):                                                   врачи клинических  специальностей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ют на основной работе в организациях подчинения: федерально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ab9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ъектов Российской Федер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ab9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два и более сертификатов специалиста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db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1" name="AutoShape 627"/>
          <p:cNvSpPr/>
          <p:nvPr/>
        </p:nvSpPr>
        <p:spPr>
          <a:xfrm>
            <a:off x="2257560" y="4906800"/>
            <a:ext cx="6553080" cy="642960"/>
          </a:xfrm>
          <a:prstGeom prst="wedgeRoundRectCallout">
            <a:avLst>
              <a:gd name="adj1" fmla="val 7148"/>
              <a:gd name="adj2" fmla="val 116912"/>
              <a:gd name="adj3" fmla="val 16667"/>
            </a:avLst>
          </a:prstGeom>
          <a:solidFill>
            <a:srgbClr val="4329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Указываются сведения о числе физических лиц врачей, имеющих два и более сертификатов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Rectangle 628"/>
          <p:cNvSpPr/>
          <p:nvPr/>
        </p:nvSpPr>
        <p:spPr>
          <a:xfrm>
            <a:off x="2259000" y="3924360"/>
            <a:ext cx="6591240" cy="873000"/>
          </a:xfrm>
          <a:prstGeom prst="rect">
            <a:avLst/>
          </a:prstGeom>
          <a:solidFill>
            <a:srgbClr val="ebab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ма строк 124 и 125 равна строке 1. По подчиненности (федеральные учреждения, подчинение субъекта РФ) медицинские организации распределяются по состоянию на конец отчетного года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Rectangle 629"/>
          <p:cNvSpPr/>
          <p:nvPr/>
        </p:nvSpPr>
        <p:spPr>
          <a:xfrm>
            <a:off x="2279520" y="2921040"/>
            <a:ext cx="6607440" cy="762120"/>
          </a:xfrm>
          <a:prstGeom prst="rect">
            <a:avLst/>
          </a:prstGeom>
          <a:solidFill>
            <a:srgbClr val="c8c3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ведения в строке 123 не могут превышать значения, указанные в строке 1 (всего). Заполняется вся строка по графам 3-17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"/>
          <p:cNvSpPr txBox="1"/>
          <p:nvPr/>
        </p:nvSpPr>
        <p:spPr>
          <a:xfrm>
            <a:off x="838080" y="906480"/>
            <a:ext cx="8305920" cy="5502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9000"/>
          </a:bodyPr>
          <a:p>
            <a:pPr marL="89280" indent="-89280">
              <a:lnSpc>
                <a:spcPct val="7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647252"/>
                </a:solidFill>
                <a:latin typeface="Times New Roman"/>
              </a:rPr>
              <a:t>к врачам клинических специальностей относятся (строка 123):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89280" indent="-89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терапевты, пульмонологи, кардиологи, детские кардиологи, ревматологи, гастроэнтерологи, нефрологи, диабетологи, эндокринологи, эндокринологи детские, аллергологи- иммунологи, гематологи, профпатологи, онкологи, онкологи детские, хирурги, хирурги детские, нейрохирурги, хирурги пластические, сердечно-сосудистые хирурги, торакальные хирурги, травматологи-ортопеды, урологи, урологи-андрологи детские, колопроктологи, челюстно-лицевые хирурги, акушеры-гинекологи, педиатры, неонатологи, офтальмологи, оториноларингологи, фтизиатры, неврологи, психиатры, психиатры детские, психиатры подростковые, гериатры, психиатры-наркологи, дерматовенерологи, врачи скорой медицинской помощи, инфекционисты, врачи общей практики (семейные), врачи по рентгенэндоваскулярной диагностике и лечению,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врачи здравпунктов, врачи приемного отделения, по медицинской реабилитации,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89280" indent="-89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врачи токсикологи (добавлены</a:t>
            </a:r>
            <a:r>
              <a:rPr b="1" lang="ru-RU" sz="2000" spc="-1" strike="noStrike">
                <a:solidFill>
                  <a:srgbClr val="647252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89280" indent="-892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5" name="AutoShape 17"/>
          <p:cNvSpPr/>
          <p:nvPr/>
        </p:nvSpPr>
        <p:spPr>
          <a:xfrm>
            <a:off x="576360" y="6010200"/>
            <a:ext cx="4627440" cy="39708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ccb182"/>
            </a:solidFill>
            <a:miter/>
          </a:ln>
          <a:effectLst>
            <a:outerShdw dist="17819" dir="2700000" blurRad="0" rotWithShape="0">
              <a:srgbClr val="7a6a4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Text Box 3"/>
          <p:cNvSpPr/>
          <p:nvPr/>
        </p:nvSpPr>
        <p:spPr>
          <a:xfrm>
            <a:off x="471600" y="2274840"/>
            <a:ext cx="8424720" cy="36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Штатное расписание является документ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которым определяется структура учреждения и численность должностей по каждому наименованию в конкретных подразделениях и в целом по учреждению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а штатного расписания утверждена Постановлением Госкомстата РФ от 05.01.2004 №1 «Об утверждении унифицированных форм первичной учетной документации по учету труда и его оплаты». Данная форма 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N Т-3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рекомендована для применения организациями независимо от формы собственности, осуществляющими деятельность на территории РФ, в том числе бюджетными учреждениями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Подзаголовок 2"/>
          <p:cNvSpPr/>
          <p:nvPr/>
        </p:nvSpPr>
        <p:spPr>
          <a:xfrm>
            <a:off x="1282680" y="399960"/>
            <a:ext cx="680256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Штатное расписание медицинской организации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6" name=""/>
          <p:cNvGraphicFramePr/>
          <p:nvPr/>
        </p:nvGraphicFramePr>
        <p:xfrm>
          <a:off x="257040" y="453960"/>
          <a:ext cx="8734680" cy="6181920"/>
        </p:xfrm>
        <a:graphic>
          <a:graphicData uri="http://schemas.openxmlformats.org/drawingml/2006/table">
            <a:tbl>
              <a:tblPr/>
              <a:tblGrid>
                <a:gridCol w="2235240"/>
                <a:gridCol w="449280"/>
                <a:gridCol w="486000"/>
                <a:gridCol w="519120"/>
                <a:gridCol w="679320"/>
                <a:gridCol w="523800"/>
                <a:gridCol w="679680"/>
                <a:gridCol w="601560"/>
                <a:gridCol w="828720"/>
                <a:gridCol w="828720"/>
                <a:gridCol w="903240"/>
              </a:tblGrid>
              <a:tr h="82188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ы с высшим немедицинским образованием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db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пециалисты: биологи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трукторы-методисты по  лечебной физкультуре 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гопед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физик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логи медицински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дебные эксперты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мики-эксперты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зоолог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d5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3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d5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эксперт-физик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d5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3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d5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эмбриолог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d5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3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d5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энтомолог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d5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3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d5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7" name="Rectangle 915"/>
          <p:cNvSpPr/>
          <p:nvPr/>
        </p:nvSpPr>
        <p:spPr>
          <a:xfrm>
            <a:off x="3040200" y="2860560"/>
            <a:ext cx="5744880" cy="806400"/>
          </a:xfrm>
          <a:prstGeom prst="rect">
            <a:avLst/>
          </a:prstGeom>
          <a:solidFill>
            <a:srgbClr val="ccb1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строку 127 не включаются сведения о специалистах с высшим немедицинским образованием, занимающих врачебные должности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Rectangle 917"/>
          <p:cNvSpPr/>
          <p:nvPr/>
        </p:nvSpPr>
        <p:spPr>
          <a:xfrm>
            <a:off x="3125880" y="3902040"/>
            <a:ext cx="5586480" cy="552600"/>
          </a:xfrm>
          <a:prstGeom prst="rect">
            <a:avLst/>
          </a:prstGeom>
          <a:solidFill>
            <a:srgbClr val="ccb1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трока 127 равна сумме строк с 128 по 138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Выноска со стрелкой вправо 2"/>
          <p:cNvSpPr/>
          <p:nvPr/>
        </p:nvSpPr>
        <p:spPr>
          <a:xfrm>
            <a:off x="2978280" y="5500800"/>
            <a:ext cx="685800" cy="1082520"/>
          </a:xfrm>
          <a:prstGeom prst="rightArrowCallout">
            <a:avLst>
              <a:gd name="adj1" fmla="val 24995"/>
              <a:gd name="adj2" fmla="val 25000"/>
              <a:gd name="adj3" fmla="val 25000"/>
              <a:gd name="adj4" fmla="val 64977"/>
            </a:avLst>
          </a:prstGeom>
          <a:solidFill>
            <a:srgbClr val="e78712"/>
          </a:solidFill>
          <a:ln cap="rnd" w="15840">
            <a:solidFill>
              <a:srgbClr val="aa62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Rectangle 917"/>
          <p:cNvSpPr/>
          <p:nvPr/>
        </p:nvSpPr>
        <p:spPr>
          <a:xfrm>
            <a:off x="3706920" y="5796000"/>
            <a:ext cx="5087880" cy="396720"/>
          </a:xfrm>
          <a:prstGeom prst="rect">
            <a:avLst/>
          </a:prstGeom>
          <a:solidFill>
            <a:srgbClr val="ccb1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ВНИМАНИЕ!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Добавлены строки 135,136,137,138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1" name=""/>
          <p:cNvGraphicFramePr/>
          <p:nvPr/>
        </p:nvGraphicFramePr>
        <p:xfrm>
          <a:off x="361800" y="263520"/>
          <a:ext cx="8501040" cy="5896080"/>
        </p:xfrm>
        <a:graphic>
          <a:graphicData uri="http://schemas.openxmlformats.org/drawingml/2006/table">
            <a:tbl>
              <a:tblPr/>
              <a:tblGrid>
                <a:gridCol w="1832040"/>
                <a:gridCol w="439920"/>
                <a:gridCol w="587160"/>
                <a:gridCol w="731880"/>
                <a:gridCol w="585720"/>
                <a:gridCol w="513000"/>
                <a:gridCol w="733320"/>
                <a:gridCol w="660240"/>
                <a:gridCol w="731880"/>
                <a:gridCol w="879480"/>
                <a:gridCol w="806400"/>
              </a:tblGrid>
              <a:tr h="82188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персонал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в организациях, расположенных в сельской местност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db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db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ют на основной работе в организациях подчинения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ерально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db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4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db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ъектов Российской Федер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db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4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db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торы сестринского дела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стр. 143)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db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db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b73c26"/>
                          </a:solidFill>
                          <a:latin typeface="Arial"/>
                          <a:ea typeface="Times New Roman"/>
                        </a:rPr>
                        <a:t>Заполняется вся строка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2" name="Rectangle 694"/>
          <p:cNvSpPr/>
          <p:nvPr/>
        </p:nvSpPr>
        <p:spPr>
          <a:xfrm>
            <a:off x="2827440" y="3944880"/>
            <a:ext cx="5848200" cy="304920"/>
          </a:xfrm>
          <a:prstGeom prst="rect">
            <a:avLst/>
          </a:prstGeom>
          <a:solidFill>
            <a:srgbClr val="ccb1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умма строк 145 и 146 равна строке 143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Rectangle 719"/>
          <p:cNvSpPr/>
          <p:nvPr/>
        </p:nvSpPr>
        <p:spPr>
          <a:xfrm>
            <a:off x="2870280" y="4334040"/>
            <a:ext cx="5898960" cy="1050840"/>
          </a:xfrm>
          <a:prstGeom prst="rect">
            <a:avLst/>
          </a:prstGeom>
          <a:solidFill>
            <a:srgbClr val="ccb1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казываются специалисты с высшим или средним медицинским образованием, имеющие данную специальность, независимо от должности, которую они занимают в среднем медперсонале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Line 720"/>
          <p:cNvSpPr/>
          <p:nvPr/>
        </p:nvSpPr>
        <p:spPr>
          <a:xfrm flipV="1">
            <a:off x="2513160" y="5249520"/>
            <a:ext cx="560160" cy="878040"/>
          </a:xfrm>
          <a:prstGeom prst="line">
            <a:avLst/>
          </a:prstGeom>
          <a:ln w="73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Rectangle 721"/>
          <p:cNvSpPr/>
          <p:nvPr/>
        </p:nvSpPr>
        <p:spPr>
          <a:xfrm>
            <a:off x="2803680" y="2652840"/>
            <a:ext cx="5908680" cy="1066680"/>
          </a:xfrm>
          <a:prstGeom prst="rect">
            <a:avLst/>
          </a:prstGeom>
          <a:solidFill>
            <a:srgbClr val="ccb1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дицинских сестер с высшим медицинским образованием, занимающих должност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рачей-методистов или врачей-статистик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строку 143 не включать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6" name=""/>
          <p:cNvGraphicFramePr/>
          <p:nvPr/>
        </p:nvGraphicFramePr>
        <p:xfrm>
          <a:off x="284040" y="777960"/>
          <a:ext cx="8499600" cy="5798880"/>
        </p:xfrm>
        <a:graphic>
          <a:graphicData uri="http://schemas.openxmlformats.org/drawingml/2006/table">
            <a:tbl>
              <a:tblPr/>
              <a:tblGrid>
                <a:gridCol w="1597320"/>
                <a:gridCol w="477720"/>
                <a:gridCol w="758880"/>
                <a:gridCol w="726840"/>
                <a:gridCol w="581040"/>
                <a:gridCol w="652680"/>
                <a:gridCol w="581040"/>
                <a:gridCol w="653760"/>
                <a:gridCol w="873360"/>
                <a:gridCol w="796680"/>
                <a:gridCol w="800280"/>
              </a:tblGrid>
              <a:tr h="10065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6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среднего медперсонала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стр. 143):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dbc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dbc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к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db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гиенисты стоматологически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едующи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db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db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заведующие фельдшерско-акушерским пунктом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мощники  врачей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db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db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7" name="Rectangle 719"/>
          <p:cNvSpPr/>
          <p:nvPr/>
        </p:nvSpPr>
        <p:spPr>
          <a:xfrm>
            <a:off x="2527200" y="3490920"/>
            <a:ext cx="6189840" cy="1371600"/>
          </a:xfrm>
          <a:prstGeom prst="rect">
            <a:avLst/>
          </a:prstGeom>
          <a:solidFill>
            <a:srgbClr val="ccb1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в строке 150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указывать следующие должности: заведующий молочной кухней; заведующий здравпунктом–фельдшер (медицинская сестра);заведующий ФАП– фельдшер (акушер, медицинская сестра); заведующий кабинетом медпрофилактики– фельдшер (медицинская сестра); заведующий отделом, отделением, лабораторией, кабинетом зубопротезирования 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Rectangle 804"/>
          <p:cNvSpPr/>
          <p:nvPr/>
        </p:nvSpPr>
        <p:spPr>
          <a:xfrm>
            <a:off x="2494080" y="5275440"/>
            <a:ext cx="6273720" cy="1301400"/>
          </a:xfrm>
          <a:prstGeom prst="rect">
            <a:avLst/>
          </a:prstGeom>
          <a:solidFill>
            <a:srgbClr val="ccb1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в строке 20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указывать должности помощников: врача- эпидемиолога, врача-паразитолога, врача по гигиене детей и подростков, врача по гигиене питания, врача по гигиене труда, врача по гигиеническому воспитанию, врача по коммунальной гигиене, врача по общей гигиене, врача по радиационной гигиене, помощник энтомолога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9" name=""/>
          <p:cNvGraphicFramePr/>
          <p:nvPr/>
        </p:nvGraphicFramePr>
        <p:xfrm>
          <a:off x="219240" y="217440"/>
          <a:ext cx="8691480" cy="6145200"/>
        </p:xfrm>
        <a:graphic>
          <a:graphicData uri="http://schemas.openxmlformats.org/drawingml/2006/table">
            <a:tbl>
              <a:tblPr/>
              <a:tblGrid>
                <a:gridCol w="1798560"/>
                <a:gridCol w="523800"/>
                <a:gridCol w="598320"/>
                <a:gridCol w="675000"/>
                <a:gridCol w="598320"/>
                <a:gridCol w="676440"/>
                <a:gridCol w="599760"/>
                <a:gridCol w="600120"/>
                <a:gridCol w="898560"/>
                <a:gridCol w="822240"/>
                <a:gridCol w="900360"/>
              </a:tblGrid>
              <a:tr h="82188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рмацевт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работают на основной работе в организациях подчинения: федерально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ъектов РФ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птечных организац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0" name="Rectangle 1245"/>
          <p:cNvSpPr/>
          <p:nvPr/>
        </p:nvSpPr>
        <p:spPr>
          <a:xfrm>
            <a:off x="2612880" y="2876400"/>
            <a:ext cx="6193080" cy="457200"/>
          </a:xfrm>
          <a:prstGeom prst="rect">
            <a:avLst/>
          </a:prstGeom>
          <a:solidFill>
            <a:srgbClr val="eddb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рока 213 должна быть равна сумме строк 214 и 215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Rectangle 1249"/>
          <p:cNvSpPr/>
          <p:nvPr/>
        </p:nvSpPr>
        <p:spPr>
          <a:xfrm>
            <a:off x="2581200" y="3618000"/>
            <a:ext cx="6259680" cy="914400"/>
          </a:xfrm>
          <a:prstGeom prst="rect">
            <a:avLst/>
          </a:prstGeom>
          <a:solidFill>
            <a:srgbClr val="ccb1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о строке 216 указываются сведения в случае, если такие организации есть в подчинении субъекта или в подчинении Минздрава Росс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Rectangle 1252"/>
          <p:cNvSpPr/>
          <p:nvPr/>
        </p:nvSpPr>
        <p:spPr>
          <a:xfrm>
            <a:off x="446040" y="5267160"/>
            <a:ext cx="8361360" cy="770040"/>
          </a:xfrm>
          <a:prstGeom prst="rect">
            <a:avLst/>
          </a:prstGeom>
          <a:solidFill>
            <a:srgbClr val="ccb1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НИМАНИЕ!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алена строка «Инструкторы по лечебной физкультуре (без среднего медицинского образования)» (ранее строка 213, ф.№30 за 2017 год)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Text Box 1253"/>
          <p:cNvSpPr/>
          <p:nvPr/>
        </p:nvSpPr>
        <p:spPr>
          <a:xfrm>
            <a:off x="7703280" y="181080"/>
            <a:ext cx="1499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Внимание!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4" name=""/>
          <p:cNvGraphicFramePr/>
          <p:nvPr/>
        </p:nvGraphicFramePr>
        <p:xfrm>
          <a:off x="344520" y="979560"/>
          <a:ext cx="8570880" cy="4714920"/>
        </p:xfrm>
        <a:graphic>
          <a:graphicData uri="http://schemas.openxmlformats.org/drawingml/2006/table">
            <a:tbl>
              <a:tblPr/>
              <a:tblGrid>
                <a:gridCol w="2333520"/>
                <a:gridCol w="500040"/>
                <a:gridCol w="527040"/>
                <a:gridCol w="587520"/>
                <a:gridCol w="615960"/>
                <a:gridCol w="581040"/>
                <a:gridCol w="681120"/>
                <a:gridCol w="652320"/>
                <a:gridCol w="676440"/>
                <a:gridCol w="733320"/>
                <a:gridCol w="682560"/>
              </a:tblGrid>
              <a:tr h="100440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лжностей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4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</a:rPr>
                        <a:t>Кроме того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число физических лиц специалистов с высшим немедицинским образованием, занимающих должности врачей,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c38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25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рачей:  лаборантов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c38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лечебной физкультур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c38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истиков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c38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5" name="Rectangle 694"/>
          <p:cNvSpPr/>
          <p:nvPr/>
        </p:nvSpPr>
        <p:spPr>
          <a:xfrm>
            <a:off x="374760" y="5673600"/>
            <a:ext cx="8523000" cy="965160"/>
          </a:xfrm>
          <a:prstGeom prst="rect">
            <a:avLst/>
          </a:prstGeom>
          <a:solidFill>
            <a:srgbClr val="ccb1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роки с 225 по 232 заполняются по графам 9, 10, 11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роки с 225 по 232 по графам с 3 по 8, с 12 по 15 не заполнять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6" name=""/>
          <p:cNvGraphicFramePr/>
          <p:nvPr/>
        </p:nvGraphicFramePr>
        <p:xfrm>
          <a:off x="230040" y="289080"/>
          <a:ext cx="8697960" cy="5459400"/>
        </p:xfrm>
        <a:graphic>
          <a:graphicData uri="http://schemas.openxmlformats.org/drawingml/2006/table">
            <a:tbl>
              <a:tblPr/>
              <a:tblGrid>
                <a:gridCol w="1656000"/>
                <a:gridCol w="538200"/>
                <a:gridCol w="542880"/>
                <a:gridCol w="635040"/>
                <a:gridCol w="682560"/>
                <a:gridCol w="620640"/>
                <a:gridCol w="668520"/>
                <a:gridCol w="603000"/>
                <a:gridCol w="731880"/>
                <a:gridCol w="1000080"/>
                <a:gridCol w="1019160"/>
              </a:tblGrid>
              <a:tr h="82188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-ких лиц основных работ-ников на занятых должно-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-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-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94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</a:rPr>
                        <a:t>Кроме тог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без медицинского образования занимающих должности </a:t>
                      </a:r>
                      <a:r>
                        <a:rPr b="0" lang="ru-RU" sz="1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</a:rPr>
                        <a:t>среднего персонала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c38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c38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медицинских регистраторов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х регистраторов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трукторов по лечебной физкультур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7" name="Rectangle 885"/>
          <p:cNvSpPr/>
          <p:nvPr/>
        </p:nvSpPr>
        <p:spPr>
          <a:xfrm>
            <a:off x="2533680" y="2932200"/>
            <a:ext cx="6224400" cy="1244520"/>
          </a:xfrm>
          <a:prstGeom prst="rect">
            <a:avLst/>
          </a:prstGeom>
          <a:solidFill>
            <a:srgbClr val="ccb1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9,10,11 графах показывают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ие лиц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ез медицинского образования и занимающие должности медицинских регистраторов, медицинских дезинфекторов, инструкторов по лечебной физкультуре.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ости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нимаемые ими показываются в графах 3-8 соответствующих строк 196, 194, 157.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Text Box 868"/>
          <p:cNvSpPr/>
          <p:nvPr/>
        </p:nvSpPr>
        <p:spPr>
          <a:xfrm>
            <a:off x="7499880" y="195120"/>
            <a:ext cx="1499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Внимание!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Rectangle 885"/>
          <p:cNvSpPr/>
          <p:nvPr/>
        </p:nvSpPr>
        <p:spPr>
          <a:xfrm>
            <a:off x="2558880" y="4465800"/>
            <a:ext cx="6224760" cy="1244520"/>
          </a:xfrm>
          <a:prstGeom prst="rect">
            <a:avLst/>
          </a:prstGeom>
          <a:solidFill>
            <a:srgbClr val="ccb1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у 229 показывают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ие лиц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ез медицинского образования (в том числе студентов медицинских Вузов, имеющих допуск к должности среднего медперсонала, медицинские сестры «Красный Крест»)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0" name=""/>
          <p:cNvGraphicFramePr/>
          <p:nvPr/>
        </p:nvGraphicFramePr>
        <p:xfrm>
          <a:off x="233280" y="250920"/>
          <a:ext cx="8720280" cy="6245280"/>
        </p:xfrm>
        <a:graphic>
          <a:graphicData uri="http://schemas.openxmlformats.org/drawingml/2006/table">
            <a:tbl>
              <a:tblPr/>
              <a:tblGrid>
                <a:gridCol w="2855880"/>
                <a:gridCol w="527040"/>
                <a:gridCol w="1400400"/>
                <a:gridCol w="788760"/>
                <a:gridCol w="781200"/>
                <a:gridCol w="782640"/>
                <a:gridCol w="803160"/>
                <a:gridCol w="781200"/>
              </a:tblGrid>
              <a:tr h="45684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,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-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ы с высшим немедицинским образованием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изоры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персонал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рмацевт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адший медперсонал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персонал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лжностей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c38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c38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, число физических лиц специалистов с высшим немедицинским образованием, занимающих должности врачей,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c38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c38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4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, число физических лиц без медицинского образования занимающих должности среднего медицинского персонала,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c38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c38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1" name="Rectangle 1108"/>
          <p:cNvSpPr/>
          <p:nvPr/>
        </p:nvSpPr>
        <p:spPr>
          <a:xfrm>
            <a:off x="3703680" y="2583000"/>
            <a:ext cx="5276880" cy="1353960"/>
          </a:xfrm>
          <a:prstGeom prst="rect">
            <a:avLst/>
          </a:prstGeom>
          <a:solidFill>
            <a:srgbClr val="ccb1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сего физических лиц в медицинских организациях равно сумме строк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224+225+229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Прямоугольник 1"/>
          <p:cNvSpPr/>
          <p:nvPr/>
        </p:nvSpPr>
        <p:spPr>
          <a:xfrm>
            <a:off x="3794040" y="4803840"/>
            <a:ext cx="5211720" cy="1471680"/>
          </a:xfrm>
          <a:prstGeom prst="rect">
            <a:avLst/>
          </a:prstGeom>
          <a:solidFill>
            <a:srgbClr val="c8c38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имание! Строки 225 и 229 включают в себя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ОЛЬКО ФИЗИЧЕСКИЕ ЛИЦ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стов с ВНО и лиц без медицинского образования,  занимающие должности врачей и среднего медицинского персонала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3" name=""/>
          <p:cNvGraphicFramePr/>
          <p:nvPr/>
        </p:nvGraphicFramePr>
        <p:xfrm>
          <a:off x="401760" y="1211400"/>
          <a:ext cx="8362800" cy="2611440"/>
        </p:xfrm>
        <a:graphic>
          <a:graphicData uri="http://schemas.openxmlformats.org/drawingml/2006/table">
            <a:tbl>
              <a:tblPr/>
              <a:tblGrid>
                <a:gridCol w="4343400"/>
                <a:gridCol w="563400"/>
                <a:gridCol w="1152720"/>
                <a:gridCol w="1152360"/>
                <a:gridCol w="1150920"/>
              </a:tblGrid>
              <a:tr h="27432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олжности и физические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лица отделений (кабинетов) </a:t>
                      </a:r>
                      <a:r>
                        <a:rPr b="1" lang="ru-RU" sz="16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</a:rPr>
                        <a:t>профилактики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(из таблицы 1100)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олжностей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Физических лиц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й (из стр.1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ведующий отделением (кабинетом) – врач по медицинской профилактике, врач-психотерапевт, врач-по медицинской профилактик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c38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го медицинского персонала (из стр.143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аршая медсестра, фельдшер (медицинская сестра, акушер)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8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84" name="Text Box 2"/>
          <p:cNvSpPr/>
          <p:nvPr/>
        </p:nvSpPr>
        <p:spPr>
          <a:xfrm>
            <a:off x="1486080" y="533520"/>
            <a:ext cx="62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1101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ВНИМАНИЕ! Таблица изменена!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Rectangle 194"/>
          <p:cNvSpPr/>
          <p:nvPr/>
        </p:nvSpPr>
        <p:spPr>
          <a:xfrm>
            <a:off x="399960" y="4052880"/>
            <a:ext cx="8347320" cy="20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eae8c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ru-RU" sz="1600" spc="-1" strike="noStrike">
                <a:solidFill>
                  <a:srgbClr val="b73c26"/>
                </a:solidFill>
                <a:latin typeface="Times New Roman"/>
              </a:rPr>
              <a:t>Приказ Минздрава России от 30.09.2015 №683н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eae8c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ведения в данной таблице не должны превышать данные в таблице 1100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eae8c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личие штатных, занятых должностей и физических лиц в кабинете медицинской профилактики указывается в том случае, когда организован кабинет, то есть: имеются выделенные для него помещения, аппаратура и оборудование, осуществляется учет в установленном порядке, утверждено положение о кабинете (отделении)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eae8c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Выноска 1 (с границей) 1"/>
          <p:cNvSpPr/>
          <p:nvPr/>
        </p:nvSpPr>
        <p:spPr>
          <a:xfrm>
            <a:off x="7542360" y="677880"/>
            <a:ext cx="1601640" cy="102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4297" y="35221"/>
                </a:moveTo>
                <a:lnTo>
                  <a:pt x="-1028" y="2404"/>
                </a:lnTo>
              </a:path>
              <a:path w="21600" h="21600">
                <a:moveTo>
                  <a:pt x="-1028" y="0"/>
                </a:moveTo>
                <a:lnTo>
                  <a:pt x="-1028" y="21600"/>
                </a:lnTo>
              </a:path>
            </a:pathLst>
          </a:custGeom>
          <a:solidFill>
            <a:srgbClr val="c8c382"/>
          </a:solidFill>
          <a:ln w="15840">
            <a:solidFill>
              <a:srgbClr val="6f95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авлены графы «штатные должности», «физические лица»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Прямая соединительная линия 3"/>
          <p:cNvSpPr/>
          <p:nvPr/>
        </p:nvSpPr>
        <p:spPr>
          <a:xfrm>
            <a:off x="9777240" y="2013120"/>
            <a:ext cx="254160" cy="1307880"/>
          </a:xfrm>
          <a:prstGeom prst="line">
            <a:avLst/>
          </a:prstGeom>
          <a:ln cap="rnd" w="19080">
            <a:solidFill>
              <a:srgbClr val="dc8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Text Box 2"/>
          <p:cNvSpPr/>
          <p:nvPr/>
        </p:nvSpPr>
        <p:spPr>
          <a:xfrm>
            <a:off x="1542960" y="328680"/>
            <a:ext cx="628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1102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ВНИМАНИЕ! Таблица изменена!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Rectangle 25"/>
          <p:cNvSpPr/>
          <p:nvPr/>
        </p:nvSpPr>
        <p:spPr>
          <a:xfrm>
            <a:off x="198360" y="3807000"/>
            <a:ext cx="8799480" cy="29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eae8c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трока 151 (заведующие ФАП) таблицы 1100 меньше или равны строке 2+3+4 таблицы 1102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eae8c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ведения в строке 1 по всем графам </a:t>
            </a:r>
            <a:r>
              <a:rPr b="1" lang="ru-RU" sz="1600" spc="-1" strike="noStrike">
                <a:solidFill>
                  <a:srgbClr val="b73c26"/>
                </a:solidFill>
                <a:latin typeface="Times New Roman"/>
              </a:rPr>
              <a:t>не должны превышать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данные в таблице 1100 строки 143 (средний медперсонал всего) по графам 5, 6 и 10 (в поликлинике) соответственно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eae8c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ведения в строке 2 по всем графам </a:t>
            </a:r>
            <a:r>
              <a:rPr b="1" lang="ru-RU" sz="1600" spc="-1" strike="noStrike">
                <a:solidFill>
                  <a:srgbClr val="b73c26"/>
                </a:solidFill>
                <a:latin typeface="Times New Roman"/>
              </a:rPr>
              <a:t>не должны превышать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данные в таблице 1100 строки 208 (фельдшеры) по графам 5, 6 и 10 соответственно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eae8c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ведения в строке 3 по всем графам </a:t>
            </a:r>
            <a:r>
              <a:rPr b="1" lang="ru-RU" sz="1600" spc="-1" strike="noStrike">
                <a:solidFill>
                  <a:srgbClr val="b73c26"/>
                </a:solidFill>
                <a:latin typeface="Times New Roman"/>
              </a:rPr>
              <a:t>не должны превышать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данные в таблице 1100 строки 148 (акушерки) по графам 5, 6 и 10 соответственно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eae8c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ведения в строке 4 (медицинские сестры) по всем графам </a:t>
            </a:r>
            <a:r>
              <a:rPr b="1" lang="ru-RU" sz="1600" spc="-1" strike="noStrike">
                <a:solidFill>
                  <a:srgbClr val="b73c26"/>
                </a:solidFill>
                <a:latin typeface="Times New Roman"/>
              </a:rPr>
              <a:t>не должны превышать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данные в таблице 1100 строки 167 по графам 5, 6 и 10 соответственно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eae8c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eae8c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0" name=""/>
          <p:cNvGraphicFramePr/>
          <p:nvPr/>
        </p:nvGraphicFramePr>
        <p:xfrm>
          <a:off x="282600" y="776160"/>
          <a:ext cx="8591400" cy="2943360"/>
        </p:xfrm>
        <a:graphic>
          <a:graphicData uri="http://schemas.openxmlformats.org/drawingml/2006/table">
            <a:tbl>
              <a:tblPr/>
              <a:tblGrid>
                <a:gridCol w="4562280"/>
                <a:gridCol w="729000"/>
                <a:gridCol w="1049040"/>
                <a:gridCol w="1049400"/>
                <a:gridCol w="1201680"/>
              </a:tblGrid>
              <a:tr h="57960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редний медицинский персонал ФАПов, ФП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(из таблицы 1100)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ей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х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7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ицинский персонал ФАПов, ФП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фельдшеры (включая заведующих)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ки (включая заведующих)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медицинские сестры (включая заведующих)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1" name="Выноска 2 (с границей) 1"/>
          <p:cNvSpPr/>
          <p:nvPr/>
        </p:nvSpPr>
        <p:spPr>
          <a:xfrm>
            <a:off x="6005520" y="3168720"/>
            <a:ext cx="2389320" cy="601560"/>
          </a:xfrm>
          <a:solidFill>
            <a:srgbClr val="e78712"/>
          </a:solidFill>
          <a:ln w="15840">
            <a:solidFill>
              <a:srgbClr val="6f95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авлена строка 4 «Медицинские сестры»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Прямоугольник 2"/>
          <p:cNvSpPr/>
          <p:nvPr/>
        </p:nvSpPr>
        <p:spPr>
          <a:xfrm>
            <a:off x="5519880" y="2336760"/>
            <a:ext cx="3220920" cy="460440"/>
          </a:xfrm>
          <a:prstGeom prst="rect">
            <a:avLst/>
          </a:prstGeom>
          <a:solidFill>
            <a:srgbClr val="f4b76e"/>
          </a:solidFill>
          <a:ln cap="rnd" w="15840">
            <a:solidFill>
              <a:srgbClr val="b386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 равна сумме строк с 2 по 4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Text Box 2"/>
          <p:cNvSpPr/>
          <p:nvPr/>
        </p:nvSpPr>
        <p:spPr>
          <a:xfrm>
            <a:off x="1542960" y="328680"/>
            <a:ext cx="628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1102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Rectangle 25"/>
          <p:cNvSpPr/>
          <p:nvPr/>
        </p:nvSpPr>
        <p:spPr>
          <a:xfrm>
            <a:off x="198360" y="3807000"/>
            <a:ext cx="8799480" cy="29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eae8c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b73c26"/>
                </a:solidFill>
                <a:latin typeface="Times New Roman"/>
                <a:ea typeface="Times New Roman"/>
              </a:rPr>
              <a:t>Согласно приказу Минздравсоцразвития РФ от 15 мая 2012 №543н: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eae8c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олжность заведующего фельдшерско-акушерским пунктом - фельдшера назначается медицинский работник, соответствующий Квалификационным требованиям к медицинским и фармацевтическим работникам со средним медицинским и фармацевтическим образованием, утвержденным приказом Министерства здравоохранения Российской Федерации от 10 февраля 2016 г. N 83н, по специальности </a:t>
            </a:r>
            <a:r>
              <a:rPr b="1" lang="ru-RU" sz="1600" spc="-1" strike="noStrike">
                <a:solidFill>
                  <a:srgbClr val="b73c26"/>
                </a:solidFill>
                <a:latin typeface="Times New Roman"/>
                <a:ea typeface="Times New Roman"/>
              </a:rPr>
              <a:t>"лечебное дело" или "акушерское дело" или "сестринское дело".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eae8c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eae8c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5" name=""/>
          <p:cNvGraphicFramePr/>
          <p:nvPr/>
        </p:nvGraphicFramePr>
        <p:xfrm>
          <a:off x="282600" y="776160"/>
          <a:ext cx="8591400" cy="2943360"/>
        </p:xfrm>
        <a:graphic>
          <a:graphicData uri="http://schemas.openxmlformats.org/drawingml/2006/table">
            <a:tbl>
              <a:tblPr/>
              <a:tblGrid>
                <a:gridCol w="4562280"/>
                <a:gridCol w="729000"/>
                <a:gridCol w="1049040"/>
                <a:gridCol w="1049400"/>
                <a:gridCol w="1201680"/>
              </a:tblGrid>
              <a:tr h="57960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ицинский персонал ФАПов, ФП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таблицы 1100)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ей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х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7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ицинский персонал ФАПов, ФП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фельдшеры (включая заведующих)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ки (включая заведующих)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медицинские сестры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ключая заведующих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96" name="Прямоугольник 1"/>
          <p:cNvSpPr/>
          <p:nvPr/>
        </p:nvSpPr>
        <p:spPr>
          <a:xfrm>
            <a:off x="736560" y="5797440"/>
            <a:ext cx="8016840" cy="701640"/>
          </a:xfrm>
          <a:prstGeom prst="rect">
            <a:avLst/>
          </a:prstGeom>
          <a:solidFill>
            <a:srgbClr val="ffffff"/>
          </a:solidFill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ить на соответствие табл.1102 ф. 30 с ф. 30-село!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262626"/>
                </a:solidFill>
                <a:latin typeface="Times New Roman"/>
              </a:rPr>
              <a:t>Приказ Минздрава России от 20.12.2012 г. № 1183н «Номенклатура должностей медицинских и фармацевтических работников»</a:t>
            </a: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82240" cy="8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dab2a"/>
                </a:solidFill>
                <a:latin typeface="Century Gothic"/>
              </a:rPr>
              <a:t>Специальность</a:t>
            </a:r>
            <a:r>
              <a:rPr b="1" lang="ru-RU" sz="2000" spc="-1" strike="noStrike">
                <a:solidFill>
                  <a:srgbClr val="3f20f6"/>
                </a:solidFill>
                <a:latin typeface="Century Gothic"/>
              </a:rPr>
              <a:t>             </a:t>
            </a:r>
            <a:r>
              <a:rPr b="1" lang="ru-RU" sz="2400" spc="-1" strike="noStrike">
                <a:solidFill>
                  <a:srgbClr val="fdab2a"/>
                </a:solidFill>
                <a:latin typeface="Century Gothic"/>
              </a:rPr>
              <a:t>                            Должность                                               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graphicFrame>
        <p:nvGraphicFramePr>
          <p:cNvPr id="1189" name=""/>
          <p:cNvGraphicFramePr/>
          <p:nvPr/>
        </p:nvGraphicFramePr>
        <p:xfrm>
          <a:off x="465120" y="3151080"/>
          <a:ext cx="8305920" cy="2803680"/>
        </p:xfrm>
        <a:graphic>
          <a:graphicData uri="http://schemas.openxmlformats.org/drawingml/2006/table">
            <a:tbl>
              <a:tblPr/>
              <a:tblGrid>
                <a:gridCol w="3110040"/>
                <a:gridCol w="5195880"/>
              </a:tblGrid>
              <a:tr h="39672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dab2a"/>
                          </a:solidFill>
                          <a:latin typeface="Times New Roman"/>
                          <a:ea typeface="Times New Roman"/>
                        </a:rPr>
                        <a:t>Должность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dab2a"/>
                          </a:solidFill>
                          <a:latin typeface="Times New Roman"/>
                          <a:ea typeface="Times New Roman"/>
                        </a:rPr>
                        <a:t>Специальность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ы-гинекологи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ство и гинекология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 – иммунологи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я и иммунология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 клинической лабораторной диагностики 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иническая лабораторная диагностика, 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ая биохимия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0" name="AutoShape 4"/>
          <p:cNvSpPr/>
          <p:nvPr/>
        </p:nvSpPr>
        <p:spPr>
          <a:xfrm>
            <a:off x="3490920" y="1846440"/>
            <a:ext cx="1905120" cy="528480"/>
          </a:xfrm>
          <a:custGeom>
            <a:avLst/>
            <a:gdLst>
              <a:gd name="textAreaLeft" fmla="*/ 297720 w 1905120"/>
              <a:gd name="textAreaRight" fmla="*/ 1667160 w 1905120"/>
              <a:gd name="textAreaTop" fmla="*/ 132120 h 528480"/>
              <a:gd name="textAreaBottom" fmla="*/ 396360 h 5284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71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Овал 6"/>
          <p:cNvSpPr/>
          <p:nvPr/>
        </p:nvSpPr>
        <p:spPr>
          <a:xfrm>
            <a:off x="403200" y="1670040"/>
            <a:ext cx="2666880" cy="838080"/>
          </a:xfrm>
          <a:prstGeom prst="ellipse">
            <a:avLst/>
          </a:prstGeom>
          <a:noFill/>
          <a:ln cap="rnd" w="31680">
            <a:solidFill>
              <a:srgbClr val="c00000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Овал 6"/>
          <p:cNvSpPr/>
          <p:nvPr/>
        </p:nvSpPr>
        <p:spPr>
          <a:xfrm>
            <a:off x="5627520" y="1660680"/>
            <a:ext cx="2819520" cy="990360"/>
          </a:xfrm>
          <a:prstGeom prst="ellipse">
            <a:avLst/>
          </a:prstGeom>
          <a:noFill/>
          <a:ln cap="rnd" w="31680">
            <a:solidFill>
              <a:srgbClr val="c00000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Text Box 2"/>
          <p:cNvSpPr/>
          <p:nvPr/>
        </p:nvSpPr>
        <p:spPr>
          <a:xfrm>
            <a:off x="1486080" y="380880"/>
            <a:ext cx="62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1107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Rectangle 3"/>
          <p:cNvSpPr/>
          <p:nvPr/>
        </p:nvSpPr>
        <p:spPr>
          <a:xfrm>
            <a:off x="1257480" y="3809880"/>
            <a:ext cx="651492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eae8c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9" name=""/>
          <p:cNvGraphicFramePr/>
          <p:nvPr/>
        </p:nvGraphicFramePr>
        <p:xfrm>
          <a:off x="1257480" y="762120"/>
          <a:ext cx="6572160" cy="2984400"/>
        </p:xfrm>
        <a:graphic>
          <a:graphicData uri="http://schemas.openxmlformats.org/drawingml/2006/table">
            <a:tbl>
              <a:tblPr/>
              <a:tblGrid>
                <a:gridCol w="4286160"/>
                <a:gridCol w="743040"/>
                <a:gridCol w="1542960"/>
              </a:tblGrid>
              <a:tr h="30888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ки медицинских организаций, оказывающих медицинскую помощь 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бных терапевтических участков, всего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комплексные участк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окомплектные участк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ки врача общей практики 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ические участк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малокомплектные участк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0" name="Rectangle 228"/>
          <p:cNvSpPr/>
          <p:nvPr/>
        </p:nvSpPr>
        <p:spPr>
          <a:xfrm>
            <a:off x="396720" y="3833640"/>
            <a:ext cx="8274240" cy="1365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Внимание!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обходимо провести сверку с мониторингом по участковой службе с количеством терапевтических участков и участков общей врачебной практики.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Text Box 2"/>
          <p:cNvSpPr/>
          <p:nvPr/>
        </p:nvSpPr>
        <p:spPr>
          <a:xfrm>
            <a:off x="1486080" y="297000"/>
            <a:ext cx="62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1110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Line 284"/>
          <p:cNvSpPr/>
          <p:nvPr/>
        </p:nvSpPr>
        <p:spPr>
          <a:xfrm>
            <a:off x="2809800" y="2394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Line 286"/>
          <p:cNvSpPr/>
          <p:nvPr/>
        </p:nvSpPr>
        <p:spPr>
          <a:xfrm>
            <a:off x="3343320" y="3051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4" name=""/>
          <p:cNvGraphicFramePr/>
          <p:nvPr/>
        </p:nvGraphicFramePr>
        <p:xfrm>
          <a:off x="792000" y="838080"/>
          <a:ext cx="7412040" cy="3932280"/>
        </p:xfrm>
        <a:graphic>
          <a:graphicData uri="http://schemas.openxmlformats.org/drawingml/2006/table">
            <a:tbl>
              <a:tblPr/>
              <a:tblGrid>
                <a:gridCol w="882720"/>
                <a:gridCol w="587520"/>
                <a:gridCol w="631800"/>
                <a:gridCol w="644400"/>
                <a:gridCol w="447840"/>
                <a:gridCol w="639720"/>
                <a:gridCol w="779400"/>
                <a:gridCol w="771480"/>
                <a:gridCol w="447840"/>
                <a:gridCol w="685800"/>
                <a:gridCol w="893520"/>
              </a:tblGrid>
              <a:tr h="304920">
                <a:tc row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, находящихся в декретном и долгосрочном отпуске, всего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0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одразделениях, оказывающих медицинскую помощь 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одразделениях, оказывающих медицинскую помощь 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, всего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персонал, всего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работающие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персонал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8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рапевты участковые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b18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диатры участковые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b18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П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b182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 терапевтами участковым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b18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 педиатрами участковым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b18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 ВОП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b182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b1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b1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b1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b1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b1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b1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5" name="Rectangle 497"/>
          <p:cNvSpPr/>
          <p:nvPr/>
        </p:nvSpPr>
        <p:spPr>
          <a:xfrm>
            <a:off x="415800" y="5132520"/>
            <a:ext cx="8410680" cy="1425600"/>
          </a:xfrm>
          <a:prstGeom prst="rect">
            <a:avLst/>
          </a:prstGeom>
          <a:solidFill>
            <a:srgbClr val="d2b7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10 «Число физических лиц основных работников, находящихся в декретном и долгосрочном отпуске»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алена, в связи с внесением изменений в таблицу 1100, где добавлена графа 17 «Находятся в декретном и долгосрочном отпуске (из гр.9), чел.)»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Text Box 502"/>
          <p:cNvSpPr/>
          <p:nvPr/>
        </p:nvSpPr>
        <p:spPr>
          <a:xfrm>
            <a:off x="3867120" y="1279440"/>
            <a:ext cx="50817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Внимание! ТАБЛИЦА УДАЛЕНА!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Прямая соединительная линия 2"/>
          <p:cNvSpPr/>
          <p:nvPr/>
        </p:nvSpPr>
        <p:spPr>
          <a:xfrm>
            <a:off x="415800" y="1932120"/>
            <a:ext cx="8496360" cy="4184640"/>
          </a:xfrm>
          <a:prstGeom prst="line">
            <a:avLst/>
          </a:prstGeom>
          <a:ln cap="rnd" w="38160">
            <a:solidFill>
              <a:srgbClr val="dc8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Прямая соединительная линия 5"/>
          <p:cNvSpPr/>
          <p:nvPr/>
        </p:nvSpPr>
        <p:spPr>
          <a:xfrm flipH="1">
            <a:off x="1676520" y="838080"/>
            <a:ext cx="6943680" cy="4175280"/>
          </a:xfrm>
          <a:prstGeom prst="line">
            <a:avLst/>
          </a:prstGeom>
          <a:ln cap="rnd" w="38160">
            <a:solidFill>
              <a:srgbClr val="dc8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Text Box 179"/>
          <p:cNvSpPr/>
          <p:nvPr/>
        </p:nvSpPr>
        <p:spPr>
          <a:xfrm>
            <a:off x="309600" y="1874880"/>
            <a:ext cx="865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Arial"/>
              </a:rPr>
              <a:t>Форма №</a:t>
            </a: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30</a:t>
            </a:r>
            <a:br>
              <a:rPr sz="2000"/>
            </a:br>
            <a:r>
              <a:rPr b="1" lang="ru-RU" sz="2000" spc="-1" strike="noStrike">
                <a:solidFill>
                  <a:srgbClr val="262626"/>
                </a:solidFill>
                <a:latin typeface="Arial"/>
              </a:rPr>
              <a:t>«Сведения о медицинской организации»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Подзаголовок 2"/>
          <p:cNvSpPr/>
          <p:nvPr/>
        </p:nvSpPr>
        <p:spPr>
          <a:xfrm>
            <a:off x="958680" y="3156120"/>
            <a:ext cx="7861320" cy="15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АЗДЕЛ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 ДЕЯТЕЛЬНОСТЬ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ЕДИЦИНСКОЙ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РГАНИЗАЦИИ ПО ОКАЗАНИЮ МЕДИЦИНСКОЙ ПОМОЩИ В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МБУЛАТОРНЫХ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УСЛОВИЯХ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"/>
          <p:cNvSpPr txBox="1"/>
          <p:nvPr/>
        </p:nvSpPr>
        <p:spPr>
          <a:xfrm>
            <a:off x="457200" y="9907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e78712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647252"/>
                </a:solidFill>
                <a:latin typeface="Times New Roman"/>
              </a:rPr>
              <a:t>Посещение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 – это контакт пациента с врачом медицинской организации или подразделения, оказывающего медицинскую помощь в амбулаторных условиях по любому поводу с последующей записью в «Медицинской карте пациента, получающего медицинскую помощь в амбулаторных условиях» (ф. № 025/у), включающей жалобы, анамнез, объективные данные, </a:t>
            </a:r>
            <a:r>
              <a:rPr b="0" lang="ru-RU" sz="1800" spc="-1" strike="noStrike" u="sng">
                <a:solidFill>
                  <a:srgbClr val="404040"/>
                </a:solidFill>
                <a:uFillTx/>
                <a:latin typeface="Times New Roman"/>
              </a:rPr>
              <a:t>постановку диагноза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: основного, фонового, конкурирующего и сопутствующих заболеваний, травм, отравлений с кодами их по МКБ-10, группу здоровья, </a:t>
            </a:r>
            <a:r>
              <a:rPr b="0" lang="ru-RU" sz="1800" spc="-1" strike="noStrike" u="sng">
                <a:solidFill>
                  <a:srgbClr val="404040"/>
                </a:solidFill>
                <a:uFillTx/>
                <a:latin typeface="Times New Roman"/>
              </a:rPr>
              <a:t>назначенное  лечение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, обследование, а также результаты обследования и  динамического наблюдения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e78712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e78712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647252"/>
                </a:solidFill>
                <a:latin typeface="Times New Roman"/>
              </a:rPr>
              <a:t>Обращение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 – это повод визита пациента в поликлинику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e78712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e78712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647252"/>
                </a:solidFill>
                <a:latin typeface="Times New Roman"/>
              </a:rPr>
              <a:t>Цель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 – по поводу заболевания (диспансерное наблюдение, неотложное состояние и т.д.), с профилактической целью (медицинский осмотр, диспансеризация и т.д.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</a:rPr>
              <a:t>Обращение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 может состоять из одного или нескольких посещений пациента, в результате которых цель обращения достигнута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Таблица 2100. Работа врачей медицинской организации </a:t>
            </a:r>
            <a:br>
              <a:rPr sz="1800"/>
            </a:b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в амбулаторных условиях</a:t>
            </a:r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313" name=""/>
          <p:cNvGraphicFramePr/>
          <p:nvPr/>
        </p:nvGraphicFramePr>
        <p:xfrm>
          <a:off x="76320" y="1066680"/>
          <a:ext cx="8839080" cy="5732640"/>
        </p:xfrm>
        <a:graphic>
          <a:graphicData uri="http://schemas.openxmlformats.org/drawingml/2006/table">
            <a:tbl>
              <a:tblPr/>
              <a:tblGrid>
                <a:gridCol w="1447560"/>
                <a:gridCol w="457200"/>
                <a:gridCol w="838440"/>
                <a:gridCol w="609480"/>
                <a:gridCol w="609480"/>
                <a:gridCol w="533520"/>
                <a:gridCol w="609480"/>
                <a:gridCol w="609840"/>
                <a:gridCol w="533160"/>
                <a:gridCol w="685800"/>
                <a:gridCol w="685800"/>
                <a:gridCol w="533520"/>
                <a:gridCol w="685800"/>
              </a:tblGrid>
              <a:tr h="82260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(из гр.3) сделано по поводу заболеваний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 врачами на дому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й, включая профилактические - всего 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-ми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ми 18 лет и более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ельских жителей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9: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 12: по поводу заболеваний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ми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воду заболеваний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о паллиативной медицинской помощ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c38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c38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емного отделения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(стр.1): в отделениях, кабинетах, пунктах неотложной медпомощ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b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b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 отделениях, кабинетах паллиативной медпомощ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b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b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4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Text Box 1697"/>
          <p:cNvSpPr/>
          <p:nvPr/>
        </p:nvSpPr>
        <p:spPr>
          <a:xfrm>
            <a:off x="7166880" y="457200"/>
            <a:ext cx="1892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Внимание!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Rectangle 1694"/>
          <p:cNvSpPr/>
          <p:nvPr/>
        </p:nvSpPr>
        <p:spPr>
          <a:xfrm>
            <a:off x="1924200" y="3056040"/>
            <a:ext cx="7010280" cy="523800"/>
          </a:xfrm>
          <a:prstGeom prst="rect">
            <a:avLst/>
          </a:prstGeom>
          <a:solidFill>
            <a:srgbClr val="ddd9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трока 60 «по паллиативной медицинской помощи» - посещения с профилактической целью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Rectangle 1698"/>
          <p:cNvSpPr/>
          <p:nvPr/>
        </p:nvSpPr>
        <p:spPr>
          <a:xfrm>
            <a:off x="1914480" y="3792600"/>
            <a:ext cx="7010280" cy="1407960"/>
          </a:xfrm>
          <a:prstGeom prst="rect">
            <a:avLst/>
          </a:prstGeom>
          <a:solidFill>
            <a:srgbClr val="eae8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у 123 вносятся посещения врачей-специалистов, оказывающих помощь в отделении (кабинете) неотложной медицинской помощи (при наличии его в структуре поликлиники медицинской организации), а также при оказании неотложной медицинской помощи на дому (посещения, которые ранее вносились в таб. 2102)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Rectangle 1698"/>
          <p:cNvSpPr/>
          <p:nvPr/>
        </p:nvSpPr>
        <p:spPr>
          <a:xfrm>
            <a:off x="1924200" y="5251320"/>
            <a:ext cx="7010280" cy="1492560"/>
          </a:xfrm>
          <a:prstGeom prst="rect">
            <a:avLst/>
          </a:prstGeom>
          <a:solidFill>
            <a:srgbClr val="c8c3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строку 124 вносятся посещения врачей-специалистов, оказывающих паллиативную медицинскую помощь в отделении (кабинете) паллиативной медицинской помощи (при наличии его в структуре поликлиники медицинской организации). Посещения только с профилактической целью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Таблица 2100. Работа врачей медицинской организации </a:t>
            </a:r>
            <a:br>
              <a:rPr sz="1800"/>
            </a:b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в амбулаторных условиях</a:t>
            </a:r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320" name=""/>
          <p:cNvGraphicFramePr/>
          <p:nvPr/>
        </p:nvGraphicFramePr>
        <p:xfrm>
          <a:off x="76320" y="1066680"/>
          <a:ext cx="8839080" cy="4910400"/>
        </p:xfrm>
        <a:graphic>
          <a:graphicData uri="http://schemas.openxmlformats.org/drawingml/2006/table">
            <a:tbl>
              <a:tblPr/>
              <a:tblGrid>
                <a:gridCol w="1447560"/>
                <a:gridCol w="457200"/>
                <a:gridCol w="838440"/>
                <a:gridCol w="609480"/>
                <a:gridCol w="609480"/>
                <a:gridCol w="533520"/>
                <a:gridCol w="609480"/>
                <a:gridCol w="609840"/>
                <a:gridCol w="533160"/>
                <a:gridCol w="685800"/>
                <a:gridCol w="685800"/>
                <a:gridCol w="533520"/>
                <a:gridCol w="685800"/>
              </a:tblGrid>
              <a:tr h="82404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(из гр.3) сделано по поводу заболеваний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 врачами на дому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й, включая профилактические - всего 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-ми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ми 18 лет и более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ельских жителей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9: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 12: по поводу заболеваний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ми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воду заболеваний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аллиативной медицинской помощ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емного отделения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8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(стр.1): в отделениях, кабинетах, пунктах неотложной медпомощ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1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Text Box 1697"/>
          <p:cNvSpPr/>
          <p:nvPr/>
        </p:nvSpPr>
        <p:spPr>
          <a:xfrm>
            <a:off x="7166880" y="457200"/>
            <a:ext cx="1892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Внимание!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Rectangle 1698"/>
          <p:cNvSpPr/>
          <p:nvPr/>
        </p:nvSpPr>
        <p:spPr>
          <a:xfrm>
            <a:off x="2028960" y="3456000"/>
            <a:ext cx="6892920" cy="1930320"/>
          </a:xfrm>
          <a:prstGeom prst="rect">
            <a:avLst/>
          </a:prstGeom>
          <a:solidFill>
            <a:srgbClr val="ddd9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Arial"/>
              </a:rPr>
              <a:t>В целях повышения эффективности оказания первичной медико-санитарной помощи при внезапных острых заболеваниях, состояниях, обострении хронических заболеваний, не опасных для жизни пациента и не требующих экстренной медицинской помощи, в структуре медицинских организаций 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может организовываться отделение (кабинет) неотложной медицинской помощи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Прямоугольная выноска 10"/>
          <p:cNvSpPr/>
          <p:nvPr/>
        </p:nvSpPr>
        <p:spPr>
          <a:xfrm>
            <a:off x="4137120" y="5754600"/>
            <a:ext cx="2943000" cy="790560"/>
          </a:xfrm>
          <a:prstGeom prst="wedgeRectCallout">
            <a:avLst>
              <a:gd name="adj1" fmla="val -19768"/>
              <a:gd name="adj2" fmla="val -83750"/>
            </a:avLst>
          </a:prstGeom>
          <a:solidFill>
            <a:srgbClr val="f7cf9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еньше данных таблицы 2105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196056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Таблица 2100. </a:t>
            </a:r>
            <a:endParaRPr b="0" lang="en-US" sz="20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326" name=""/>
          <p:cNvGraphicFramePr/>
          <p:nvPr/>
        </p:nvGraphicFramePr>
        <p:xfrm>
          <a:off x="311040" y="1081080"/>
          <a:ext cx="2743200" cy="5641920"/>
        </p:xfrm>
        <a:graphic>
          <a:graphicData uri="http://schemas.openxmlformats.org/drawingml/2006/table">
            <a:tbl>
              <a:tblPr/>
              <a:tblGrid>
                <a:gridCol w="1447920"/>
                <a:gridCol w="457200"/>
                <a:gridCol w="838080"/>
              </a:tblGrid>
              <a:tr h="73188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й, включая профилактические - всего 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аллиативной медицинской помощ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емного отделения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8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(стр.1): в отделениях, кабинетах, пунктах неотложной медпомощ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 отделениях, кабинетах паллиативной медпомощ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7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8" name=""/>
          <p:cNvGraphicFramePr/>
          <p:nvPr/>
        </p:nvGraphicFramePr>
        <p:xfrm>
          <a:off x="3486240" y="1076400"/>
          <a:ext cx="4267080" cy="5614920"/>
        </p:xfrm>
        <a:graphic>
          <a:graphicData uri="http://schemas.openxmlformats.org/drawingml/2006/table">
            <a:tbl>
              <a:tblPr/>
              <a:tblGrid>
                <a:gridCol w="3733560"/>
                <a:gridCol w="533520"/>
              </a:tblGrid>
              <a:tr h="73656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(табл. 2100, стр. 1)  сделано посещений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-к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заболеваниям: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в неотложной форм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287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2890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диспансерному наблюдению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2872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профилактической и иными целями: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медицинский осмо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пансеризация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ексный медицинский осмо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них в центрах здоровья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лиативная помощь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ронаж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движными: амбулаториям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бными бригадам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бильными медицинскими бригадам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мобильными медицинскими комплексам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9" name="Rectangle 2"/>
          <p:cNvSpPr/>
          <p:nvPr/>
        </p:nvSpPr>
        <p:spPr>
          <a:xfrm>
            <a:off x="4335480" y="363600"/>
            <a:ext cx="1960560" cy="53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2105.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AutoShape 4"/>
          <p:cNvSpPr/>
          <p:nvPr/>
        </p:nvSpPr>
        <p:spPr>
          <a:xfrm rot="18941400">
            <a:off x="1488600" y="3830400"/>
            <a:ext cx="4146840" cy="528480"/>
          </a:xfrm>
          <a:custGeom>
            <a:avLst/>
            <a:gdLst>
              <a:gd name="textAreaLeft" fmla="*/ 648000 w 4146840"/>
              <a:gd name="textAreaRight" fmla="*/ 3628800 w 4146840"/>
              <a:gd name="textAreaTop" fmla="*/ 132120 h 528480"/>
              <a:gd name="textAreaBottom" fmla="*/ 396360 h 5284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71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1" name="Group 3"/>
          <p:cNvGrpSpPr/>
          <p:nvPr/>
        </p:nvGrpSpPr>
        <p:grpSpPr>
          <a:xfrm>
            <a:off x="4567320" y="3056040"/>
            <a:ext cx="4343400" cy="2397600"/>
            <a:chOff x="4567320" y="3056040"/>
            <a:chExt cx="4343400" cy="2397600"/>
          </a:xfrm>
        </p:grpSpPr>
        <p:sp>
          <p:nvSpPr>
            <p:cNvPr id="1332" name="AutoShape 8"/>
            <p:cNvSpPr/>
            <p:nvPr/>
          </p:nvSpPr>
          <p:spPr>
            <a:xfrm>
              <a:off x="4567320" y="3056040"/>
              <a:ext cx="4343400" cy="1919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3cfcd"/>
                </a:gs>
                <a:gs pos="50000">
                  <a:srgbClr val="b2e1e0"/>
                </a:gs>
                <a:gs pos="100000">
                  <a:srgbClr val="83cfcd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Rectangle 11"/>
            <p:cNvSpPr/>
            <p:nvPr/>
          </p:nvSpPr>
          <p:spPr>
            <a:xfrm>
              <a:off x="4851000" y="3110400"/>
              <a:ext cx="3791520" cy="23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3300"/>
                  </a:solidFill>
                  <a:latin typeface="Arial"/>
                </a:rPr>
                <a:t>Контроль </a:t>
              </a:r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c3300"/>
                  </a:solidFill>
                  <a:latin typeface="Arial"/>
                </a:rPr>
                <a:t>Т.2105 может быть больше т2100 (за счет посещений в неотложной форме вне кабинетов неотложной медицинской помощи </a:t>
              </a:r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196056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Таблица 2100. </a:t>
            </a:r>
            <a:endParaRPr b="0" lang="en-US" sz="20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335" name=""/>
          <p:cNvGraphicFramePr/>
          <p:nvPr/>
        </p:nvGraphicFramePr>
        <p:xfrm>
          <a:off x="311040" y="1081080"/>
          <a:ext cx="2743200" cy="5641920"/>
        </p:xfrm>
        <a:graphic>
          <a:graphicData uri="http://schemas.openxmlformats.org/drawingml/2006/table">
            <a:tbl>
              <a:tblPr/>
              <a:tblGrid>
                <a:gridCol w="1447920"/>
                <a:gridCol w="457200"/>
                <a:gridCol w="838080"/>
              </a:tblGrid>
              <a:tr h="73188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й, включая профилактические - всего 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аллиативной медицинской помощ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емного отделения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8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(стр.1): в отделениях, кабинетах, пунктах неотложной медпомощ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 отделениях, кабинетах паллиативной медпомощ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6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7" name=""/>
          <p:cNvGraphicFramePr/>
          <p:nvPr/>
        </p:nvGraphicFramePr>
        <p:xfrm>
          <a:off x="3486240" y="1076400"/>
          <a:ext cx="4267080" cy="5614920"/>
        </p:xfrm>
        <a:graphic>
          <a:graphicData uri="http://schemas.openxmlformats.org/drawingml/2006/table">
            <a:tbl>
              <a:tblPr/>
              <a:tblGrid>
                <a:gridCol w="3733560"/>
                <a:gridCol w="533520"/>
              </a:tblGrid>
              <a:tr h="73656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(табл. 2100, стр. 1)  сделано посещений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-к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заболеваниям: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в неотложной форм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287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2890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диспансерному наблюдению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2872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профилактической и иными целями: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медицинский осмо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пансеризация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ексный медицинский осмо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них в центрах здоровья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лиативная помощь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ронаж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движными: амбулаториям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бными бригадам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бильными медицинскими бригадам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мобильными медицинскими комплексам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8" name="Rectangle 2"/>
          <p:cNvSpPr/>
          <p:nvPr/>
        </p:nvSpPr>
        <p:spPr>
          <a:xfrm>
            <a:off x="4335480" y="363600"/>
            <a:ext cx="1960560" cy="53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2105.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AutoShape 4"/>
          <p:cNvSpPr/>
          <p:nvPr/>
        </p:nvSpPr>
        <p:spPr>
          <a:xfrm rot="19686600">
            <a:off x="1738080" y="5483160"/>
            <a:ext cx="3063600" cy="528840"/>
          </a:xfrm>
          <a:custGeom>
            <a:avLst/>
            <a:gdLst>
              <a:gd name="textAreaLeft" fmla="*/ 478440 w 3063600"/>
              <a:gd name="textAreaRight" fmla="*/ 2680920 w 3063600"/>
              <a:gd name="textAreaTop" fmla="*/ 132120 h 528840"/>
              <a:gd name="textAreaBottom" fmla="*/ 396720 h 5288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71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0" name="Group 3"/>
          <p:cNvGrpSpPr/>
          <p:nvPr/>
        </p:nvGrpSpPr>
        <p:grpSpPr>
          <a:xfrm>
            <a:off x="3697200" y="1565280"/>
            <a:ext cx="4372200" cy="2721960"/>
            <a:chOff x="3697200" y="1565280"/>
            <a:chExt cx="4372200" cy="2721960"/>
          </a:xfrm>
        </p:grpSpPr>
        <p:sp>
          <p:nvSpPr>
            <p:cNvPr id="1341" name="AutoShape 8"/>
            <p:cNvSpPr/>
            <p:nvPr/>
          </p:nvSpPr>
          <p:spPr>
            <a:xfrm>
              <a:off x="3697200" y="1565280"/>
              <a:ext cx="4372200" cy="2500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3cfcd"/>
                </a:gs>
                <a:gs pos="50000">
                  <a:srgbClr val="b2e1e0"/>
                </a:gs>
                <a:gs pos="100000">
                  <a:srgbClr val="83cfcd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Rectangle 11"/>
            <p:cNvSpPr/>
            <p:nvPr/>
          </p:nvSpPr>
          <p:spPr>
            <a:xfrm>
              <a:off x="4086000" y="1669680"/>
              <a:ext cx="3817800" cy="26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3300"/>
                  </a:solidFill>
                  <a:latin typeface="Arial"/>
                </a:rPr>
                <a:t>Контроль </a:t>
              </a:r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c3300"/>
                  </a:solidFill>
                  <a:latin typeface="Arial"/>
                </a:rPr>
                <a:t>Т.2100 (стр 124) +т.2102 (выездная патронажная служба) равна или меньше т2105 (за счет посещений по паллиативной помощи вне кабинетов и отделений по паллиативной помощи)</a:t>
              </a:r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200" spc="-1" strike="noStrike">
                <a:solidFill>
                  <a:srgbClr val="262626"/>
                </a:solidFill>
                <a:latin typeface="Times New Roman"/>
              </a:rPr>
              <a:t>Таблица 2101 </a:t>
            </a: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344" name=""/>
          <p:cNvGraphicFramePr/>
          <p:nvPr/>
        </p:nvGraphicFramePr>
        <p:xfrm>
          <a:off x="152280" y="914400"/>
          <a:ext cx="8763120" cy="3565440"/>
        </p:xfrm>
        <a:graphic>
          <a:graphicData uri="http://schemas.openxmlformats.org/drawingml/2006/table">
            <a:tbl>
              <a:tblPr/>
              <a:tblGrid>
                <a:gridCol w="5257800"/>
                <a:gridCol w="762120"/>
                <a:gridCol w="2743200"/>
              </a:tblGrid>
              <a:tr h="51804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ещения к среднему медицинскому персоналу всего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на ФАПах (включая посещения на дому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на передвиж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фельдшерских пункта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на передвиж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пунктах (кабинетах) неотложной медицинской помощи </a:t>
                      </a: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а дому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b18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льскому населению всего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b18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ому населени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b18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ому населени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b18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5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Rectangle 628"/>
          <p:cNvSpPr/>
          <p:nvPr/>
        </p:nvSpPr>
        <p:spPr>
          <a:xfrm>
            <a:off x="6172200" y="3309840"/>
            <a:ext cx="2743200" cy="1033560"/>
          </a:xfrm>
          <a:prstGeom prst="rect">
            <a:avLst/>
          </a:prstGeom>
          <a:solidFill>
            <a:srgbClr val="ddd9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нутриформенный контроль: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трока 4 = сумме строк 4.2+4.3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Rectangle 628"/>
          <p:cNvSpPr/>
          <p:nvPr/>
        </p:nvSpPr>
        <p:spPr>
          <a:xfrm>
            <a:off x="6238800" y="635040"/>
            <a:ext cx="2724120" cy="2598840"/>
          </a:xfrm>
          <a:prstGeom prst="rect">
            <a:avLst/>
          </a:prstGeom>
          <a:solidFill>
            <a:srgbClr val="ddd9b0"/>
          </a:solidFill>
          <a:ln cap="rnd"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Arial"/>
              </a:rPr>
              <a:t>Из общего числа посещений к среднему медицинскому персоналу (стр. 1), в строке 4 указываются посещения среднего медицинского персонала отделений (кабинетов) неотложной медицинской помощи и пунктов на дому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Rectangle 2"/>
          <p:cNvSpPr/>
          <p:nvPr/>
        </p:nvSpPr>
        <p:spPr>
          <a:xfrm>
            <a:off x="152280" y="4632480"/>
            <a:ext cx="8744040" cy="1981080"/>
          </a:xfrm>
          <a:prstGeom prst="rect">
            <a:avLst/>
          </a:prstGeom>
          <a:solidFill>
            <a:srgbClr val="fbe7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 строке 1 таблицы 2101 указываются посещения среднего медицинского персонала на самостоятельном приеме во врачебных амбулаторно-поликлинических учреждениях, на врачебных и фельдшерских здравпунктах, ФАПах и фельдшерских пунктах, включая передвижные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eae8c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осещения к зубным врачам и гигиенистам стоматологическими в таблицу </a:t>
            </a:r>
            <a:r>
              <a:rPr b="1" i="1" lang="ru-RU" sz="1800" spc="-1" strike="noStrike" u="sng">
                <a:solidFill>
                  <a:srgbClr val="c00000"/>
                </a:solidFill>
                <a:uFillTx/>
                <a:latin typeface="Times New Roman"/>
              </a:rPr>
              <a:t>не включаются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,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учет деятельности ведется в таблице 2700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1066680" y="990720"/>
            <a:ext cx="7010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Таблица 2102 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350" name=""/>
          <p:cNvGraphicFramePr/>
          <p:nvPr/>
        </p:nvGraphicFramePr>
        <p:xfrm>
          <a:off x="466560" y="1467000"/>
          <a:ext cx="8239320" cy="914400"/>
        </p:xfrm>
        <a:graphic>
          <a:graphicData uri="http://schemas.openxmlformats.org/drawingml/2006/table">
            <a:tbl>
              <a:tblPr/>
              <a:tblGrid>
                <a:gridCol w="8239320"/>
              </a:tblGrid>
              <a:tr h="916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Число посещений выездной патронажной службы паллиативной помощи для оказания паллиативной медицинской помощи на дому: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сего 1________, 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них детям 2________.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1" name="Прямоугольник 1"/>
          <p:cNvSpPr/>
          <p:nvPr/>
        </p:nvSpPr>
        <p:spPr>
          <a:xfrm>
            <a:off x="457200" y="2511360"/>
            <a:ext cx="8229600" cy="1191240"/>
          </a:xfrm>
          <a:prstGeom prst="rect">
            <a:avLst/>
          </a:prstGeom>
          <a:solidFill>
            <a:srgbClr val="fbe7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Таблица полностью изменена (таб.2102 «Посещения врачами пунктов (кабинетов) неотложной медицинской помощи на дому», ф.№30 за 2017 год), вышеуказанные посещения теперь указываются в таб.2100, стр. 123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Text Box 626"/>
          <p:cNvSpPr/>
          <p:nvPr/>
        </p:nvSpPr>
        <p:spPr>
          <a:xfrm>
            <a:off x="6798600" y="423720"/>
            <a:ext cx="1892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Внимание!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Прямоугольник 1"/>
          <p:cNvSpPr/>
          <p:nvPr/>
        </p:nvSpPr>
        <p:spPr>
          <a:xfrm>
            <a:off x="407880" y="3914640"/>
            <a:ext cx="8229600" cy="916920"/>
          </a:xfrm>
          <a:prstGeom prst="rect">
            <a:avLst/>
          </a:prstGeom>
          <a:solidFill>
            <a:srgbClr val="f7cf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таблицу вносятся посещения патронажной службой паллиативной помощи </a:t>
            </a:r>
            <a:r>
              <a:rPr b="1" i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врачей-специалистов,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оказывающих паллиативную медицинскую помощь на дому: всего, из них детям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Rectangle 2"/>
          <p:cNvSpPr/>
          <p:nvPr/>
        </p:nvSpPr>
        <p:spPr>
          <a:xfrm>
            <a:off x="485640" y="5029200"/>
            <a:ext cx="820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Таблица 2103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«Посещения к врачам центров здоровья и комплексные обследования»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удалена!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3" name=""/>
          <p:cNvGraphicFramePr/>
          <p:nvPr/>
        </p:nvGraphicFramePr>
        <p:xfrm>
          <a:off x="304920" y="990720"/>
          <a:ext cx="8686800" cy="5011560"/>
        </p:xfrm>
        <a:graphic>
          <a:graphicData uri="http://schemas.openxmlformats.org/drawingml/2006/table">
            <a:tbl>
              <a:tblPr/>
              <a:tblGrid>
                <a:gridCol w="3252600"/>
                <a:gridCol w="5434200"/>
              </a:tblGrid>
              <a:tr h="855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рач методист 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здравоохранения и общественное здоровье, Социальная гигиена и организация госсанэпидслужбы, Управление сестринской деятельностью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5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рач приемного отделения 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ство и гинекология,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зиология-реаниматология, Гастроэнтерология, Гематология, Гериатрия,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Дерматовенерология, Детская кардиология, Детская онкология,  Детская урология-андрология, Детская хирургия, Детская эндокринология, Инфекционные болезни, Кардиология, Колопроктология, Неврология, Нейрохирургия, Неонатология, Нефрология, Онкология, Оториноларингология, Офтальмология, Педиатрия, Психиатрия, Психиатрия-наркология, Пульмонология, Ревматология, Сердечно-сосудистая хирургия, Скорая медицинская помощь, Терапия, Торакальная хирургия, Травматология и ортопедия, Урология, Фтизиатрия, Хирургия, Челюстно-лицевая хирургия, Эндокринология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Text Box 179"/>
          <p:cNvSpPr/>
          <p:nvPr/>
        </p:nvSpPr>
        <p:spPr>
          <a:xfrm>
            <a:off x="309600" y="1874880"/>
            <a:ext cx="865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Arial"/>
              </a:rPr>
              <a:t>Форма №</a:t>
            </a: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30</a:t>
            </a:r>
            <a:br>
              <a:rPr sz="2000"/>
            </a:br>
            <a:r>
              <a:rPr b="1" lang="ru-RU" sz="2000" spc="-1" strike="noStrike">
                <a:solidFill>
                  <a:srgbClr val="262626"/>
                </a:solidFill>
                <a:latin typeface="Arial"/>
              </a:rPr>
              <a:t>«Сведения о медицинской организации»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Подзаголовок 2"/>
          <p:cNvSpPr/>
          <p:nvPr/>
        </p:nvSpPr>
        <p:spPr>
          <a:xfrm>
            <a:off x="958680" y="3156120"/>
            <a:ext cx="7861320" cy="15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АЗДЕЛ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 ДЕЯТЕЛЬНОСТЬ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ЕДИЦИНСКОЙ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РГАНИЗАЦИИ ПО ОКАЗАНИЮ МЕДИЦИНСКОЙ ПОМОЩИ В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МБУЛАТОРНЫХ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УСЛОВИЯХ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Прямоугольник 1"/>
          <p:cNvSpPr/>
          <p:nvPr/>
        </p:nvSpPr>
        <p:spPr>
          <a:xfrm>
            <a:off x="706320" y="274680"/>
            <a:ext cx="754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1100. Должности и физические лица медицинской организации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5" name=""/>
          <p:cNvGraphicFramePr/>
          <p:nvPr/>
        </p:nvGraphicFramePr>
        <p:xfrm>
          <a:off x="237960" y="1287360"/>
          <a:ext cx="8550360" cy="5054760"/>
        </p:xfrm>
        <a:graphic>
          <a:graphicData uri="http://schemas.openxmlformats.org/drawingml/2006/table">
            <a:tbl>
              <a:tblPr/>
              <a:tblGrid>
                <a:gridCol w="1339920"/>
                <a:gridCol w="297000"/>
                <a:gridCol w="815760"/>
                <a:gridCol w="744840"/>
                <a:gridCol w="747720"/>
                <a:gridCol w="617400"/>
                <a:gridCol w="660240"/>
                <a:gridCol w="600120"/>
                <a:gridCol w="943200"/>
                <a:gridCol w="892080"/>
                <a:gridCol w="892080"/>
              </a:tblGrid>
              <a:tr h="115740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,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,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9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- всего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женщин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05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рганизациях, расположенных в  сельской местности (из стр.1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6" name="Rectangle 96"/>
          <p:cNvSpPr/>
          <p:nvPr/>
        </p:nvSpPr>
        <p:spPr>
          <a:xfrm>
            <a:off x="1870200" y="4160880"/>
            <a:ext cx="7129440" cy="2585880"/>
          </a:xfrm>
          <a:prstGeom prst="rect">
            <a:avLst/>
          </a:prstGeom>
          <a:solidFill>
            <a:srgbClr val="f5d5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азница между графой 3 и суммой граф 5 и 7 составляют штатные должности организаций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особого типа,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станции (отделения) скорой  медицинской помощи, станции (центры, отделения) переливания крови, санаторно- курортные организации, дома ребенка, молочные кухни и т.д.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рганизация имеет поликлинику (стационар), то штатные должности поликлиники (стационара) показываются по графе 5 (7) соответственно. Аналогично для граф по занятым должностям и физическим лицам.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Прямоугольник 1"/>
          <p:cNvSpPr/>
          <p:nvPr/>
        </p:nvSpPr>
        <p:spPr>
          <a:xfrm>
            <a:off x="733320" y="14616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аблица 1100. Должности и физические лица медицинской организа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8" name=""/>
          <p:cNvGraphicFramePr/>
          <p:nvPr/>
        </p:nvGraphicFramePr>
        <p:xfrm>
          <a:off x="250920" y="835200"/>
          <a:ext cx="8582040" cy="5235480"/>
        </p:xfrm>
        <a:graphic>
          <a:graphicData uri="http://schemas.openxmlformats.org/drawingml/2006/table">
            <a:tbl>
              <a:tblPr/>
              <a:tblGrid>
                <a:gridCol w="1460520"/>
                <a:gridCol w="393480"/>
                <a:gridCol w="808200"/>
                <a:gridCol w="731880"/>
                <a:gridCol w="730080"/>
                <a:gridCol w="728640"/>
                <a:gridCol w="749520"/>
                <a:gridCol w="728640"/>
                <a:gridCol w="771480"/>
                <a:gridCol w="663480"/>
                <a:gridCol w="816120"/>
              </a:tblGrid>
              <a:tr h="100440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,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,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-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женщин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4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рганизациях, расположенных в  сельской местности (из стр.1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69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стр.1): руководители организаций и их заместители (организаторы здравоохранения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9" name="Прямоугольник 3"/>
          <p:cNvSpPr/>
          <p:nvPr/>
        </p:nvSpPr>
        <p:spPr>
          <a:xfrm>
            <a:off x="2197080" y="3621240"/>
            <a:ext cx="6634080" cy="1190160"/>
          </a:xfrm>
          <a:prstGeom prst="rect">
            <a:avLst/>
          </a:prstGeom>
          <a:solidFill>
            <a:srgbClr val="f5d5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ключаются сведения по медицинским организациям, их структурным подразделениям и филиалам, расположенным в сельских поселениях сельских муниципальных образований, а также в сельских населенных пунктах, входящих в состав городских поселений или городских округов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Rectangle 613"/>
          <p:cNvSpPr/>
          <p:nvPr/>
        </p:nvSpPr>
        <p:spPr>
          <a:xfrm>
            <a:off x="2241720" y="5181480"/>
            <a:ext cx="6600600" cy="838440"/>
          </a:xfrm>
          <a:prstGeom prst="rect">
            <a:avLst/>
          </a:prstGeom>
          <a:solidFill>
            <a:srgbClr val="f0e7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лавный врач, заместитель главного врача больничной организации показываются из граф 3, 4, 9 по графам 7, 8, 11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Line 3"/>
          <p:cNvSpPr/>
          <p:nvPr/>
        </p:nvSpPr>
        <p:spPr>
          <a:xfrm>
            <a:off x="393372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2" name=""/>
          <p:cNvGraphicFramePr/>
          <p:nvPr/>
        </p:nvGraphicFramePr>
        <p:xfrm>
          <a:off x="324000" y="1327320"/>
          <a:ext cx="8450280" cy="4949640"/>
        </p:xfrm>
        <a:graphic>
          <a:graphicData uri="http://schemas.openxmlformats.org/drawingml/2006/table">
            <a:tbl>
              <a:tblPr/>
              <a:tblGrid>
                <a:gridCol w="2682720"/>
                <a:gridCol w="527040"/>
                <a:gridCol w="731880"/>
                <a:gridCol w="709560"/>
                <a:gridCol w="789120"/>
                <a:gridCol w="1001520"/>
                <a:gridCol w="1085760"/>
                <a:gridCol w="922680"/>
              </a:tblGrid>
              <a:tr h="73116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квалификационную категорию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сертификат специалиста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меют свидетельство об аккредитации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аходятся в декретном и долгосрочном отпуске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179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4640">
                <a:tc gridSpan="6"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графы 12-14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заполняются на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ки  аттестационных комиссий, о присвоении специалистам, прошедшим аттестацию, квалификационных категорий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Имеющие категории по нескольким специальностям, показываются в отчете 1 раз – по основной должност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графа 15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заполняется на основании сертификатов специалиста. Медицинские и фармацевтические работники, имеющие сертификаты по нескольким специальностям, показываются в отчете 1 раз – по основной должност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8712"/>
                    </a:solidFill>
                  </a:tcPr>
                </a:tc>
              </a:tr>
            </a:tbl>
          </a:graphicData>
        </a:graphic>
      </p:graphicFrame>
      <p:sp>
        <p:nvSpPr>
          <p:cNvPr id="1203" name="Text Box 541"/>
          <p:cNvSpPr/>
          <p:nvPr/>
        </p:nvSpPr>
        <p:spPr>
          <a:xfrm>
            <a:off x="7067520" y="4149720"/>
            <a:ext cx="147168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Внимание! Добавлены графы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Rectangle 2"/>
          <p:cNvSpPr/>
          <p:nvPr/>
        </p:nvSpPr>
        <p:spPr>
          <a:xfrm>
            <a:off x="1257480" y="162000"/>
            <a:ext cx="5371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аблица 1100. Должности и физические лица медицинской организа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Line 3"/>
          <p:cNvSpPr/>
          <p:nvPr/>
        </p:nvSpPr>
        <p:spPr>
          <a:xfrm>
            <a:off x="393372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374760" y="801720"/>
          <a:ext cx="8450280" cy="3273480"/>
        </p:xfrm>
        <a:graphic>
          <a:graphicData uri="http://schemas.openxmlformats.org/drawingml/2006/table">
            <a:tbl>
              <a:tblPr/>
              <a:tblGrid>
                <a:gridCol w="2682720"/>
                <a:gridCol w="527040"/>
                <a:gridCol w="731880"/>
                <a:gridCol w="709560"/>
                <a:gridCol w="789120"/>
                <a:gridCol w="1001520"/>
                <a:gridCol w="1086120"/>
                <a:gridCol w="922320"/>
              </a:tblGrid>
              <a:tr h="73116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квалификационную категорию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сертификат специалиста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меют свидетельство об аккредитации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аходятся в декретном и долгосрочном отпуске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179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 gridSpan="6"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Графа 16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олняется на основании </a:t>
                      </a:r>
                      <a:r>
                        <a:rPr b="1" lang="ru-RU" sz="1600" spc="-1" strike="noStrike">
                          <a:solidFill>
                            <a:srgbClr val="647252"/>
                          </a:solidFill>
                          <a:latin typeface="Arial"/>
                        </a:rPr>
                        <a:t>свидетельства об аккредитации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 Графе 17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зываются физические лица основных работников (из графы 9), находящихся в декретном и долгосрочном отпуске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8712"/>
                    </a:solidFill>
                  </a:tcPr>
                </a:tc>
              </a:tr>
            </a:tbl>
          </a:graphicData>
        </a:graphic>
      </p:graphicFrame>
      <p:sp>
        <p:nvSpPr>
          <p:cNvPr id="1207" name="Rectangle 538"/>
          <p:cNvSpPr/>
          <p:nvPr/>
        </p:nvSpPr>
        <p:spPr>
          <a:xfrm>
            <a:off x="258840" y="5651640"/>
            <a:ext cx="849924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ae8c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Text Box 541"/>
          <p:cNvSpPr/>
          <p:nvPr/>
        </p:nvSpPr>
        <p:spPr>
          <a:xfrm>
            <a:off x="7093080" y="3378240"/>
            <a:ext cx="14713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Внимание!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Rectangle 2"/>
          <p:cNvSpPr/>
          <p:nvPr/>
        </p:nvSpPr>
        <p:spPr>
          <a:xfrm>
            <a:off x="1257480" y="162000"/>
            <a:ext cx="5371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аблица 1100. Должности и физические лица медицинской организа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Rectangle 11"/>
          <p:cNvSpPr/>
          <p:nvPr/>
        </p:nvSpPr>
        <p:spPr>
          <a:xfrm>
            <a:off x="1278000" y="4186080"/>
            <a:ext cx="6670440" cy="1520280"/>
          </a:xfrm>
          <a:prstGeom prst="rect">
            <a:avLst/>
          </a:prstGeom>
          <a:solidFill>
            <a:srgbClr val="f0e7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Контроль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афа 15 + Графа 16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может быть больше Графы 9 по всем строкам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1" name="Group 3" descr=""/>
          <p:cNvPicPr/>
          <p:nvPr/>
        </p:nvPicPr>
        <p:blipFill>
          <a:blip r:embed="rId1"/>
          <a:stretch/>
        </p:blipFill>
        <p:spPr>
          <a:xfrm>
            <a:off x="792000" y="5327640"/>
            <a:ext cx="7602840" cy="13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Line 3"/>
          <p:cNvSpPr/>
          <p:nvPr/>
        </p:nvSpPr>
        <p:spPr>
          <a:xfrm>
            <a:off x="393372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3" name=""/>
          <p:cNvGraphicFramePr/>
          <p:nvPr/>
        </p:nvGraphicFramePr>
        <p:xfrm>
          <a:off x="374760" y="801720"/>
          <a:ext cx="8450280" cy="2189160"/>
        </p:xfrm>
        <a:graphic>
          <a:graphicData uri="http://schemas.openxmlformats.org/drawingml/2006/table">
            <a:tbl>
              <a:tblPr/>
              <a:tblGrid>
                <a:gridCol w="2682720"/>
                <a:gridCol w="527040"/>
                <a:gridCol w="731880"/>
                <a:gridCol w="709560"/>
                <a:gridCol w="789120"/>
                <a:gridCol w="1001520"/>
                <a:gridCol w="1086120"/>
                <a:gridCol w="922320"/>
              </a:tblGrid>
              <a:tr h="733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квалификационную категорию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сертификат специалиста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меют свидетельство об аккредитации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аходятся в декретном и долгосрочном отпуске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179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4" name="Rectangle 538"/>
          <p:cNvSpPr/>
          <p:nvPr/>
        </p:nvSpPr>
        <p:spPr>
          <a:xfrm>
            <a:off x="258840" y="5651640"/>
            <a:ext cx="849924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ae8c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Rectangle 2"/>
          <p:cNvSpPr/>
          <p:nvPr/>
        </p:nvSpPr>
        <p:spPr>
          <a:xfrm>
            <a:off x="1257480" y="162000"/>
            <a:ext cx="6599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аблица 1100. Должности и физические лица медицинской организа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Rectangle 11"/>
          <p:cNvSpPr/>
          <p:nvPr/>
        </p:nvSpPr>
        <p:spPr>
          <a:xfrm>
            <a:off x="374760" y="3652920"/>
            <a:ext cx="8383320" cy="1845000"/>
          </a:xfrm>
          <a:prstGeom prst="rect">
            <a:avLst/>
          </a:prstGeom>
          <a:solidFill>
            <a:srgbClr val="c1ca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Графа 17: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 включаются 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лица, не работающие в связи с временной или частичной утратой трудоспособности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Arial"/>
              </a:rPr>
              <a:t>В гр. 17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учитываются лица </a:t>
            </a:r>
            <a:r>
              <a:rPr b="1" i="1" lang="ru-RU" sz="1600" spc="-1" strike="noStrike">
                <a:solidFill>
                  <a:srgbClr val="c00000"/>
                </a:solidFill>
                <a:latin typeface="Arial"/>
              </a:rPr>
              <a:t>из числа основных работников, находящихся в декретном отпуске (отпуск по беременности и родам ), отпуск по уходу за ребенком  до достижения им возраста 3-х лет, отпуске без сохранения заработной платы (по семейным и другим уважительным причинам) в течении отчетного года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07:17:38Z</dcterms:created>
  <dc:creator>www.themegallery.com</dc:creator>
  <dc:description/>
  <dc:language>en-US</dc:language>
  <cp:lastModifiedBy>user</cp:lastModifiedBy>
  <cp:lastPrinted>2018-11-27T04:13:37Z</cp:lastPrinted>
  <dcterms:modified xsi:type="dcterms:W3CDTF">2018-12-13T07:02:38Z</dcterms:modified>
  <cp:revision>1145</cp:revision>
  <dc:subject/>
  <dc:title>ThemeGallery Power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e6b0000000000010242300207f6e001e0013c00</vt:lpwstr>
  </property>
</Properties>
</file>