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3E3-3528-49C7-9304-F5ED4340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C11-022B-489A-A1B0-0E3C73D2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3A3-C641-47C7-880F-C8AF3ADB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EB0-B2A0-4445-B6D9-4C5BDA15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E6C-A4BC-43A7-B777-4ABC6E2A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1CF-7DFD-4229-B292-0FB97020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AA4-9315-4153-BA71-CC561EE9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7B2-C355-466E-AD27-53219FE8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459-5838-47A8-8BFB-0D9AD6B8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CD9-5AF5-41BC-91CC-74BCD1B1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54F-8E27-4DEE-BAA7-2CE7A93F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E14-E64F-4866-A7D3-490118BE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2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5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>
                <a:gd name="textAreaLeft" fmla="*/ -360 w 9172440"/>
                <a:gd name="textAreaRight" fmla="*/ 9172440 w 9172440"/>
                <a:gd name="textAreaTop" fmla="*/ 0 h 1307880"/>
                <a:gd name="textAreaBottom" fmla="*/ 1308240 h 1307880"/>
              </a:gdLst>
              <a:ahLst/>
              <a:rect l="textAreaLeft" t="textAreaTop" r="textAreaRight" b="textAreaBottom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>
                <a:gd name="textAreaLeft" fmla="*/ 0 w 9167760"/>
                <a:gd name="textAreaRight" fmla="*/ 9168120 w 9167760"/>
                <a:gd name="textAreaTop" fmla="*/ 0 h 1265040"/>
                <a:gd name="textAreaBottom" fmla="*/ 1265400 h 1265040"/>
              </a:gdLst>
              <a:ahLst/>
              <a:rect l="textAreaLeft" t="textAreaTop" r="textAreaRight" b="textAreaBottom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>
                <a:gd name="textAreaLeft" fmla="*/ 0 w 6643440"/>
                <a:gd name="textAreaRight" fmla="*/ 6643800 w 6643440"/>
                <a:gd name="textAreaTop" fmla="*/ 0 h 1006920"/>
                <a:gd name="textAreaBottom" fmla="*/ 1007280 h 1006920"/>
              </a:gdLst>
              <a:ahLst/>
              <a:rect l="textAreaLeft" t="textAreaTop" r="textAreaRight" b="textAreaBottom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1177560"/>
                <a:gd name="textAreaBottom" fmla="*/ 1177920 h 1177560"/>
              </a:gdLst>
              <a:ahLst/>
              <a:rect l="textAreaLeft" t="textAreaTop" r="textAreaRight" b="textAreaBottom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2002-3DFC-4CA6-8DB3-11800A320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79"/>
          <p:cNvSpPr/>
          <p:nvPr/>
        </p:nvSpPr>
        <p:spPr>
          <a:xfrm>
            <a:off x="309600" y="1874880"/>
            <a:ext cx="86551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4400"/>
            </a:b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одзаголовок 2"/>
          <p:cNvSpPr/>
          <p:nvPr/>
        </p:nvSpPr>
        <p:spPr>
          <a:xfrm>
            <a:off x="958680" y="4229280"/>
            <a:ext cx="786132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84700"/>
                </a:solidFill>
                <a:latin typeface="Arial"/>
              </a:rPr>
              <a:t>РАЗДЕЛ </a:t>
            </a:r>
            <a:r>
              <a:rPr b="1" i="1" lang="en-US" sz="2400" spc="-1" strike="noStrike">
                <a:solidFill>
                  <a:srgbClr val="c84700"/>
                </a:solidFill>
                <a:latin typeface="Arial"/>
              </a:rPr>
              <a:t>III</a:t>
            </a:r>
            <a:r>
              <a:rPr b="1" i="1" lang="ru-RU" sz="2400" spc="-1" strike="noStrike">
                <a:solidFill>
                  <a:srgbClr val="c84700"/>
                </a:solidFill>
                <a:latin typeface="Arial"/>
              </a:rPr>
              <a:t>. ДЕЯТЕЛЬНОСТЬ </a:t>
            </a:r>
            <a:r>
              <a:rPr b="1" i="1" lang="en-US" sz="2400" spc="-1" strike="noStrike">
                <a:solidFill>
                  <a:srgbClr val="c84700"/>
                </a:solidFill>
                <a:latin typeface="Arial"/>
              </a:rPr>
              <a:t>                       </a:t>
            </a:r>
            <a:r>
              <a:rPr b="1" i="1" lang="ru-RU" sz="2400" spc="-1" strike="noStrike">
                <a:solidFill>
                  <a:srgbClr val="c84700"/>
                </a:solidFill>
                <a:latin typeface="Arial"/>
              </a:rPr>
              <a:t>МЕДИЦИНСКОЙ</a:t>
            </a:r>
            <a:r>
              <a:rPr b="1" i="1" lang="en-US" sz="2400" spc="-1" strike="noStrike">
                <a:solidFill>
                  <a:srgbClr val="c847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84700"/>
                </a:solidFill>
                <a:latin typeface="Arial"/>
              </a:rPr>
              <a:t>ОРГАНИЗАЦИИ ПО ОКАЗАНИЮ МЕДИЦИНСКОЙ ПОМОЩИ В</a:t>
            </a:r>
            <a:r>
              <a:rPr b="1" i="1" lang="en-US" sz="2400" spc="-1" strike="noStrike">
                <a:solidFill>
                  <a:srgbClr val="c847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84700"/>
                </a:solidFill>
                <a:latin typeface="Arial"/>
              </a:rPr>
              <a:t>АМБУЛАТОРНЫХ </a:t>
            </a:r>
            <a:r>
              <a:rPr b="1" i="1" lang="en-US" sz="2400" spc="-1" strike="noStrike">
                <a:solidFill>
                  <a:srgbClr val="c84700"/>
                </a:solidFill>
                <a:latin typeface="Arial"/>
              </a:rPr>
              <a:t>                      </a:t>
            </a:r>
            <a:r>
              <a:rPr b="1" i="1" lang="ru-RU" sz="2400" spc="-1" strike="noStrike">
                <a:solidFill>
                  <a:srgbClr val="c84700"/>
                </a:solidFill>
                <a:latin typeface="Arial"/>
              </a:rPr>
              <a:t> УСЛОВИЯХ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0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920" y="1143000"/>
          <a:ext cx="8229600" cy="2332080"/>
        </p:xfrm>
        <a:graphic>
          <a:graphicData uri="http://schemas.openxmlformats.org/drawingml/2006/table">
            <a:tbl>
              <a:tblPr/>
              <a:tblGrid>
                <a:gridCol w="5751360"/>
                <a:gridCol w="1062000"/>
                <a:gridCol w="1416240"/>
              </a:tblGrid>
              <a:tr h="351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сделано лицами старше трудоспособного возраста (из табл. 2100, стр.1, гр. 3) 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по поводу заболеваний (из табл. 2100, стр.1, гр. 7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й врачами на дому всего (из табл. 2100, стр.1, гр. 9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поводу заболеваний (из табл. 2100, стр.1, гр. 11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Rectangle 158"/>
          <p:cNvSpPr/>
          <p:nvPr/>
        </p:nvSpPr>
        <p:spPr>
          <a:xfrm>
            <a:off x="380880" y="3886200"/>
            <a:ext cx="838224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дения, указанные в таблице не должны превышать данные по строке 1 таблицы 2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ываются посещения лиц старше трудоспособного возраста, то есть посещения женщин в возрасте 55 лет и старше и мужчин в возрасте 60 лет и старш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0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280" y="838080"/>
          <a:ext cx="8763120" cy="56152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697"/>
          <p:cNvSpPr/>
          <p:nvPr/>
        </p:nvSpPr>
        <p:spPr>
          <a:xfrm>
            <a:off x="4495680" y="1571760"/>
            <a:ext cx="4496040" cy="271764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Под посещениями сельских жителей следует понимать посещения контингентов, постоянно проживающих в сельских поселениях сельских муниципальных образований, а также сельских населенных пунктов, входящие в состав городских поселений или городских округов, обратившихся к врачам данной организации для получения помощи в амбулаторных условиях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03"/>
          <p:cNvSpPr/>
          <p:nvPr/>
        </p:nvSpPr>
        <p:spPr>
          <a:xfrm>
            <a:off x="4495680" y="4343400"/>
            <a:ext cx="4419720" cy="226836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  <a:ea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. Также наличие передвижных подразделений и количество выездов  должно быть отображено в таблице 1003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26"/>
          <p:cNvSpPr/>
          <p:nvPr/>
        </p:nvSpPr>
        <p:spPr>
          <a:xfrm>
            <a:off x="6942960" y="403200"/>
            <a:ext cx="1892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нимание!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2 «в неотложной форме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е по неотложной помощи – оказание неотложной медицинской помощи лицам, обратившимся с признаками неотложных состояний (при внезапных острых заболеваниях, состояниях, обострении хронических заболеваний, не опасных для жизни и не требующих экстренной медицинской помощи) в отделение (кабинет) неотложной медицинской помощи,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3 «активных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е на дому считается активным, если оно проводится по инициативе врача. Как правило, активно наблюдаются пациенты с высокой температурой, гипертоническим кризом,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30–60% от общего числа посещений на дому, что зависит от таких факторов, как соотношение первичных и повторных посещений больного; динамика и сезонность заболеваний; возможность госпитализаци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спансерное наблюдение представляет собой динамическое наблюдение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предупреждения осложнений, обострений заболеваний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6 «медицинский осмотр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порядке целевого профилактического о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евые профилактические медицинские осмотры — медицинские осмотры (обследования), предпринятые с целью выявления определенных заболеваний на ранней стадии (новообразования, туберкулез, глаукома, сахарный диабет, сердечно-сосудистые заболевания и др.), охватывают различные группы организованного и неорганизованного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7 «диспансеризация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ать количество посещений, выполненных в ходе диспансеризации определенных групп населения, учтенных в форме №131 «Сведения о диспансеризации определенных групп взрослого населе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я строки 6 в строку 7 не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8 «комплексный медицинский осмотр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центрах здоровья и внеплановые медицинские осмотры (например, осмотры участников ВОВ вне плановой диспансериз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9 «из них в центрах здоровья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центрах здоровья (в соответствии с посещениями центров здоровья по форме №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0 «паллиативная помощь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рамках оказания паллиативной помощи в амбулаторных условиях. К ним относятся посещения с кодом по МКБ-1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51.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«Паллиативная помощ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1 «патронаж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рачом на дому для проведения профилактических, оздоровительных и санитарно-просветительных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тронаж — форма работы медицинской организации, основными целями которой являются проведение на дому оздоровительных и профилактических мероприятий, внедрение правил личной гигиены и улучшение санитарно-гигиенических условий в быту. Особенно широко используется в учреждениях охраны материнства и детства, некоторых диспансерах. Осуществляется врачами: участковыми (патронажными), диспансеров. Особой формой патронажа является уход за одинокими и престарелыми бо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2 «прочие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рачом с профилактическими целями, не указанными выше. Например, посещения контактных пациентов, обследования социальных условий проживания семьи, «подворовые» обходы в сельской местност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а 15 «врачебные бригад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84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Организовывается в зависимости от конкретных условий оказания первичной медико-санитарной помощи населению в целях обеспечения ее доступности могут формироваться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постоянно действующие медицинские бригады, 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состоящие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из врача-терапевта участкового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, фельдшеров, акушеров и медицинских сестер, с распределением между ними функциональных обязанностей по компетенции, исходя из установленных штатных нормативов, предназначенных для расчета количества должностей, предусмотренных для выполнения медицинской организацией возложенных на нее фун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а 16 «мобильные медицинские бригады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84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Мобильная медицинская бригада организуется в структуре медицинской организации (ее структурного подразделения), оказывающей первичную медико-санитарную помощь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, для оказания первичной медико-санитарной помощью населения, в том числе жителей населенных пунктов с преимущественным проживанием лиц старше трудоспособного возраста либо расположенных на значительном удалении от медицинской организации и (или) имеющих плохую транспортную доступность с учетом климато-географических условий.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Состав мобильной медицинской бригады формируется руководителем медицинской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 организации (ее структурного подразделения) из числа врачей и медицинских работников со средним медицинским образованием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, исходя из цели ее формирования и возложенных задач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93680" y="1676160"/>
            <a:ext cx="86868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а 17 «мобильные медицинские комплексы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84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это новый уровень современной медицины, выполненный в виде небольшой клиники, полностью укомплектованной медицинским оборудованием, мебелью и всем сопутствующим лечебным инвентарем. Такие специализированные автомобили-фургоны применяются в местах, где нет стационарных медицинских учреждений, а потребность населения в квалифицированной медицинской помощи очень высока.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 ПМК предусматривает около двадцати вариантов медицинского оснащения, и может включать в себя такие виды оборудования: диагностическое; лабораторное; амбулаторное; физиотерапевтическое; гериатрическое; лабораторно-диагностическое.</a:t>
            </a:r>
            <a:br>
              <a:rPr sz="1800"/>
            </a:br>
            <a:r>
              <a:rPr b="0" lang="ru-RU" sz="1800" spc="-1" strike="noStrike">
                <a:solidFill>
                  <a:srgbClr val="c847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74480" y="533160"/>
            <a:ext cx="830556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утритабличный контро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ока 1 «по заболеваниям всего» должна быть больше суммы строк 2+3+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рока 5 «с профилактической и иными целями» должна быть равна сумме строк с 6 по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Текст 2"/>
          <p:cNvSpPr/>
          <p:nvPr/>
        </p:nvSpPr>
        <p:spPr>
          <a:xfrm>
            <a:off x="474840" y="1905120"/>
            <a:ext cx="8305560" cy="426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ежтабличный контроль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рафа 3 строка 1 должна быть равна сумме граф 7+8+11 по строке 1 таблицы 2100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 графе 3 сумма строк 1+5 должна быть равна сумме граф 3+9 по строке 1 таблицы 2100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рафа 3 строка 5 должна быть равна разнице граф (3+9) - (7+8+11) по строке 1 таблицы 2100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рафа 3 строка 2 («в неотложной форме») больше или равно сумме строк 1+2 таблицы 2102 (посещения к врачам в кабинет неотложной помощи)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рафа 5 строка 2 больше или равно строки 2 таблицы 2102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 графе 3 сумма строк 3+10 («активные»+«патронаж») меньше графы 9 («на дому») по строке 1 таблицы 2100 – разница на узких специалистов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 графе 5 сумма строк 3+10 меньше графы 12 по строке 1 таблицы 2100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рафа 3 строка 9 («из них в центрах здоровья») равна данным по форме №68 «Сведения о деятельности центров здоровья»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376200"/>
            <a:ext cx="65534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06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800280"/>
          <a:ext cx="8382240" cy="140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64044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по поводу заболеваний,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1 __, из них: сельских жителей  2 __;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7 лет (из стр. 1) 3 _____,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стр.3) 4__, 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174"/>
          <p:cNvSpPr/>
          <p:nvPr/>
        </p:nvSpPr>
        <p:spPr>
          <a:xfrm>
            <a:off x="235080" y="2190600"/>
            <a:ext cx="8686800" cy="279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бращение включает в себя одно или несколько посещений пациента, в результате которых цель обращения достигнута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зависимости от цели обращения подразделяются на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- обращения по поводу заболеваний, травм, отравлений и некоторых других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следствий воздействия внешних причин (коды A00 - T98 МКБ-10);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- обращения с профилактической целью (коды Z00 - Z99 МКБ-10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ведения, указанные в таблице 2106, должны быть меньше, чем данные указанные в таблице 2100 по строке 1 в соответствующих графах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ратность посещений в среднем по медицинским организациям составляет – на одно обращение 3-3,5 посещения (кроме специализированных ЛПУ, например: психиатрическая, фтизиопульмонологическая больницы и т.п.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5"/>
          <p:cNvSpPr/>
          <p:nvPr/>
        </p:nvSpPr>
        <p:spPr>
          <a:xfrm>
            <a:off x="179280" y="5073480"/>
            <a:ext cx="8391600" cy="1494000"/>
          </a:xfrm>
          <a:prstGeom prst="ellipse">
            <a:avLst/>
          </a:prstGeom>
          <a:noFill/>
          <a:ln w="3168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ject 36"/>
          <p:cNvSpPr/>
          <p:nvPr/>
        </p:nvSpPr>
        <p:spPr>
          <a:xfrm>
            <a:off x="685800" y="5410080"/>
            <a:ext cx="225756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ично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 повторно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ещение  </a:t>
            </a:r>
            <a:r>
              <a:rPr b="1" i="1" lang="en-US" sz="2100" spc="-1" strike="noStrike" baseline="32000">
                <a:solidFill>
                  <a:srgbClr val="000000"/>
                </a:solidFill>
                <a:latin typeface="Arial"/>
                <a:ea typeface="Times New Roman"/>
              </a:rPr>
              <a:t>+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ещени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bject 39"/>
          <p:cNvSpPr/>
          <p:nvPr/>
        </p:nvSpPr>
        <p:spPr>
          <a:xfrm>
            <a:off x="3124080" y="548640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ject 37"/>
          <p:cNvSpPr/>
          <p:nvPr/>
        </p:nvSpPr>
        <p:spPr>
          <a:xfrm>
            <a:off x="3352680" y="5410080"/>
            <a:ext cx="108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овторно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bject 32"/>
          <p:cNvSpPr/>
          <p:nvPr/>
        </p:nvSpPr>
        <p:spPr>
          <a:xfrm>
            <a:off x="4495680" y="5562720"/>
            <a:ext cx="106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bject 41"/>
          <p:cNvSpPr/>
          <p:nvPr/>
        </p:nvSpPr>
        <p:spPr>
          <a:xfrm>
            <a:off x="5181480" y="5410080"/>
            <a:ext cx="576360" cy="432000"/>
          </a:xfrm>
          <a:custGeom>
            <a:avLst/>
            <a:gdLst>
              <a:gd name="textAreaLeft" fmla="*/ 0 w 576360"/>
              <a:gd name="textAreaRight" fmla="*/ 576720 w 576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ject 38"/>
          <p:cNvSpPr/>
          <p:nvPr/>
        </p:nvSpPr>
        <p:spPr>
          <a:xfrm>
            <a:off x="6095880" y="5410080"/>
            <a:ext cx="2035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БРАЩЕНИЯ ДОСТИГНУТ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700. Работа стоматологического кабине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280" y="1143000"/>
          <a:ext cx="8763120" cy="4092480"/>
        </p:xfrm>
        <a:graphic>
          <a:graphicData uri="http://schemas.openxmlformats.org/drawingml/2006/table">
            <a:tbl>
              <a:tblPr/>
              <a:tblGrid>
                <a:gridCol w="3810240"/>
                <a:gridCol w="609480"/>
                <a:gridCol w="1008000"/>
                <a:gridCol w="1241640"/>
                <a:gridCol w="2093760"/>
              </a:tblGrid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зубных врачей и  гигиенистов стоматологически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х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 целям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353"/>
          <p:cNvSpPr/>
          <p:nvPr/>
        </p:nvSpPr>
        <p:spPr>
          <a:xfrm>
            <a:off x="190440" y="6167520"/>
            <a:ext cx="8686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*  Первичным считается первое посещение за стоматологической помощью в отчетном году по любому поводу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55"/>
          <p:cNvSpPr/>
          <p:nvPr/>
        </p:nvSpPr>
        <p:spPr>
          <a:xfrm>
            <a:off x="4572000" y="2708280"/>
            <a:ext cx="4419720" cy="175248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в таблицу включаются и сведения о деятельности гигиенистов стоматологических и зубных врачей, в том числе зубных врачей здравпунктов, стоматологических кабинетов учебных заведений и предприятий, </a:t>
            </a:r>
            <a:r>
              <a:rPr b="1" i="1" lang="ru-RU" sz="1600" spc="-1" strike="noStrike" u="sng">
                <a:solidFill>
                  <a:srgbClr val="ea8b00"/>
                </a:solidFill>
                <a:uFillTx/>
                <a:latin typeface="Arial"/>
              </a:rPr>
              <a:t>если они состоят в штате медицинской организаци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60"/>
          <p:cNvSpPr/>
          <p:nvPr/>
        </p:nvSpPr>
        <p:spPr>
          <a:xfrm>
            <a:off x="4600440" y="5486400"/>
            <a:ext cx="4391280" cy="53352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строка 1 должна быть равна сумме строк 2+3 по всем граф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60"/>
          <p:cNvSpPr/>
          <p:nvPr/>
        </p:nvSpPr>
        <p:spPr>
          <a:xfrm>
            <a:off x="4600440" y="4548240"/>
            <a:ext cx="4419720" cy="80964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Деятельность гигиенистов стоматологических указывается только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847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700"/>
                </a:solidFill>
                <a:latin typeface="Times New Roman"/>
              </a:rPr>
              <a:t>Посе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. № 025/у), включающей жалобы, анамнез, объективные данные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основного, фонового, конкурирующего и сопутствующих заболеваний, травм, отравлений с кодами их по МКБ-10, группу здоровья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обследование, а также результаты обследования и  динамического наблю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847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70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повод визита пациента в поликлин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847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70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ожет состоять из одного или нескольких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700 (продолжение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838080"/>
          <a:ext cx="8763120" cy="4000680"/>
        </p:xfrm>
        <a:graphic>
          <a:graphicData uri="http://schemas.openxmlformats.org/drawingml/2006/table">
            <a:tbl>
              <a:tblPr/>
              <a:tblGrid>
                <a:gridCol w="1133640"/>
                <a:gridCol w="460440"/>
                <a:gridCol w="608040"/>
                <a:gridCol w="560160"/>
                <a:gridCol w="789120"/>
                <a:gridCol w="623880"/>
                <a:gridCol w="625320"/>
                <a:gridCol w="608040"/>
                <a:gridCol w="790560"/>
                <a:gridCol w="608040"/>
                <a:gridCol w="574920"/>
                <a:gridCol w="591840"/>
                <a:gridCol w="789120"/>
              </a:tblGrid>
              <a:tr h="37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1520"/>
          <p:cNvSpPr/>
          <p:nvPr/>
        </p:nvSpPr>
        <p:spPr>
          <a:xfrm>
            <a:off x="152280" y="4629240"/>
            <a:ext cx="8763120" cy="131436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ах указывается </a:t>
            </a:r>
            <a:r>
              <a:rPr b="1" i="1" lang="ru-RU" sz="1600" spc="-1" strike="noStrike" u="sng">
                <a:solidFill>
                  <a:srgbClr val="ea8b00"/>
                </a:solidFill>
                <a:uFillTx/>
                <a:latin typeface="Arial"/>
              </a:rPr>
              <a:t>в абсолютных значениях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21"/>
          <p:cNvSpPr/>
          <p:nvPr/>
        </p:nvSpPr>
        <p:spPr>
          <a:xfrm>
            <a:off x="1817640" y="2889360"/>
            <a:ext cx="7086600" cy="74592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24"/>
          <p:cNvSpPr/>
          <p:nvPr/>
        </p:nvSpPr>
        <p:spPr>
          <a:xfrm>
            <a:off x="1828800" y="3848040"/>
            <a:ext cx="7010280" cy="53352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Объем выполненных работ гигиенистами стоматологическим в УЕТах (графа 16) указывать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24"/>
          <p:cNvSpPr/>
          <p:nvPr/>
        </p:nvSpPr>
        <p:spPr>
          <a:xfrm>
            <a:off x="152280" y="5999040"/>
            <a:ext cx="8763120" cy="85896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Кратность объема выполненных работ (гр. 3) в УЕТах (гр. 16) как ориентир составляет -  3,8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710. Работа врачей-стоматолог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0"/>
          <p:cNvSpPr/>
          <p:nvPr/>
        </p:nvSpPr>
        <p:spPr>
          <a:xfrm>
            <a:off x="2286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*  Первичным считается первое посещение за стоматологической помощью в отчетном году по любому поводу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2280" y="1143000"/>
          <a:ext cx="8534520" cy="3833640"/>
        </p:xfrm>
        <a:graphic>
          <a:graphicData uri="http://schemas.openxmlformats.org/drawingml/2006/table">
            <a:tbl>
              <a:tblPr/>
              <a:tblGrid>
                <a:gridCol w="3408480"/>
                <a:gridCol w="655560"/>
                <a:gridCol w="930240"/>
                <a:gridCol w="1101960"/>
                <a:gridCol w="672840"/>
                <a:gridCol w="874800"/>
                <a:gridCol w="890640"/>
              </a:tblGrid>
              <a:tr h="73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из т. 2100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дети до 14 лет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ельно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583"/>
          <p:cNvSpPr/>
          <p:nvPr/>
        </p:nvSpPr>
        <p:spPr>
          <a:xfrm>
            <a:off x="4114800" y="3022560"/>
            <a:ext cx="4840200" cy="98100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Строка 1 по графе 3 должна быть равна сумме посещений, указанных в таблице 2100 по сумме строк 86+87+89+90 и сумме граф 3+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85"/>
          <p:cNvSpPr/>
          <p:nvPr/>
        </p:nvSpPr>
        <p:spPr>
          <a:xfrm>
            <a:off x="4114800" y="5172120"/>
            <a:ext cx="4862520" cy="97164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Строка 6 по графе 3 должна быть равна сумме посещений, указанных в таблице 2100 по сумме строк 86+87+89+90 и сумме граф 4+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86"/>
          <p:cNvSpPr/>
          <p:nvPr/>
        </p:nvSpPr>
        <p:spPr>
          <a:xfrm>
            <a:off x="4114800" y="4062240"/>
            <a:ext cx="4829040" cy="106704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Сумма строк 4+5 по графе 3 должна быть равна сумме посещений, указанных в таблице 2100 по сумме строк 86+87+89+90 и сумме граф 5+1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Текст 2"/>
          <p:cNvSpPr/>
          <p:nvPr/>
        </p:nvSpPr>
        <p:spPr>
          <a:xfrm>
            <a:off x="474840" y="533520"/>
            <a:ext cx="8305560" cy="289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утритабличный контроль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б. 2700, стр. 1 «Всего» должна быть равна сумме строк 2+3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б. 2700 и 2710, разница строк 1-4-5 гр. 6 «Вылечено зубов» и гр. 7 «из гр.6 постоянных» - это разница на взрослых, которая должна следовать равенству гр. 6 = гр. 7, может быть небольшое превышение в гр. 6, которое нужно пояснить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аб. 2700 и 2710, разница строк 1-4-5 гр. 9 «Удалено зубов» и гр. 10 «из гр.9 постоянных» - это разница на взрослых, которая должна следовать равенству гр. 9 = гр. 10, может быть небольшое превышение в гр. 9, которое нужно пояснит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Текст 2"/>
          <p:cNvSpPr/>
          <p:nvPr/>
        </p:nvSpPr>
        <p:spPr>
          <a:xfrm>
            <a:off x="474840" y="3581280"/>
            <a:ext cx="830556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ежтабличный контроль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таб. 2700 и 2710, посещения по строке 7 должны быть подтверждены наличием передвижного стоматологического кабинета и количеством выездов в таблице 1003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таб. 2710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р. 1 по гр. 3 должна быть равна сумме посещений, указанных в таблице 2100 по сумме строк 86+87+88+89+90 и сумме граф 3+9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таб. 2710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умма стр. 4+5 по гр. 3 должна быть равна сумме посещений, указанных в таблице 2100 по сумме строк 86+87+88+89+90 и сумме граф 5+12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таб. 2710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р. 6 по гр. 3 должна быть равна сумме посещений, указанных в таблице 2100 по сумме строк 86+87+88+89+90 и сумме граф 4+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1640" y="235584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6320" y="1066680"/>
          <a:ext cx="8839080" cy="573264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40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dee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1694"/>
          <p:cNvSpPr/>
          <p:nvPr/>
        </p:nvSpPr>
        <p:spPr>
          <a:xfrm>
            <a:off x="1924200" y="3322800"/>
            <a:ext cx="7010280" cy="51264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В строку 65 «приемного отделения» могут быть включены посещения приемного отделения к врачам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97"/>
          <p:cNvSpPr/>
          <p:nvPr/>
        </p:nvSpPr>
        <p:spPr>
          <a:xfrm>
            <a:off x="7166880" y="457200"/>
            <a:ext cx="1892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нимание!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94"/>
          <p:cNvSpPr/>
          <p:nvPr/>
        </p:nvSpPr>
        <p:spPr>
          <a:xfrm>
            <a:off x="1924200" y="2765520"/>
            <a:ext cx="7010280" cy="50148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Строка 60 «по паллиативной медицинской помощи» - посещения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98"/>
          <p:cNvSpPr/>
          <p:nvPr/>
        </p:nvSpPr>
        <p:spPr>
          <a:xfrm>
            <a:off x="1914480" y="3902040"/>
            <a:ext cx="7010280" cy="129852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2f57"/>
                </a:solidFill>
                <a:latin typeface="Times New Roman"/>
                <a:ea typeface="Times New Roman"/>
              </a:rPr>
              <a:t>В строку 123 вносятся посещения врачей-специалистов, оказывающих помощь в отделении (кабинете) неотложной медицинской помощи (при наличии его в структуре поликлиники медицинской организации), а также при оказании неотложной медицинской помощи на дому (посещения, которые ранее вносились в таб. 2102</a:t>
            </a:r>
            <a:r>
              <a:rPr b="1" i="1" lang="ru-RU" sz="1600" spc="-1" strike="noStrike">
                <a:solidFill>
                  <a:srgbClr val="ea8b00"/>
                </a:solidFill>
                <a:latin typeface="Times New Roman"/>
                <a:ea typeface="Times New Roman"/>
              </a:rPr>
              <a:t>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98"/>
          <p:cNvSpPr/>
          <p:nvPr/>
        </p:nvSpPr>
        <p:spPr>
          <a:xfrm>
            <a:off x="1924200" y="5251320"/>
            <a:ext cx="7010280" cy="1492560"/>
          </a:xfrm>
          <a:prstGeom prst="rect">
            <a:avLst/>
          </a:prstGeom>
          <a:solidFill>
            <a:srgbClr val="ffd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2f57"/>
                </a:solidFill>
                <a:latin typeface="Times New Roman"/>
                <a:ea typeface="Times New Roman"/>
              </a:rPr>
              <a:t>В строку 124 вносятся посещения врачей-специалистов, оказывающих паллиативную медицинскую помощь в отделении (кабинете) паллиативной медицинской помощи (при наличии его в структуре поликлиники медицинской организации). Посещения только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19605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11040" y="1081080"/>
          <a:ext cx="2743200" cy="564192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838080"/>
              </a:tblGrid>
              <a:tr h="7318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486240" y="1076400"/>
          <a:ext cx="4267080" cy="5614920"/>
        </p:xfrm>
        <a:graphic>
          <a:graphicData uri="http://schemas.openxmlformats.org/drawingml/2006/table">
            <a:tbl>
              <a:tblPr/>
              <a:tblGrid>
                <a:gridCol w="3733560"/>
                <a:gridCol w="533520"/>
              </a:tblGrid>
              <a:tr h="736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2"/>
          <p:cNvSpPr/>
          <p:nvPr/>
        </p:nvSpPr>
        <p:spPr>
          <a:xfrm>
            <a:off x="4335480" y="363600"/>
            <a:ext cx="19605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5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 rot="18941400">
            <a:off x="1488600" y="3830400"/>
            <a:ext cx="4146840" cy="528480"/>
          </a:xfrm>
          <a:custGeom>
            <a:avLst/>
            <a:gdLst>
              <a:gd name="textAreaLeft" fmla="*/ 648000 w 4146840"/>
              <a:gd name="textAreaRight" fmla="*/ 3628800 w 414684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41a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4567320" y="3056040"/>
            <a:ext cx="4341600" cy="2397600"/>
            <a:chOff x="4567320" y="3056040"/>
            <a:chExt cx="4341600" cy="2397600"/>
          </a:xfrm>
        </p:grpSpPr>
        <p:sp>
          <p:nvSpPr>
            <p:cNvPr id="73" name="AutoShape 8"/>
            <p:cNvSpPr/>
            <p:nvPr/>
          </p:nvSpPr>
          <p:spPr>
            <a:xfrm>
              <a:off x="4567320" y="3056040"/>
              <a:ext cx="4341600" cy="1919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cfcd"/>
                </a:gs>
                <a:gs pos="50000">
                  <a:srgbClr val="b2e1e0"/>
                </a:gs>
                <a:gs pos="100000">
                  <a:srgbClr val="83cfcd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1"/>
            <p:cNvSpPr/>
            <p:nvPr/>
          </p:nvSpPr>
          <p:spPr>
            <a:xfrm>
              <a:off x="4851720" y="3110400"/>
              <a:ext cx="379044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Т.2105 может быть больше т2100 (за счет посещений в неотложной форме вне кабинетов неотложной медицинской помощи 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19605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11040" y="1081080"/>
          <a:ext cx="2743200" cy="564192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838080"/>
              </a:tblGrid>
              <a:tr h="7318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486240" y="1076400"/>
          <a:ext cx="4267080" cy="5614920"/>
        </p:xfrm>
        <a:graphic>
          <a:graphicData uri="http://schemas.openxmlformats.org/drawingml/2006/table">
            <a:tbl>
              <a:tblPr/>
              <a:tblGrid>
                <a:gridCol w="3733560"/>
                <a:gridCol w="533520"/>
              </a:tblGrid>
              <a:tr h="736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2"/>
          <p:cNvSpPr/>
          <p:nvPr/>
        </p:nvSpPr>
        <p:spPr>
          <a:xfrm>
            <a:off x="4335480" y="363600"/>
            <a:ext cx="19605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5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 rot="19686600">
            <a:off x="1763280" y="5559480"/>
            <a:ext cx="3063960" cy="528480"/>
          </a:xfrm>
          <a:custGeom>
            <a:avLst/>
            <a:gdLst>
              <a:gd name="textAreaLeft" fmla="*/ 478800 w 3063960"/>
              <a:gd name="textAreaRight" fmla="*/ 2681280 w 306396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41a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3425760" y="1563840"/>
            <a:ext cx="4826160" cy="2721960"/>
            <a:chOff x="3425760" y="1563840"/>
            <a:chExt cx="4826160" cy="2721960"/>
          </a:xfrm>
        </p:grpSpPr>
        <p:grpSp>
          <p:nvGrpSpPr>
            <p:cNvPr id="82" name="Group 4"/>
            <p:cNvGrpSpPr/>
            <p:nvPr/>
          </p:nvGrpSpPr>
          <p:grpSpPr>
            <a:xfrm>
              <a:off x="3425760" y="1563840"/>
              <a:ext cx="4826160" cy="2497680"/>
              <a:chOff x="3425760" y="1563840"/>
              <a:chExt cx="4826160" cy="2497680"/>
            </a:xfrm>
          </p:grpSpPr>
          <p:grpSp>
            <p:nvGrpSpPr>
              <p:cNvPr id="83" name="Group 5"/>
              <p:cNvGrpSpPr/>
              <p:nvPr/>
            </p:nvGrpSpPr>
            <p:grpSpPr>
              <a:xfrm>
                <a:off x="3425760" y="1563840"/>
                <a:ext cx="4826160" cy="2497680"/>
                <a:chOff x="3425760" y="1563840"/>
                <a:chExt cx="4826160" cy="2497680"/>
              </a:xfrm>
            </p:grpSpPr>
            <p:sp>
              <p:nvSpPr>
                <p:cNvPr id="84" name="AutoShape 6"/>
                <p:cNvSpPr/>
                <p:nvPr/>
              </p:nvSpPr>
              <p:spPr>
                <a:xfrm>
                  <a:off x="3425760" y="1563840"/>
                  <a:ext cx="4826160" cy="2497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7416b"/>
                    </a:gs>
                    <a:gs pos="50000">
                      <a:srgbClr val="002e5c"/>
                    </a:gs>
                    <a:gs pos="100000">
                      <a:srgbClr val="17416b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AutoShape 7"/>
                <p:cNvSpPr/>
                <p:nvPr/>
              </p:nvSpPr>
              <p:spPr>
                <a:xfrm>
                  <a:off x="3552120" y="1563840"/>
                  <a:ext cx="4599360" cy="2497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499a1"/>
                    </a:gs>
                    <a:gs pos="50000">
                      <a:srgbClr val="13737d"/>
                    </a:gs>
                    <a:gs pos="100000">
                      <a:srgbClr val="5499a1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utoShape 8"/>
                <p:cNvSpPr/>
                <p:nvPr/>
              </p:nvSpPr>
              <p:spPr>
                <a:xfrm>
                  <a:off x="3643560" y="1563840"/>
                  <a:ext cx="4371120" cy="2497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3cfcd"/>
                    </a:gs>
                    <a:gs pos="50000">
                      <a:srgbClr val="b2e1e0"/>
                    </a:gs>
                    <a:gs pos="100000">
                      <a:srgbClr val="83cfcd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Line 9"/>
              <p:cNvSpPr/>
              <p:nvPr/>
            </p:nvSpPr>
            <p:spPr>
              <a:xfrm>
                <a:off x="3522960" y="2952720"/>
                <a:ext cx="38988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0"/>
              <p:cNvSpPr/>
              <p:nvPr/>
            </p:nvSpPr>
            <p:spPr>
              <a:xfrm>
                <a:off x="7813080" y="2952720"/>
                <a:ext cx="38988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Rectangle 11"/>
            <p:cNvSpPr/>
            <p:nvPr/>
          </p:nvSpPr>
          <p:spPr>
            <a:xfrm>
              <a:off x="4032360" y="1668240"/>
              <a:ext cx="3816720" cy="26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Т.2100 (стр 124) +т.2102 (выездная патронажная служба) равна и меньше т2105 (за счет посещений по паллиативной помощи вне кабинетов и отделений по паллиативной помощи)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4480" y="533160"/>
            <a:ext cx="8305560" cy="3352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утритабличный контро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строку 1 складываются посещения с графы 5 по 122 (кроме входящих стро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всего» врачебных посещений по медицинской организации равно сумме граф 3+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посещений к «сельским жителям» равно сумме граф 4+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посещений к «детям 0-17 лет» равно сумме граф 5+1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посещений по «поводу заболевания всего» равно сумме граф 7+8+11, из них по «поводу заболевания дети 0-17 лет» равно сумме граф 8+1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посещений с «профилактической целью всего» равно разнице граф (3+9) - (7+8+11), из них с «профилактической целью дети 0-17 лет» равно разнице граф (5+12)-(8+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Текст 2"/>
          <p:cNvSpPr/>
          <p:nvPr/>
        </p:nvSpPr>
        <p:spPr>
          <a:xfrm>
            <a:off x="474840" y="3992400"/>
            <a:ext cx="8305560" cy="243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ежтабличный контроль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таблица 1100 – наличие врача-специалиста по занятой должности в поликлинике по соответствующей строке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таблица 2105 – равна таблице 2100 (графы 3+9, 2100 = строки 1+5, 2105)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таблица 2710 – количество посещений к стоматологу (стр. 1, гр. 3) равно сумме строк 86, 87, 89, 90 и граф 3+9, таб. 2100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Текст 2"/>
          <p:cNvSpPr/>
          <p:nvPr/>
        </p:nvSpPr>
        <p:spPr>
          <a:xfrm>
            <a:off x="425520" y="958680"/>
            <a:ext cx="8323200" cy="391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ратите внимание  врачебные посещения по следующим строкам: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4 «руководители организаций и их заместители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7 «анестезиологи-реаниматологи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29 «врач мануальной терапии»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56 «по медико-социальной экспертизе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80 «рентгенолог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81 «рефлексотерапевты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- строка 91 «судебно-медицинские эксперты»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103 «трансфузиолог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107 «клинические фармакологи»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108 «физиотерапевты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120 «эндоскописты»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Текст 2"/>
          <p:cNvSpPr/>
          <p:nvPr/>
        </p:nvSpPr>
        <p:spPr>
          <a:xfrm>
            <a:off x="392040" y="5389560"/>
            <a:ext cx="83232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рока 122 «прочие» – предоставить пояснительную записку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0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280" y="914400"/>
          <a:ext cx="8763120" cy="3565440"/>
        </p:xfrm>
        <a:graphic>
          <a:graphicData uri="http://schemas.openxmlformats.org/drawingml/2006/table">
            <a:tbl>
              <a:tblPr/>
              <a:tblGrid>
                <a:gridCol w="5257800"/>
                <a:gridCol w="762120"/>
                <a:gridCol w="2743200"/>
              </a:tblGrid>
              <a:tr h="5180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(кабинетах) неотложной медицинской помощи 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ому населению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f4b7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628"/>
          <p:cNvSpPr/>
          <p:nvPr/>
        </p:nvSpPr>
        <p:spPr>
          <a:xfrm>
            <a:off x="6172200" y="3309840"/>
            <a:ext cx="2743200" cy="103356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Внутриформенный контроль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строка 4 = сумме строк 4.2+4.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28"/>
          <p:cNvSpPr/>
          <p:nvPr/>
        </p:nvSpPr>
        <p:spPr>
          <a:xfrm>
            <a:off x="6238800" y="635040"/>
            <a:ext cx="2724120" cy="2598840"/>
          </a:xfrm>
          <a:prstGeom prst="rect">
            <a:avLst/>
          </a:prstGeom>
          <a:solidFill>
            <a:srgbClr val="3f4b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8b00"/>
                </a:solidFill>
                <a:latin typeface="Arial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отделений (кабинетов) неотложной медицинской помощи и пунктов на дому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52280" y="4632480"/>
            <a:ext cx="874404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строке 1 таблицы 2101 указываются посещения среднего медицинского персонала на самостоятельном приеме во врачебных амбулаторно-поликлинических учреждениях, на врачебных и фельдшерских здравпунктах, ФАПах и фельдшерских пунктах, включая передвижны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сещения к зубным врачам и гигиенистам стоматологическими в таблицу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 включаются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ет деятельности ведется в таблице 2700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аблица 210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6560" y="1467000"/>
          <a:ext cx="8239320" cy="914400"/>
        </p:xfrm>
        <a:graphic>
          <a:graphicData uri="http://schemas.openxmlformats.org/drawingml/2006/table">
            <a:tbl>
              <a:tblPr/>
              <a:tblGrid>
                <a:gridCol w="823932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осещений выездной патронажной службы паллиативной помощи для оказания паллиативной медицинской помощи на дому: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о 1________,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детям 2________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Прямоугольник 1"/>
          <p:cNvSpPr/>
          <p:nvPr/>
        </p:nvSpPr>
        <p:spPr>
          <a:xfrm>
            <a:off x="457200" y="2511360"/>
            <a:ext cx="82296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полностью изменена (таб.2102 «Посещения врачами пунктов (кабинетов) неотложной медицинской помощи на дому», ф.№30 за 2017 год), вышеуказанные посещения теперь указываются в таб.2100, стр. 123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26"/>
          <p:cNvSpPr/>
          <p:nvPr/>
        </p:nvSpPr>
        <p:spPr>
          <a:xfrm>
            <a:off x="6798600" y="423720"/>
            <a:ext cx="1892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нимание!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407880" y="3914640"/>
            <a:ext cx="82296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аблицу вносятся посещения патронажной службой паллиативной помощи </a:t>
            </a:r>
            <a:r>
              <a:rPr b="1" i="1" lang="ru-RU" sz="1800" spc="-1" strike="noStrike">
                <a:solidFill>
                  <a:srgbClr val="c84700"/>
                </a:solidFill>
                <a:latin typeface="Arial"/>
                <a:ea typeface="Times New Roman"/>
              </a:rPr>
              <a:t>врачей-специалистов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казывающих паллиативную медицинскую помощь на дому: всего, из них детя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485640" y="5029200"/>
            <a:ext cx="820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Таблица 2103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«Посещения к врачам центров здоровья и комплексные обследования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удалена!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user</cp:lastModifiedBy>
  <cp:lastPrinted>2018-11-27T04:13:37Z</cp:lastPrinted>
  <dcterms:modified xsi:type="dcterms:W3CDTF">2018-12-14T07:06:19Z</dcterms:modified>
  <cp:revision>1142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