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957F-A7E5-4B12-964A-C3F05B3BD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лет существует проблема сопоставимости одних и тех же данных по туберкулезу в разных отчетных формах, а также проблема методов учета одних и тех же явлений в разных службах.  Начнем с ф.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E6FC-0488-44ED-9BEF-20548B523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C804-D42B-4EBD-BA52-C46734E4B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7D7-28B4-4AE4-ACFD-806F6C5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DD1-D868-40D1-B243-AB6EF06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EE1-030E-4F05-9937-16C3BF29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0F5-6301-4AF5-82BE-E17E8F6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61C-8314-454B-8049-22ADF9A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5FF-D23C-4A07-AB23-900CA7FE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054-B9AA-422C-AF0B-B6DC4FB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960-3AA6-42C1-AC72-7384B76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1F5-D7E4-4B63-87A6-4D4134A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AC7-1CEE-4104-AA0C-D91EFEF0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9C4-7E6D-4A99-B8EE-F192015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880-B8AE-4135-AF07-9C764FC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2703-A47A-4ABC-951B-B66BC1C5A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ирование и контроль корректности отчетов федерального статистического наблюд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ый специалист Федерального центра мониторинга противодействия распространению туберкулеза в Р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дина Александра Вад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фон:  +7909921716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rdina@mednet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ановление Правительст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ссийской Федерации от 1 декабря 2004 г. № 715 «Об утверждении перечня социально значимых заболеваний и перечня заболеваний, представляющих опасность для окружающих»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каз Минздрава Росс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 29 июня 2015 г. № 384н «Об утверждении перечня инфекционных заболеваний, представляющих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пасность для окружающи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являющихся основанием для отказа в выдаче либо аннулирования разрешения на временное проживание иностранных граждан и лиц без гражданства, или вида на жительство, или патента, или разрешения на работу в Российской Федерации, а  также Порядка подтверждения их наличия или отсутствия, а также формы медицинского заключения о наличии (об отсутствии) указанных заболеваний»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перечень входит туберкул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Российской Федерации от 25  декабря 2001 г. № 892 «О  реализации Федерального закона “О предупреждении распространения туберкулеза в Российской Федерации”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0" y="1700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илактическим медицинским осмотрам в целях выявления ТБ подлежат один раз в год мигранты, беженцы, вынужденные переселенц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т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регист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ведении государственного статистического наблюдения в целях предупреждения распространения ТБ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лежат как граждане Российской Федерации, так и иностранные граждане и лица без гражданства при выявлении у них активной формы ТБ впервые. Учету и регистраци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едении государ- ственного статистического наблюдения в целях предупреждения распространения ТБ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одлежат все случаи смерти больных Т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2 октября 2013 г. № 60 «Профилактика туберкулеза. Санитарно-эпидемиологические пра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 3.1.2.3114-13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остранные граждане и лица без граждан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обращении за получением разрешения на временное проживание на территории Российской Федерации, вида на жительство, гражданства или разрешения на работу в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неочередном порядке проходят профилактический медицинский осмотр на Т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далее – один раз в год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 выявлении у них активной формы ТБ впервые - подлежат учету и регистраци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амках государственного статистического наблюдения.  Организация профилактических осмотров на ТБ и контроль за их проведением осуществляются органами исполнительной власти субъектов Российской Федерации в области охраны здоровь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 принятия решения о нежелательности пребывания им будет проводиться лечение туберкулеза в соответствии с действующими на территории России рекомендациям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0" y="5716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каз Минздрава России от 15 ноября 2012 г. №932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орядок оказания медицинской помощи больным туберкулезом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казом утвержд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казания медицинской помощи пациентам с установленным туберкулезо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а также при подозрении на туберкулез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не зависимости от гражданства и места жительств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0" y="37148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ФМБА имеет свои тубучреждения и там лечит больных ТБ, то их больные в ф.33 не включ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больные, живущие в населенных пунктах, относящихся к ФМБА, лечатся в ПТ диспансере  или ПТ стационаре МЗ, и наблюдаются в ПТД МЗ, то они  включаются в ф.33, как состоящие на учете (табл.2100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76048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 2-ТБ, 7-ТБ, 8-ТБ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ы ЕСН ВР-1Ф, ВР-2Д, ВР-4БЛ, ВР-5М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гей Александрович Стерл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9255078221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likov@lis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85840" y="785880"/>
            <a:ext cx="857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ственного специалиста Федерального центра мониторинга противодействия распространению туберкулеза в РФ, которому можно задать вопросы по формам отраслевого и единовременного статистического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мплектность подаваемых форм 50 приказа на бумажном нос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2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7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8-ТБ по гражданскому сектору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2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7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8-ТБ по ФСИН – 1 эк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формы должным быть подписаны специалистом органа управления здравоохранением субъекта Российской Федерации и заверены печа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285840" y="571500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ичная ошиб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даче отчета по 50 Прика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ача неполного комплекта фор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ичная ошибка заполнения форм 50 прик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 выполнение положений информационного письма 17-7-8635 от 10.12.2014 г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ациенты с впервые выявленным туберкулёзом лёгких или с рецидивом туберкулёза лёгких, которым назначен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 химиотерапии, вне зависимости от известных к началу отчётного периода результатах лечения, включаются в графу 7 в верхнюю часть дроби как случаи «Неэффективного курса химиотерапии, подтвержденные клинико-рентгенологически»  и в нижнюю часть дроби, как перерегистрированные для лечения на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 химиотерапии, либо продолжающие лечение п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ежиму химиотерап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14200" y="514368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ните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впервые выявленному пациенту с туберкулёзом или пациенту с рецидивом туберкулёза назнач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жим химиотерапии, он обязательно должен пройти по числителю и знаменателю графы 7 формы 8-ТБ, и никак иначе. Исход курса химиотерапии пациентов, которым был назначен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жим химиотерапии будет оцениваться по форме ВР-5М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методов при составлении отчёта по формам №№ 8, 33, 7-Т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ак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 При этом, хотя результаты молекулярно-генетических методов исследования не используются в отчёте, они могут служить основанием для назначения режима, учитываемого в форме 2-ТБ как реж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азначенный по результатам теста на лекарственную чувстви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142920" y="478620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явления МГМ устойчив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рифампицину, может быть назначен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тест режим химио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, данный  пациент, получая лечение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жиму химиотерапии, не будет считаться пациентом с МЛУ-Т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с использованием автоматических бактериологических анализатор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составлении отчё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формам №№ 8, 33, 7-Т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результаты пос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99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0 заполняются строки 1.0 и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45720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.12 по туберкулезу (дети 0-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0" y="1357200"/>
            <a:ext cx="914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формируется так: (ф.33 табл.2100 стр7 гр8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ф.8 т.1000 стр(1+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35+3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гр(6+7+8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ы 5 и 6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возрастам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8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ф.33 табл.2100 стр7 гр8 прошл. года +ф.33 табл.2100 стр 7 гр.5 отчетн.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9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8 т.1000 стр(1+2)гр(6+7+8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.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.4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ф.33 табл.2100 стр.7 гр.8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=число физических лиц при туберкул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00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возрастам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100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 группа – стр. 1.1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V группа – ст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2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руппа  - стр. 1.2.1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– стр. 1.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5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только в/выявленных в отчетном году из ф8 т 1001 стр1гр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16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142920" y="7142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1080720"/>
            <a:ext cx="9144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000 заполняются строки 1.0 и 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формируется так: (ф.33 табл.2100 стр7 гр9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ф.8 т.1000 стр(1+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35+3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гр 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полу в ф.3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8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ф.33 табл.2100 стр7 гр9 прошл.года + ф.33 табл.2100 стр 7 гр.6 отчетн.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9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8 т.1000 стр(1+2)гр 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 6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 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1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нет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 13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ь не можем, т.к. нет разбивки по полу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ф.33 табл.2100 стр.7 гр.9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у1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полнить не можем, т.к. нет разбивки по полу в ф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00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 = число физических 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2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1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57200" y="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.12 по туберкулезу (дети 15-1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0" y="64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443600"/>
            <a:ext cx="9144000" cy="51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000 заполняются строки 1.0 и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формируется так: ф.33 табл.2100 стр7 гр(7-8-9) прошл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ф.8 т.1000 стр.(1+2+35+36)графы с 10 по 1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ф.33 табл.2100 стр7 гр(7-8-9) прошл.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ф.33 табл.2100 стр. 7 гр.4 отчетн.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фа 9= ф.8 т.1000 стр.(1+2) графы с 10 по 15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0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100 стр 7 гр (4-5-6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1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.33 табл.2200 стр 1 гр (3-4-5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1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33 т 2200 стр.1 гр.(3-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рафа 1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графы(4-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рафа 1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.33 табл.2100 стр.7 гр.(7-8-9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00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болеваний =число физических лиц при туберкул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3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яется аналогично 1100 с добавлением 1.4.1,  1.4.2,  и т.д. какие сведения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0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лняем только впервые выявленных в отчетном году из ф.8 т.1000 стр1гр15+стр.2гр(14+15)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00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болеваний = число физических лиц при туберкулезе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4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 аналогично  3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500 и 5100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я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57120" y="142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Ф.12 по туберкулезу (взрослые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0" y="64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больных выявили – ф.8, сколько взяли на учет – ф.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324000" y="1890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деральный закон и Российской Федерации от 30 марта 1999 г. № 52-ФЗ «О санитарно- эпидемиологическом благополучии населени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285840" y="12254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ольные инфекционными заболеван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лица с подозрением на такие заболевания и контактировавшие с больными инфекционными заболеваниями лица, а также лица, являющиеся носителями возбудителей инфекционных болезней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лежат лабораторному обследованию и медицинскому наблюдению или лечению и в случае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если они представляют опасность для окружающи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обязательной госпитал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ли изоляции в порядке, установленном законодательством Российской Федерации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 случа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фекционных заболеваний и массовых неинфекционных заболеваний (отравле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длежат регистрации по месту выявления таких заболеван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государственному учету и ведению отчетности по ним органами, осуществляющими федеральный государственный санитарно-эпидемиологический надз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a.gordina</cp:lastModifiedBy>
  <dcterms:modified xsi:type="dcterms:W3CDTF">2017-12-25T17:40:12Z</dcterms:modified>
  <cp:revision>66</cp:revision>
  <dc:subject/>
  <dc:title>Недочеты при составлении форм ФСН №№ 30,47,12. Сопоставление данных из разных форм с формами №№ 8 и 33</dc:title>
</cp:coreProperties>
</file>