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E5C-3D1F-4085-BCE6-EC2EE02340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210D-756B-4435-B031-A14440D17C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DD5D70-4F1B-4321-B43C-7D65B1F4D1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DC5C-97F4-4D31-B107-F108F101DA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FEE-FE60-4D01-8FE6-554EAF73B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9805-659B-42D2-8FE7-5830CC2C63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612C-2092-4CEE-AA08-020AD1F6B9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FA5-CCAC-4FE5-8D33-9F3BD643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D62-1AC6-44C7-9571-9FE722EB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7CC-FD73-42A1-969A-A14FFB37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E36-D312-4295-AFE9-2F1F5097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D2D-2D99-4F18-A9E5-9E1D9CE4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427-B7DF-445D-B09B-C2B301B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F95-55C2-44D9-A4E2-CD8A2A8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8B9-3085-4FBC-B94D-DF4F49F1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4DF-E3FA-491D-8E22-92BF8977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CFE-30CD-4B74-83D2-AD6EDDC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852-3775-4699-843A-DAF6E1C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C7E-FAD8-4FFA-9DBC-9FE76EB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86BE-0CA9-40D6-A848-0E80E7862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8 год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5345280"/>
            <a:ext cx="8015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х вызово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03440"/>
                <a:gridCol w="857160"/>
                <a:gridCol w="1000080"/>
                <a:gridCol w="1251000"/>
                <a:gridCol w="1249200"/>
                <a:gridCol w="1251000"/>
                <a:gridCol w="1251000"/>
              </a:tblGrid>
              <a:tr h="315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но-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фармацевтов, провизоров, специалистов с немедицинским образ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Число штатн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Число занятых должнос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Число физических лиц основных работников на занятых должностя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20056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-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0920" y="1052640"/>
            <a:ext cx="8713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Росстата № 483 от 3 августа 2018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выполненные вызовы» (2018 год) = «выполненные выезды» (2009-2017 го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6760" y="2357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856720" cy="520056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-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в возрасте 55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в возрасте 60 лет и старш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2214360"/>
            <a:ext cx="8407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(55 лет и старше) 5 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(60 лет и старше) 6 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 2121.1.01 =  30.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357120"/>
            <a:ext cx="77868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приказа Министерства здравоохранения Российской Федерации № 33н от 22 января 2016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1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499760"/>
            <a:ext cx="856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000" y="1571400"/>
            <a:ext cx="828036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в редакции Приказа Минздрава России № 33н от 22 января 2016 г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1571400"/>
            <a:ext cx="83516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 (общепрофильными, специализированными и авиамедицинским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356760"/>
            <a:ext cx="8281800" cy="10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413000"/>
            <a:ext cx="83012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. = 30.2200.21.03. + 30.2200.22.03. + 30.2200.23.03. + 30.2200.24.03. + 30.2200.25.03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. = 30.2200.21.04. + 30.2200.22.04. + 30.2200.23.04. + 30.2200.24.04. + 30.2200.25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. = 30.2200.21.05. + 30.2200.22.05. + 30.2200.23.05. + 30.2200.24.05. + 30.2200.25.05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6164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500120"/>
            <a:ext cx="8479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экстренные консультатив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3. = 30.2200.251.03. + 30.2200.252.03. + 30.2200.253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4. = 30.2200.251.04. + 30.2200.252.04. + 30.2200.253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5.05. = 30.2200.251.05. + 30.2200.252.05. + 30.2200.253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выездных бригад следует предоставить пояснение по профилю, числу бригад (смен), числу круглосуточных бригад и числу лиц, которым оказана медицинская помощь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35684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, из них сельских жителе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2201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2202 необходимо сравнить с данными предыдущего отчетного год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 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медицинской орган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5880" y="1752480"/>
            <a:ext cx="781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90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медицинскими работниками выездных бригад скорой медицинской помощи по месту вызова бригады, а также в транспортном средстве при медицинской эваку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21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280" y="2491920"/>
            <a:ext cx="8209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773360"/>
            <a:ext cx="8407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628280"/>
            <a:ext cx="84470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66680" indent="-1666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41300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14200" y="571680"/>
          <a:ext cx="8643960" cy="620856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4200" y="571680"/>
          <a:ext cx="8643960" cy="55036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785880"/>
                <a:gridCol w="1071360"/>
              </a:tblGrid>
              <a:tr h="8730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. 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8262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результатные вызовы (выезды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учаи, ког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 не оказалось на ме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был ложным (по данному адресу скорую медицинскую помощь не вызывали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йден адрес, указанный при вызо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казался практически здоровым и не нуждался в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мер до приезда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увезён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бслужен врачом поликлиники до прибытия бригады скорой медицинской помощ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тказался от помощи (осмот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 отменё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3440" y="2071800"/>
            <a:ext cx="82630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ано по причине необоснованности вызо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переадресация непрофильных вызовов в другую медицинскую организ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скорая, в том числе скорая специализированная, медицинская помощь пациентам, которым не требуется круглосуточного медицинского наблюдения и ле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41000"/>
            <a:ext cx="8301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3640" y="1341000"/>
            <a:ext cx="83343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833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4240" y="1773360"/>
            <a:ext cx="794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 осуществляется медицинскими работниками стационарного отделения скорой медицинской помощи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8 г. по сравнению с 2017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числу автомоби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840" y="142884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  1____________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4759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 5453 необходимо сравнить с данными предыдущего отчетного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исоединении  скорой медицинской помощи к центру медицины катастроф показатели работы службы скорой медицинской помощи заполняются в отчетных формах №№ 30, 4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142640"/>
            <a:ext cx="8235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пациента в медицинскую организацию для оказания скорой медицинской помощи в стационарных условиях в стационарном отделении скорой медицинской помощи осуществляется уточнение диагноза, диагностика, динамическое наблюдение и проведение лечебно-диагностических мероприятий на койках скорой медицинской помощи суточного пребывания и, при наличии медицинских показаний, краткосрочное лечение длительностью не более 3 су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8-12-10T20:23:49Z</dcterms:modified>
  <cp:revision>44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