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86A-80F2-4E7C-AB63-7F68690F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D530-0340-4B77-8854-1A6A38EB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46F-7DE2-423F-81A7-01EC187E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507-BE65-4FA1-B490-78B04CD5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776-5E6F-47AB-BDB0-C83CB492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75C-0019-494D-97F0-489756AF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4ED-232D-4D94-9D63-3674D705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A32-24CE-4452-9360-8DB348B0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F0F-BEB9-4F4A-B1AF-D4C422AB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1FE-60B0-4B74-A862-5231CAB7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BA2F-8052-48D9-ABCA-295AB8EC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CD6-E508-451B-BBAD-2C7D5473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E1D-86F3-4E7F-8BAB-14BC4B6C657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357120"/>
            <a:ext cx="77929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№ 14 дс «Сведения о деятельности дневных стационаров медицинских организаций» за 2018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229600" cy="4664160"/>
        </p:xfrm>
        <a:graphic>
          <a:graphicData uri="http://schemas.openxmlformats.org/drawingml/2006/table">
            <a:tbl>
              <a:tblPr/>
              <a:tblGrid>
                <a:gridCol w="1235160"/>
                <a:gridCol w="42048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614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штатных должностей в дневных стационарах медицинских организаций, оказывающих помощь в стационарных условиях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 = 141.1000.1.03 + 141.1000.2.03 +141.1000.3.0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650.46.04+47.650.51.04+47.660.46.04+47.660.51.04+47.670.46.04+47.670.51.04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650.46.05+47.650.51.05 + 47.660.46.05+47.660.51.05 + 47.670.46.05 +47.67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853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172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162864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заполня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1052640"/>
          <a:ext cx="8640720" cy="5684760"/>
        </p:xfrm>
        <a:graphic>
          <a:graphicData uri="http://schemas.openxmlformats.org/drawingml/2006/table">
            <a:tbl>
              <a:tblPr/>
              <a:tblGrid>
                <a:gridCol w="1295280"/>
                <a:gridCol w="433440"/>
                <a:gridCol w="647640"/>
                <a:gridCol w="647640"/>
                <a:gridCol w="576360"/>
                <a:gridCol w="720720"/>
                <a:gridCol w="718920"/>
                <a:gridCol w="720720"/>
                <a:gridCol w="719280"/>
                <a:gridCol w="720720"/>
                <a:gridCol w="720720"/>
                <a:gridCol w="719280"/>
              </a:tblGrid>
              <a:tr h="44136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-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-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Box 8"/>
          <p:cNvSpPr/>
          <p:nvPr/>
        </p:nvSpPr>
        <p:spPr>
          <a:xfrm>
            <a:off x="3492360" y="4581360"/>
            <a:ext cx="115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2195640" y="494172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2195640" y="5805360"/>
            <a:ext cx="115236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364000" y="4941720"/>
            <a:ext cx="7146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7524720" y="494172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536400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7524720" y="580536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536400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7524720" y="5445000"/>
            <a:ext cx="785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3564000" y="6308640"/>
            <a:ext cx="115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24000" y="1196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 в дневных стационарах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60.46.06. + 47.660.5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7. + 47.660.51.07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8. + 47.660.51.08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8. = 47.660.46.09. + 47.660.5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341360"/>
            <a:ext cx="83008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10. + 47.660.51.10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11. + 47.660.51.11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2. + 47.660.51.12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3. + 47.660.51.13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214280"/>
          <a:ext cx="8229600" cy="4316400"/>
        </p:xfrm>
        <a:graphic>
          <a:graphicData uri="http://schemas.openxmlformats.org/drawingml/2006/table">
            <a:tbl>
              <a:tblPr/>
              <a:tblGrid>
                <a:gridCol w="785880"/>
                <a:gridCol w="58572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64800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-ного 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-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-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Заголовок 1"/>
          <p:cNvSpPr/>
          <p:nvPr/>
        </p:nvSpPr>
        <p:spPr>
          <a:xfrm>
            <a:off x="500040" y="5715000"/>
            <a:ext cx="8329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413000"/>
            <a:ext cx="8301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следует заполнять целыми числ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стационарах на до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зрослых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3. = 47.670.46.06. + 47.670.5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5. = 47.670.46.07. + 47.670.51.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7. = 47.670.46.08. + 47.670.51.0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8. = 47.670.46.09. + 47.670.51.09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стационаров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09. = 47.670.46.10. + 47.670.51.10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196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 контрол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0. = 47.670.46.11. + 47.670.51.11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1. = 47.670.46.12. + 47.670.51.12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в стационарах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100.1.12. = 47.670.46.13. + 47.670.51.13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1500120"/>
            <a:ext cx="795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4920" y="836640"/>
            <a:ext cx="853596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74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268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дневных стационар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1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3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803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8435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№ 413 от 30.12.2002 г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8-12-10T19:14:28Z</dcterms:modified>
  <cp:revision>254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