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date/time&gt;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1017-E3C4-4E86-A6C1-ED43E1D52BE2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F071-7B4B-408B-ABD7-D418FDCFC0D3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317D-AC51-463C-9232-DB4804F7CE2C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5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1763640" y="981000"/>
            <a:ext cx="5904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ВЕДЕНИЯ О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БОЛЕВАЕМОСТИ</a:t>
            </a:r>
            <a:br>
              <a:rPr sz="40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5580000" y="2276640"/>
            <a:ext cx="302436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                       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Иванович                                         Оськов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286000" y="3228840"/>
            <a:ext cx="4572000" cy="31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декабря 2018 года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Москв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4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684360" y="1557360"/>
            <a:ext cx="792000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 – заболеваемость всего населения субъекта РФ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 – заболеваемость сельского населения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а РФ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1325160"/>
            <a:ext cx="78868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НЫЕ МЕДИЦИНСКИЕ ОРГАНИЗАЦ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мер - областной кожно-венерологический диспансер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36480" y="1787400"/>
            <a:ext cx="788688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Овал 5"/>
          <p:cNvSpPr/>
          <p:nvPr/>
        </p:nvSpPr>
        <p:spPr>
          <a:xfrm rot="20304000">
            <a:off x="1100160" y="1961640"/>
            <a:ext cx="1458720" cy="689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굴림"/>
                <a:ea typeface="굴림"/>
              </a:rPr>
              <a:t>ОКВД</a:t>
            </a:r>
            <a:endParaRPr b="1" lang="en-US" sz="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3946680" y="2048040"/>
            <a:ext cx="1981080" cy="485640"/>
          </a:xfrm>
          <a:prstGeom prst="rect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굴림"/>
                <a:ea typeface="굴림"/>
              </a:rPr>
              <a:t>Врачи-дермато-венерологи сотрудники ОКВД</a:t>
            </a:r>
            <a:endParaRPr b="1" lang="en-US" sz="7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792000" y="3562200"/>
            <a:ext cx="2163960" cy="493920"/>
          </a:xfrm>
          <a:prstGeom prst="rect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굴림"/>
                <a:ea typeface="굴림"/>
              </a:rPr>
              <a:t>Врачи-дермато-венерологи сотрудники поликлиники</a:t>
            </a:r>
            <a:endParaRPr b="1" lang="en-US" sz="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" name="Овал 8"/>
          <p:cNvSpPr/>
          <p:nvPr/>
        </p:nvSpPr>
        <p:spPr>
          <a:xfrm>
            <a:off x="1025640" y="4560840"/>
            <a:ext cx="1500120" cy="7412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굴림"/>
                <a:ea typeface="굴림"/>
              </a:rPr>
              <a:t>Заболевания кож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2" name="Овал 9"/>
          <p:cNvSpPr/>
          <p:nvPr/>
        </p:nvSpPr>
        <p:spPr>
          <a:xfrm>
            <a:off x="3436920" y="4056120"/>
            <a:ext cx="963720" cy="5634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굴림"/>
                <a:ea typeface="굴림"/>
              </a:rPr>
              <a:t>ИППП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3" name="Овал 10"/>
          <p:cNvSpPr/>
          <p:nvPr/>
        </p:nvSpPr>
        <p:spPr>
          <a:xfrm>
            <a:off x="6483240" y="2859120"/>
            <a:ext cx="1409760" cy="847800"/>
          </a:xfrm>
          <a:prstGeom prst="ellipse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굴림"/>
                <a:ea typeface="굴림"/>
              </a:rPr>
              <a:t>Заболевания кож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굴림"/>
                <a:ea typeface="굴림"/>
              </a:rPr>
              <a:t>ИППП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8058240" y="4619520"/>
            <a:ext cx="750960" cy="576360"/>
          </a:xfrm>
          <a:prstGeom prst="rect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굴림"/>
                <a:ea typeface="굴림"/>
              </a:rPr>
              <a:t>Форма 12 районов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5218200" y="4619520"/>
            <a:ext cx="760320" cy="576360"/>
          </a:xfrm>
          <a:prstGeom prst="rect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굴림"/>
                <a:ea typeface="굴림"/>
              </a:rPr>
              <a:t>Форма 12 районов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cxnSp>
        <p:nvCxnSpPr>
          <p:cNvPr id="86" name="Прямая со стрелкой 15"/>
          <p:cNvCxnSpPr/>
          <p:nvPr/>
        </p:nvCxnSpPr>
        <p:spPr>
          <a:xfrm>
            <a:off x="2493720" y="2228760"/>
            <a:ext cx="1453320" cy="8640"/>
          </a:xfrm>
          <a:prstGeom prst="straightConnector1">
            <a:avLst/>
          </a:prstGeom>
          <a:ln w="9360">
            <a:solidFill>
              <a:srgbClr val="7575d1"/>
            </a:solidFill>
            <a:miter/>
            <a:tailEnd len="med" type="triangle" w="med"/>
          </a:ln>
        </p:spPr>
      </p:cxnSp>
      <p:cxnSp>
        <p:nvCxnSpPr>
          <p:cNvPr id="87" name="Прямая со стрелкой 19"/>
          <p:cNvCxnSpPr/>
          <p:nvPr/>
        </p:nvCxnSpPr>
        <p:spPr>
          <a:xfrm>
            <a:off x="2238120" y="2471400"/>
            <a:ext cx="1648440" cy="158508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88" name="Прямая со стрелкой 21"/>
          <p:cNvCxnSpPr>
            <a:endCxn id="81" idx="0"/>
          </p:cNvCxnSpPr>
          <p:nvPr/>
        </p:nvCxnSpPr>
        <p:spPr>
          <a:xfrm>
            <a:off x="1265400" y="4056120"/>
            <a:ext cx="481680" cy="50544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89" name="Прямая со стрелкой 23"/>
          <p:cNvCxnSpPr/>
          <p:nvPr/>
        </p:nvCxnSpPr>
        <p:spPr>
          <a:xfrm flipV="1">
            <a:off x="2387160" y="5017680"/>
            <a:ext cx="2831040" cy="4032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90" name="Прямая со стрелкой 26"/>
          <p:cNvCxnSpPr>
            <a:endCxn id="85" idx="1"/>
          </p:cNvCxnSpPr>
          <p:nvPr/>
        </p:nvCxnSpPr>
        <p:spPr>
          <a:xfrm>
            <a:off x="4335480" y="4454280"/>
            <a:ext cx="883440" cy="45468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91" name="Прямая со стрелкой 30"/>
          <p:cNvCxnSpPr/>
          <p:nvPr/>
        </p:nvCxnSpPr>
        <p:spPr>
          <a:xfrm flipV="1">
            <a:off x="1265400" y="2700000"/>
            <a:ext cx="414720" cy="86256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92" name="Прямая со стрелкой 32"/>
          <p:cNvCxnSpPr/>
          <p:nvPr/>
        </p:nvCxnSpPr>
        <p:spPr>
          <a:xfrm>
            <a:off x="5934240" y="2506680"/>
            <a:ext cx="910080" cy="402480"/>
          </a:xfrm>
          <a:prstGeom prst="straightConnector1">
            <a:avLst/>
          </a:prstGeom>
          <a:ln w="9360">
            <a:solidFill>
              <a:srgbClr val="7575d1"/>
            </a:solidFill>
            <a:miter/>
            <a:tailEnd len="med" type="triangle" w="med"/>
          </a:ln>
        </p:spPr>
      </p:cxnSp>
      <p:cxnSp>
        <p:nvCxnSpPr>
          <p:cNvPr id="93" name="Прямая со стрелкой 34"/>
          <p:cNvCxnSpPr/>
          <p:nvPr/>
        </p:nvCxnSpPr>
        <p:spPr>
          <a:xfrm>
            <a:off x="7543440" y="3619440"/>
            <a:ext cx="694440" cy="1000800"/>
          </a:xfrm>
          <a:prstGeom prst="straightConnector1">
            <a:avLst/>
          </a:prstGeom>
          <a:ln w="9360">
            <a:solidFill>
              <a:srgbClr val="7575d1"/>
            </a:solidFill>
            <a:miter/>
            <a:tailEnd len="med" type="triangle" w="med"/>
          </a:ln>
        </p:spPr>
      </p:cxnSp>
      <p:sp>
        <p:nvSpPr>
          <p:cNvPr id="94" name="Прямоугольник 35"/>
          <p:cNvSpPr/>
          <p:nvPr/>
        </p:nvSpPr>
        <p:spPr>
          <a:xfrm>
            <a:off x="7794720" y="2122560"/>
            <a:ext cx="720720" cy="57780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굴림"/>
                <a:ea typeface="굴림"/>
              </a:rPr>
              <a:t>Форма 12 субъекта РФ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cxnSp>
        <p:nvCxnSpPr>
          <p:cNvPr id="95" name="Прямая со стрелкой 37"/>
          <p:cNvCxnSpPr/>
          <p:nvPr/>
        </p:nvCxnSpPr>
        <p:spPr>
          <a:xfrm flipV="1">
            <a:off x="7294320" y="2471400"/>
            <a:ext cx="500760" cy="388080"/>
          </a:xfrm>
          <a:prstGeom prst="straightConnector1">
            <a:avLst/>
          </a:prstGeom>
          <a:ln w="9360">
            <a:solidFill>
              <a:srgbClr val="7575d1"/>
            </a:solidFill>
            <a:miter/>
            <a:tailEnd len="med" type="triangle" w="med"/>
          </a:ln>
        </p:spPr>
      </p:cxnSp>
      <p:sp>
        <p:nvSpPr>
          <p:cNvPr id="96" name="Прямоугольник 38"/>
          <p:cNvSpPr/>
          <p:nvPr/>
        </p:nvSpPr>
        <p:spPr>
          <a:xfrm>
            <a:off x="6483240" y="5122800"/>
            <a:ext cx="811440" cy="69048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굴림"/>
                <a:ea typeface="굴림"/>
              </a:rPr>
              <a:t>Форма 12 субъекта РФ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cxnSp>
        <p:nvCxnSpPr>
          <p:cNvPr id="97" name="Прямая со стрелкой 41"/>
          <p:cNvCxnSpPr>
            <a:endCxn id="96" idx="0"/>
          </p:cNvCxnSpPr>
          <p:nvPr/>
        </p:nvCxnSpPr>
        <p:spPr>
          <a:xfrm>
            <a:off x="5978160" y="4726080"/>
            <a:ext cx="910440" cy="39744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98" name="Прямая со стрелкой 43"/>
          <p:cNvCxnSpPr/>
          <p:nvPr/>
        </p:nvCxnSpPr>
        <p:spPr>
          <a:xfrm>
            <a:off x="5978520" y="4908240"/>
            <a:ext cx="559080" cy="21492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99" name="Прямая со стрелкой 45"/>
          <p:cNvCxnSpPr/>
          <p:nvPr/>
        </p:nvCxnSpPr>
        <p:spPr>
          <a:xfrm>
            <a:off x="5978520" y="5017680"/>
            <a:ext cx="505440" cy="28440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100" name="Прямая со стрелкой 47"/>
          <p:cNvCxnSpPr>
            <a:endCxn id="96" idx="1"/>
          </p:cNvCxnSpPr>
          <p:nvPr/>
        </p:nvCxnSpPr>
        <p:spPr>
          <a:xfrm>
            <a:off x="5786280" y="5202360"/>
            <a:ext cx="697680" cy="26568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101" name="Прямая со стрелкой 49"/>
          <p:cNvCxnSpPr/>
          <p:nvPr/>
        </p:nvCxnSpPr>
        <p:spPr>
          <a:xfrm>
            <a:off x="5324040" y="5202360"/>
            <a:ext cx="1159560" cy="45288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684360" y="1557360"/>
            <a:ext cx="8208720" cy="30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чета показателей заболеваемости населения района обслуживания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, чтобы  форма 12 была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а по всем строкам.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6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49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менения в форме 12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 2018 год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9" name="Прямоугольник 37"/>
          <p:cNvSpPr/>
          <p:nvPr/>
        </p:nvSpPr>
        <p:spPr>
          <a:xfrm>
            <a:off x="539640" y="549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24000" y="1204920"/>
          <a:ext cx="8640720" cy="3429000"/>
        </p:xfrm>
        <a:graphic>
          <a:graphicData uri="http://schemas.openxmlformats.org/drawingml/2006/table">
            <a:tbl>
              <a:tblPr/>
              <a:tblGrid>
                <a:gridCol w="2303280"/>
                <a:gridCol w="660600"/>
                <a:gridCol w="785520"/>
                <a:gridCol w="500040"/>
                <a:gridCol w="642960"/>
                <a:gridCol w="642960"/>
                <a:gridCol w="569880"/>
                <a:gridCol w="500040"/>
                <a:gridCol w="714600"/>
                <a:gridCol w="571320"/>
                <a:gridCol w="749520"/>
              </a:tblGrid>
              <a:tr h="182520"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аименование классов и отдельных болезней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трок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Код 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о МКБ-1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ересмотра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нято с диспан-серного наблю-дения 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сего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 (из гр. 4):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заболеваний с впервые в жизни установленным диагнозом (из гр. 9):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ное наблю-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 впервые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жизни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установ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ленным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ыявлено при проф-осмотре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ыявлено  при  диспан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еризации определенных групп взрослого населения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굴림"/>
              </a:rPr>
              <a:t>В таблицы 1000, 2000, 3000, 4000 добавлена строк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4000" y="4653000"/>
          <a:ext cx="8640720" cy="2012760"/>
        </p:xfrm>
        <a:graphic>
          <a:graphicData uri="http://schemas.openxmlformats.org/drawingml/2006/table">
            <a:tbl>
              <a:tblPr/>
              <a:tblGrid>
                <a:gridCol w="2447640"/>
                <a:gridCol w="505080"/>
                <a:gridCol w="790560"/>
                <a:gridCol w="504720"/>
                <a:gridCol w="647640"/>
                <a:gridCol w="647640"/>
                <a:gridCol w="576360"/>
                <a:gridCol w="504720"/>
                <a:gridCol w="719280"/>
                <a:gridCol w="576360"/>
                <a:gridCol w="720720"/>
              </a:tblGrid>
              <a:tr h="182520">
                <a:tc>
                  <a:txBody>
                    <a:bodyPr lIns="44640" rIns="4464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-Е14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44640" rIns="4464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го: 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ажением глаз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.3, Е11.3,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2.3, Е13.3,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4.3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44640" rIns="4464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 поражением почек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2.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10.2, Е11.2,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12.2, Е13.2,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14.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го (из стр. 5.2):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ипа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2.3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0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4640" rIns="4464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ипа    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2.4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1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4640" rIns="4464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функция гипофиза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2</a:t>
                      </a: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4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064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бавлены таблицы 1003, 2003, 3003, 4003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 числа пациентов, состоящих на конец года под диспансерным наблюдением (гр. 15): состоит под диспансерным наблюдением лиц с хроническим вирусным гепатитом (В18) и циррозом печени (К74.6) одновременно  1 ________ чел.;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 хроническим вирусным гепатитом (В18) и гепатоцеллюлярным раком (С22.0) одновременно  2 ________ че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064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формы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395280" y="692280"/>
            <a:ext cx="83534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2 формируется по 6 разделам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(0-14 лет включительно) - 1000, 1001, 1002,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00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1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ервого года жизни - 1500, 1600, 1650, 1700, 1800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00, 2001,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00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1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более) - 3000, 3002,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00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1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 старше  трудоспособного  возраста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 55 лет  у женщин и 60 лет у мужчин) - 4000, 4001,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00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изация студентов высших учебных заведений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5000, 51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395280" y="1557360"/>
            <a:ext cx="835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ы - 1000, 1001, 1002, 1100, 1700, 1800, 1900, 2000, 2001,  2100,  3000,  3002,  3100,  4000,  4001,  4100, 5000, 5100 собираются  сведения  о  пациентах с 01 января по 31 декабря 2018 года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таблицы 1500, 1600, 1650 собираются  сведения  о  паци-ентах, которые родились с 01 января по 31 декабря 2017 года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468360" y="119700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году (+ и -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графам 5+6 в таблице 1000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течение года, из графы 4 «всего» (+ и -)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Прямоугольник 20"/>
          <p:cNvSpPr/>
          <p:nvPr/>
        </p:nvSpPr>
        <p:spPr>
          <a:xfrm>
            <a:off x="900000" y="1557360"/>
            <a:ext cx="7775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ИСЛЕ ЗАБОЛЕВАНИЙ, ЗАРЕГИСТРИРОВАННЫХ У                   ПАЦИЕНТОВ, ПРОЖИВАЮЩИХ          В РАЙОНЕ ОБСЛУЖИВАНИЯ                МЕДИЦИНСКОЙ ОРГАНИЗАЦИИ </a:t>
            </a:r>
            <a:br>
              <a:rPr sz="9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 2018 год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3" name="Прямоугольник 21"/>
          <p:cNvSpPr/>
          <p:nvPr/>
        </p:nvSpPr>
        <p:spPr>
          <a:xfrm>
            <a:off x="1332000" y="620640"/>
            <a:ext cx="67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ИСТИЧЕСКОЕ НАБЛЮДЕНИ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539640" y="765000"/>
            <a:ext cx="82090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0 - взято под диспансерное наблюдение в течение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а (+) , из графы 9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1 – выявлено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перв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профосмотре, из графы 9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2 – выявлено  при  диспансеризации определен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 взрослого населения, из графы 9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таблице 2000 - выявлено  при  диспансеризац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4 – снято с диспансерного наблюдения (по всем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е место жительства и др.)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15 – состоит под диспансерным наблюдением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 отчетного года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ы 7,13,16-в таблице 2000 –все данные о юнош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250920" y="2421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8 трактовка 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изменена !!!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395280" y="-5883480"/>
            <a:ext cx="8280360" cy="12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(переходные дети в подростки) + (впервые взятые на Д-учет в текущем году) + (вновь 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(переходные подростки во взрослые) + (впервые взятые на Д-учет в текущем году) + (вновь 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+ (переходные из подростков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468360" y="162864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а 14 – снято с диспансерного наблюдения (по 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ругое место жительства и др.)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еход в другую возрастную группу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входит в графу 14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250920" y="2060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всем строкам таблиц 1000, 2000, 3000, 4000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из графы 8 минус графа 14 равно графе 15,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том числе и строкам раздела 6.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250920" y="206064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500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250920" y="2060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дицинская организация заполняет таблицу 1500 на детей, которые проживают на территории обслуживания и им исполнился год (в т.ч. умершие). 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611280" y="191628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список учреждений представляющих форму 12 и соответственно исключить возможность дублирование данных в таблице 150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1116000" y="765000"/>
            <a:ext cx="684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ти первого года жизни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500)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5280" y="1197000"/>
          <a:ext cx="8496360" cy="5329080"/>
        </p:xfrm>
        <a:graphic>
          <a:graphicData uri="http://schemas.openxmlformats.org/drawingml/2006/table">
            <a:tbl>
              <a:tblPr/>
              <a:tblGrid>
                <a:gridCol w="2484360"/>
                <a:gridCol w="470160"/>
                <a:gridCol w="631800"/>
                <a:gridCol w="550800"/>
                <a:gridCol w="549360"/>
                <a:gridCol w="612720"/>
                <a:gridCol w="745920"/>
                <a:gridCol w="747720"/>
                <a:gridCol w="584280"/>
                <a:gridCol w="501480"/>
                <a:gridCol w="617760"/>
              </a:tblGrid>
              <a:tr h="274680"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ере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24480" rIns="24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заболеваний с впервые в жизни установленным диагнозом 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возраст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о 1 мес.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установ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агно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ыявле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екоторые инфекционные и паразитарные боле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00-В9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24480" rIns="2448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кишечные инфекци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.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00-А0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менингококковая инфекц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.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3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овообразова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3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00-D4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24480" rIns="24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болезни мочеполовой системы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N00-N9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отдельные состояния, возникающие в перинатальном период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7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P05-P9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468360" y="23493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анная таблица не сравнивается с  другими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аблицами  формы 12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другими формами годового отчета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5" name="Прямоугольник 31"/>
          <p:cNvSpPr/>
          <p:nvPr/>
        </p:nvSpPr>
        <p:spPr>
          <a:xfrm>
            <a:off x="468360" y="8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395280" y="907920"/>
            <a:ext cx="83534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болеваний, зарегистрированных  у  паци-ентов, проживающих в районе обслуживания медицинск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», составляется всеми медицинскими организаци-ями, входящие в номенклатуру медицинских организаци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 медицинскую  помощь  в  амбулаторных  усло-вия (приказ Минздрава  России  от 6  августа  2013 г.  № 529н «Об утверждении номенклатуры медицинских организаций»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егистрирован Министерством юстиции Российск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13.09.2013 № 29950), в соответствии с приказом от 21 июля 2016 года № 355 «Об утверждении статистическо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ария для организации Министерств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Российской Федерации федерального статис-тического  наблюдения  в  сфере охраны здоровья» Федераль-ной службы государственной статистики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1476360" y="1700280"/>
            <a:ext cx="5975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на начало года по всем строкам 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графа 8 = графе 1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8"/>
          <p:cNvSpPr/>
          <p:nvPr/>
        </p:nvSpPr>
        <p:spPr>
          <a:xfrm>
            <a:off x="91116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9" name="Прямоугольник 7"/>
          <p:cNvSpPr/>
          <p:nvPr/>
        </p:nvSpPr>
        <p:spPr>
          <a:xfrm>
            <a:off x="611280" y="549360"/>
            <a:ext cx="7993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таблицы 1500, 1600, 1650 вносится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формация о детях, которым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2018 году исполнился один год.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ответственно родились они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 01.01.2017 по 31.12.2017 года.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684360" y="907920"/>
            <a:ext cx="806436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5 таблицы 1500 представляется информация о заболеваниях детей первого месяца жизни из графы 4  (заболевания детей первого года жизни - всего). 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В графе 14 представляется информация о выздоровевших и умерших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ехавшие дети в данной графе не учитываются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В графе 15 представляется информация о детях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щих под диспансерном  наблюдением по заболеванию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611280" y="836640"/>
            <a:ext cx="79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я родился 01 января 2017 года. Год ему исполнился 01 января 2018 года. Федя болел в течение этого, первого года (с 01 января по 31 декабря 2017 года), своей жизни и все заболевания, которыми он болел, Вы покажете в таблице 1500 формы 12 в графах 4 и 9 (и по остальным графам) за 2018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Федя болел и в первый месяц  своей жизни с 01 января по 31 января 2017 года и все его заболевания Вы покажете в таблице 1500 формы 12 графе 5 за 2018 год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оме этого Вы покажете все заболевания Феди с 01 января 2018 года по 31 декабря 2018 года в таблице 1000 формы 12 по всем графам за 2018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684360" y="981000"/>
            <a:ext cx="78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я родился 31 декабря 2017 года. Год ему исполнился 31 декабря 2018 года. Коля болел в течение этого, первого года (с 31 декабря 2017 года по 30 декабря 2018 года), своей жизни и все заболевания, которыми он болел, Вы покажете в таблице 1500 формы 12 в графах 4 и 9 (и по остальным графам) за 2018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Коля болел и в первый месяц  своей жизни с 31 декабря 2017 года по 30 января 2018 года и все его заболевания  Вы  покажете в таблице 1500 формы 12 графе 5 за 2018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роме этого Вы покажете все заболевания Коли с 01 января 2018 года по 31 декабря 2018 года в таблице 1000 формы 12 по всем графам за 2018 го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324000" y="1484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47000"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ервого года жизн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, влияющие на состояние здоровья населения и обращения в медицинские организаци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профилактической и иными целями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600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755640" y="1484280"/>
          <a:ext cx="7777080" cy="4971960"/>
        </p:xfrm>
        <a:graphic>
          <a:graphicData uri="http://schemas.openxmlformats.org/drawingml/2006/table">
            <a:tbl>
              <a:tblPr/>
              <a:tblGrid>
                <a:gridCol w="4403880"/>
                <a:gridCol w="814320"/>
                <a:gridCol w="969840"/>
                <a:gridCol w="793800"/>
                <a:gridCol w="795240"/>
              </a:tblGrid>
              <a:tr h="165240">
                <a:tc rowSpan="2"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вторны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00-Z9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для медицинского осмотра и обследования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00-Z1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обращения в связи с получением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документов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.7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с инфекционными болезням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20-Z2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осительство возбудителя инфекционной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в связи с обстоятельствами, относящимися к репродуктивной функци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30-Z3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в связи с необходимостью проведения специфических процедур и получения медицинской помощ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40-Z5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ь, включающая использова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билитационных процедур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5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51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с социально-экономическими и психосоциальными обстоятельствам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55-Z6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в связи с другими обстоятельствами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70-Z7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блемы, связанные с образом жизн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.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7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 с личным или семейным анамнезом и определенными обстоятельствами, влияющими на здоровь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80-Z9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болевания в семейном анамнез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80-Z8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илеостомы, колостомы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.2, 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.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916280"/>
            <a:ext cx="82296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굴림"/>
              </a:rPr>
              <a:t>(1650)</a:t>
            </a: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                                                                                  Код по ОКЕИ: человек – 792</a:t>
            </a: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Из стр. 1.7.1.1. таблицы 1600: обследовано на выявление кондуктивной и нейросенсорной потери слуха   1 ___________.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таблицы 1500, 1600, 1650 вносится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формация о детях, которым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2018 году исполнился один год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ответственно родились они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 01.01.2017 по 31.12.2017 года.</a:t>
            </a:r>
            <a:br>
              <a:rPr sz="10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324000" y="69228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00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оворожденных, поступивших под наблюдение данной организации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 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700280"/>
          <a:ext cx="8569080" cy="2468520"/>
        </p:xfrm>
        <a:graphic>
          <a:graphicData uri="http://schemas.openxmlformats.org/drawingml/2006/table">
            <a:tbl>
              <a:tblPr/>
              <a:tblGrid>
                <a:gridCol w="4479840"/>
                <a:gridCol w="4089240"/>
              </a:tblGrid>
              <a:tr h="10976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(1800)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Осмотрено новорожденных на 1 этапе аудиологического скрининга  1 _________, 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: выявлено с нарушениями слуха  2 ___________,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96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числа выявленных с нарушением слуха на I этапе аудиологического скрининга обследовано на 2 этапе аудиологического скрининга  3 _________,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: выявлено с нарушениями слуха  4 ___________,</a:t>
                      </a:r>
                      <a:endParaRPr b="1" lang="en-US" sz="18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Прямоугольник 4"/>
          <p:cNvSpPr/>
          <p:nvPr/>
        </p:nvSpPr>
        <p:spPr>
          <a:xfrm>
            <a:off x="324000" y="4292640"/>
            <a:ext cx="842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0)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новорожденных поступивших под наблюдение (табл. 1700)  обследовано на: фенилкетонурию   5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ожденный гипотиреоз  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 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ногенитальный синдром   7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актоземию   8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  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ковисцидоз   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_ 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1476360" y="5805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Таблицы заполняются за 2018 год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9" name="Прямоугольник 2"/>
          <p:cNvSpPr/>
          <p:nvPr/>
        </p:nvSpPr>
        <p:spPr>
          <a:xfrm>
            <a:off x="250920" y="206064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1" name="Прямоугольник 2"/>
          <p:cNvSpPr/>
          <p:nvPr/>
        </p:nvSpPr>
        <p:spPr>
          <a:xfrm>
            <a:off x="2286000" y="765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0)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5280" y="1125360"/>
          <a:ext cx="8424720" cy="4044960"/>
        </p:xfrm>
        <a:graphic>
          <a:graphicData uri="http://schemas.openxmlformats.org/drawingml/2006/table">
            <a:tbl>
              <a:tblPr/>
              <a:tblGrid>
                <a:gridCol w="1606680"/>
                <a:gridCol w="482400"/>
                <a:gridCol w="541440"/>
                <a:gridCol w="465120"/>
                <a:gridCol w="463680"/>
                <a:gridCol w="541080"/>
                <a:gridCol w="540000"/>
                <a:gridCol w="542880"/>
                <a:gridCol w="620640"/>
                <a:gridCol w="622440"/>
                <a:gridCol w="465120"/>
                <a:gridCol w="463320"/>
                <a:gridCol w="622440"/>
                <a:gridCol w="447480"/>
              </a:tblGrid>
              <a:tr h="18900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(из гр. 10)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굴림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7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Прямоугольник 4"/>
          <p:cNvSpPr/>
          <p:nvPr/>
        </p:nvSpPr>
        <p:spPr>
          <a:xfrm>
            <a:off x="468360" y="530064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едует читать -  выявлено при диспансеризации</a:t>
            </a:r>
            <a:br>
              <a:rPr sz="1800"/>
            </a:b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1 - из заболеваний с впервые в жизни установленным диагнозом  (из гр. 10) юноши (гр. 13) –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едует читать - из заболеваний с впервые в жизни установленным диагнозом (из гр. 9) юноши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468360" y="836640"/>
            <a:ext cx="82072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, имеющая в своем составе подразде-ления,  оказывающие медицинскую помощь в амбу-латорных условиях и ведущая только консультатив-ный прием, составляет форму по соответствующим строкам лишь в том случае, если в данной организа-ции у пациентов  не только выявляются  эти заболе-вания, но  и осуществляется их лечение,  а также  и диспансерное наблюдение за пациентами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5" name="Прямоугольник 2"/>
          <p:cNvSpPr/>
          <p:nvPr/>
        </p:nvSpPr>
        <p:spPr>
          <a:xfrm>
            <a:off x="395280" y="155736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с впервые в жизни ..» (гр.9) – «из заболеваний … юноши»  (гр.13) = «девушки впервые»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девушки впервые»  -  не должно быть отрицатель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начений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755640" y="2492280"/>
            <a:ext cx="756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1280" y="1246320"/>
          <a:ext cx="7993080" cy="442116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514440"/>
                <a:gridCol w="441360"/>
                <a:gridCol w="439560"/>
                <a:gridCol w="514440"/>
                <a:gridCol w="512640"/>
                <a:gridCol w="514440"/>
                <a:gridCol w="588960"/>
                <a:gridCol w="590400"/>
                <a:gridCol w="439920"/>
                <a:gridCol w="441360"/>
                <a:gridCol w="588960"/>
                <a:gridCol w="425520"/>
              </a:tblGrid>
              <a:tr h="12204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10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8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 предстатель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40-N4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окачественная дисплаз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ч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алительные болезни женских тазовых орган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70-N73,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75-N7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560" rIns="4356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альпингит и оофор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7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дометриоз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розия и эктропион шейки матк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8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580536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данным строкам – девушек нет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64753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2" name="Прямоугольник 2"/>
          <p:cNvSpPr/>
          <p:nvPr/>
        </p:nvSpPr>
        <p:spPr>
          <a:xfrm>
            <a:off x="755640" y="2492280"/>
            <a:ext cx="756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684360" y="170028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6" name="Прямоугольник 2"/>
          <p:cNvSpPr/>
          <p:nvPr/>
        </p:nvSpPr>
        <p:spPr>
          <a:xfrm>
            <a:off x="468360" y="765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заполнения формы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го статистического наблюдения №12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7" name="Прямоугольник 3"/>
          <p:cNvSpPr/>
          <p:nvPr/>
        </p:nvSpPr>
        <p:spPr>
          <a:xfrm>
            <a:off x="539640" y="386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9" name="Прямоугольник 2"/>
          <p:cNvSpPr/>
          <p:nvPr/>
        </p:nvSpPr>
        <p:spPr>
          <a:xfrm>
            <a:off x="395280" y="1341360"/>
            <a:ext cx="84247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-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е 4 – всего, и только вновь выявленная в текущем году в </a:t>
            </a:r>
            <a:br>
              <a:rPr sz="2200"/>
            </a:b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вичной  заболеваемости  (графы 9 и 11  у  подростков, графа 9 у взрослых) соответствующих  таблиц.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1" name="Прямоугольник 2"/>
          <p:cNvSpPr/>
          <p:nvPr/>
        </p:nvSpPr>
        <p:spPr>
          <a:xfrm>
            <a:off x="539640" y="1268280"/>
            <a:ext cx="80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-ных, поступивших в стационар, минуя поликлини-ку, следует включать в отчёт на общих основаниях.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талон может быть заполнен в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дан в поликлини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 заполнен в поликли-нике на основании выписки из карты стационарно-го больного.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3" name="Прямоугольник 2"/>
          <p:cNvSpPr/>
          <p:nvPr/>
        </p:nvSpPr>
        <p:spPr>
          <a:xfrm>
            <a:off x="755640" y="1052640"/>
            <a:ext cx="7777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-клинику, в больницу, то «Талон  амбулаторного пациента» (далее - Талон) заполняют в поликлинике после выписки пациента из стациона-ра на основании "Выписного эпикриза". При этом если пациент при-шел на прием, то в Талоне производится отметка о регистрации всех заболеваний для включения этих сведений в форму федераль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  статистического наблюдения № 12 и вносится  отметка о посе-щении. Если пациент на прием не  пришел, то в  Талоне регистриру-ются все заболевания без отметки о посещении. В Талоне такж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 быть зарегистрировано  обращение  по поводу  заболевания, включающее в себя одно или несколько посещений, в результат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х цель обращения достигнута. При  заполнении  Талона врач  также делает отметки о дате впервые выявленного основного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а. Эта данные необходимы для заполнения формы федерального статистического наблюдения № 12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611280" y="119700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случай острого заболевания заре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стрированный в текущем году не подлежит пере-регистрации в следующем. В заболевае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ь не следует включать заболевания, коды кото-рых отмечены «звездочкой» (альтерна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вные), используемые только для специаль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х разработок по проявлениям основног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 и только вместе с кодом основ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 заболевания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755640" y="105264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острые  заболевания  и состояния (напри-мер: острый отит, острый миокардит, острые  респиратор-ные  инфекции  верхних и  нижних  дыхательных  путей,  грипп, а  также  травмы,  за  исключением  по следствий и др.) регистрируются столько раз, сколько они возникают в течение отчетного года. При этом графа 4 должна быть ра-вна  графе  9  по  соответствующим  строкам  таблиц 1000, 1500, 2000, 3000 и  4000.  На  начало года по данным стро-кам 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" name="Прямоугольник 32"/>
          <p:cNvSpPr/>
          <p:nvPr/>
        </p:nvSpPr>
        <p:spPr>
          <a:xfrm>
            <a:off x="468360" y="692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611280" y="198900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ый  отчет  включаются сведения   об  общем числе зарегистрированных в данном учреждении у пациентов  за-болеваний и о больных с заболеваниями, по поводу которых осуществляется диспансеризация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684360" y="1341360"/>
            <a:ext cx="80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сверять данные отдельных строк с профильными специалистами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684360" y="278136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МСТВЕННОСТЬ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1116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68360" y="1773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2.1, 10.1, 10.4.1.1, 10.4.2, 10.4.3, 10.4.4, 10.5.1, 10.5.2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5.3, 10.6.1, 10.6.2, 10.6.3, 10.6.4, 10.6.7, 11.1, 11.1.1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1.2, 11.2, 11.3, 11.4, 17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строке 20.0 может быть неравенство на коды Т90-Т98, больных вибрационной болезнью (др. профзаболевания) и больных получающих лечение по травме больше год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 и треб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го     поясне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 2.2,  7.1,  7.1.1,  7.1.2,  12.9.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굴림"/>
              </a:rPr>
              <a:t>(1001 2001, 3001, 4001)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Код по ОКЕИ: человек – 792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Число физических лиц зарегистрированных пациентов – всего  1____________, из них с диагнозом, установленным впервые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в жизни  2 _______,  состоит под диспансерным наблюдением на конец отчетного года (из гр. 15, стр. 1.0)  3_________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 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 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 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굴림"/>
              </a:rPr>
              <a:t>(1002)                            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Код по ОКЕИ: человек – 792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Состоит под диспансерным наблюдением на конец отчетного года (из стр. 1.0 гр. 15) детей  в возрасте: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굴림"/>
              </a:rPr>
              <a:t>0-4 года   1 __________,   5-9 лет    2  _________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 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 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굴림"/>
              </a:rPr>
              <a:t>  </a:t>
            </a:r>
            <a:br>
              <a:rPr sz="1000"/>
            </a:br>
            <a:r>
              <a:rPr b="1" lang="ru-RU" sz="1000" spc="-1" strike="noStrike">
                <a:solidFill>
                  <a:srgbClr val="ff0000"/>
                </a:solidFill>
                <a:latin typeface="굴림"/>
              </a:rPr>
              <a:t>(1003, 2003, 3003, 4003) </a:t>
            </a:r>
            <a:r>
              <a:rPr b="1" lang="ru-RU" sz="1000" spc="-1" strike="noStrike">
                <a:solidFill>
                  <a:srgbClr val="ff0000"/>
                </a:solidFill>
                <a:latin typeface="굴림"/>
              </a:rPr>
              <a:t>	</a:t>
            </a:r>
            <a:r>
              <a:rPr b="1" lang="ru-RU" sz="1000" spc="-1" strike="noStrike">
                <a:solidFill>
                  <a:srgbClr val="ff0000"/>
                </a:solidFill>
                <a:latin typeface="굴림"/>
              </a:rPr>
              <a:t>                                                           </a:t>
            </a:r>
            <a:r>
              <a:rPr b="1" lang="ru-RU" sz="1000" spc="-1" strike="noStrike">
                <a:solidFill>
                  <a:srgbClr val="ff0000"/>
                </a:solidFill>
                <a:latin typeface="굴림"/>
              </a:rPr>
              <a:t>	</a:t>
            </a:r>
            <a:r>
              <a:rPr b="1" lang="ru-RU" sz="1000" spc="-1" strike="noStrike">
                <a:solidFill>
                  <a:srgbClr val="ff0000"/>
                </a:solidFill>
                <a:latin typeface="굴림"/>
              </a:rPr>
              <a:t>	</a:t>
            </a:r>
            <a:r>
              <a:rPr b="1" lang="ru-RU" sz="1000" spc="-1" strike="noStrike">
                <a:solidFill>
                  <a:srgbClr val="ff0000"/>
                </a:solidFill>
                <a:latin typeface="굴림"/>
              </a:rPr>
              <a:t>                  </a:t>
            </a:r>
            <a:r>
              <a:rPr b="0" lang="ru-RU" sz="1000" spc="-1" strike="noStrike">
                <a:solidFill>
                  <a:srgbClr val="ff0000"/>
                </a:solidFill>
                <a:latin typeface="굴림"/>
              </a:rPr>
              <a:t>Код по ОКЕИ: человек – 792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ff0000"/>
                </a:solidFill>
                <a:latin typeface="굴림"/>
              </a:rPr>
              <a:t>Из числа пациентов, состоящих на конец года под диспансерным наблюдением (гр. 15): состоит под диспансерным наблюдением лиц</a:t>
            </a:r>
            <a:br>
              <a:rPr sz="1000"/>
            </a:br>
            <a:r>
              <a:rPr b="0" lang="ru-RU" sz="1000" spc="-1" strike="noStrike">
                <a:solidFill>
                  <a:srgbClr val="ff0000"/>
                </a:solidFill>
                <a:latin typeface="굴림"/>
              </a:rPr>
              <a:t>с хроническим вирусным гепатитом (В18) и циррозом печени (К74.6) одновременно  1 ________ чел.; с хроническим вирусным </a:t>
            </a:r>
            <a:br>
              <a:rPr sz="1000"/>
            </a:br>
            <a:r>
              <a:rPr b="0" lang="ru-RU" sz="1000" spc="-1" strike="noStrike">
                <a:solidFill>
                  <a:srgbClr val="ff0000"/>
                </a:solidFill>
                <a:latin typeface="굴림"/>
              </a:rPr>
              <a:t>гепатитом (В18) и гепатоцеллюлярным раком (С22.0) одновременно  2 ________ чел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900000" y="1628640"/>
            <a:ext cx="75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. Некоторые инфекционные и паразитарные болезни. А00-И9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0-D48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0" name="Прямоугольник 2"/>
          <p:cNvSpPr/>
          <p:nvPr/>
        </p:nvSpPr>
        <p:spPr>
          <a:xfrm>
            <a:off x="468360" y="306864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.2 включает в себя коды D65-D69 и включает в себя тромбоцитопени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цитопатии, аллергический васкулит (код D69.X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3. Болезни крови, кроветворных органов и отдельные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, вовлекающие иммунный механизм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50-D8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826920" y="1341360"/>
            <a:ext cx="79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4. Болезни эндокринной системы, расстройства питания и наруше-ния обмена веществ. Е00-Е9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-никновения нанизма (карликовости)  могут  быть различны, соответственно  и кодировать  его  нужно  по-разному. Пример:  гипопитуитаризм вызванный ле-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755640" y="213372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 5. Психические расстройства и расстройства поведения.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ы 4, 9, 15 формы 12 равны соответствующим графам и строка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 10, 11, 36, 37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поряжение МЗ РФ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684360" y="220500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2 будет приниматься при равенств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 4, 9, 15 с формами по психиатри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логии и с обязательным движением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й группы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9" name="Прямоугольник 1"/>
          <p:cNvSpPr/>
          <p:nvPr/>
        </p:nvSpPr>
        <p:spPr>
          <a:xfrm>
            <a:off x="755640" y="1989000"/>
            <a:ext cx="77770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 6.1 + стр 6.2 = стр 6.0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?????????????????????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 6.0 – стр 6.1 = формы 10, 36</a:t>
            </a:r>
            <a:br>
              <a:rPr sz="28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4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179280" y="1341360"/>
            <a:ext cx="871380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включают один раз в год сведения об основном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овом,  конкурирующем  и сопутствующем заболеваниях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не включают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, имеющие  два  и более  заболевания, показываются по   соответствующим   строкам  по   числу   выявленных   и   зарегистрированных  заболеваний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140328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6. Болезни нервной системы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00-G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684360" y="19162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и регуляции сердечно-сосудистой, дыхательной и др. систем организма, м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т быть синдромом таких заболеваний, как: гипертоническая болезнь, хроническа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шемическа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сердца, эндокринные нарушения и т.д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случа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т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и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е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йств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гетативной нервной системы кодируются G90.8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формна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функция вегетати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й нервной системы F45.3 (диагноз ставит психиатр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7.6 и 7.9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ьш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рочников. 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исьмо МЗиСР РФ от 26 апреля 2011 г. №14-9/10/2-4150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4" name="Прямоугольник 1"/>
          <p:cNvSpPr/>
          <p:nvPr/>
        </p:nvSpPr>
        <p:spPr>
          <a:xfrm>
            <a:off x="755640" y="549360"/>
            <a:ext cx="77770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-윤고딕140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0000ff"/>
                </a:solidFill>
                <a:latin typeface="-윤고딕140"/>
              </a:rPr>
              <a:t>.</a:t>
            </a:r>
            <a:r>
              <a:rPr b="0" lang="ru-RU" sz="1800" spc="-1" strike="noStrike">
                <a:solidFill>
                  <a:srgbClr val="0000ff"/>
                </a:solidFill>
                <a:latin typeface="-윤고딕140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-윤고딕140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6" name="Прямоугольник 1"/>
          <p:cNvSpPr/>
          <p:nvPr/>
        </p:nvSpPr>
        <p:spPr>
          <a:xfrm>
            <a:off x="1476360" y="11239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468360" y="253692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9" name="Прямоугольник 1"/>
          <p:cNvSpPr/>
          <p:nvPr/>
        </p:nvSpPr>
        <p:spPr>
          <a:xfrm>
            <a:off x="1187280" y="1413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8. Болезни уха и сосцевидного отростка. Н60-Н9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0" name="Прямоугольник 2"/>
          <p:cNvSpPr/>
          <p:nvPr/>
        </p:nvSpPr>
        <p:spPr>
          <a:xfrm>
            <a:off x="900000" y="30751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971640" y="90792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00-I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684360" y="2451240"/>
            <a:ext cx="77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5" name="Прямоугольник 1"/>
          <p:cNvSpPr/>
          <p:nvPr/>
        </p:nvSpPr>
        <p:spPr>
          <a:xfrm>
            <a:off x="611280" y="2637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ой гипертензи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67.2; ил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ьный атеросклеро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 талона (I67.2 и  I10) разносятся по двум строкам – стро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трока 10.3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7" name="Прямоугольник 1"/>
          <p:cNvSpPr/>
          <p:nvPr/>
        </p:nvSpPr>
        <p:spPr>
          <a:xfrm>
            <a:off x="611280" y="256536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9" name="Прямоугольник 1"/>
          <p:cNvSpPr/>
          <p:nvPr/>
        </p:nvSpPr>
        <p:spPr>
          <a:xfrm>
            <a:off x="1042920" y="2133720"/>
            <a:ext cx="71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1" name="Прямоугольник 1"/>
          <p:cNvSpPr/>
          <p:nvPr/>
        </p:nvSpPr>
        <p:spPr>
          <a:xfrm>
            <a:off x="900000" y="28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3" name="Прямоугольник 1"/>
          <p:cNvSpPr/>
          <p:nvPr/>
        </p:nvSpPr>
        <p:spPr>
          <a:xfrm>
            <a:off x="755640" y="2637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7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611280" y="1341360"/>
            <a:ext cx="806436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2 заполняется на основании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ой учетной медицинской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ации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5" name="Прямоугольник 1"/>
          <p:cNvSpPr/>
          <p:nvPr/>
        </p:nvSpPr>
        <p:spPr>
          <a:xfrm>
            <a:off x="900000" y="2781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заболеваний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7" name="Прямоугольник 1"/>
          <p:cNvSpPr/>
          <p:nvPr/>
        </p:nvSpPr>
        <p:spPr>
          <a:xfrm>
            <a:off x="1042920" y="2205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8.2 - не включать флебит портальной вены (K75.1</a:t>
            </a:r>
            <a:r>
              <a:rPr b="0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1" name="Прямоугольник 2"/>
          <p:cNvSpPr/>
          <p:nvPr/>
        </p:nvSpPr>
        <p:spPr>
          <a:xfrm>
            <a:off x="1042920" y="29988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0.6.7 заполняются графы 4, 9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билитация!!!!!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1187280" y="1197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0. Болезни органов дыха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00-J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826920" y="2690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6" name="Прямоугольник 2"/>
          <p:cNvSpPr/>
          <p:nvPr/>
        </p:nvSpPr>
        <p:spPr>
          <a:xfrm>
            <a:off x="755640" y="1989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невмония - графа 4 = графе 9, графа 8 = графе 10</a:t>
            </a:r>
            <a:r>
              <a:rPr b="0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900000" y="2276640"/>
            <a:ext cx="73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им строкам графы 4 и 9 таблиц 1000, 2000, 3000 и 4000 равны.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0" name="Прямоугольник 1"/>
          <p:cNvSpPr/>
          <p:nvPr/>
        </p:nvSpPr>
        <p:spPr>
          <a:xfrm>
            <a:off x="1692360" y="112536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00-K93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1" name="Прямоугольник 2"/>
          <p:cNvSpPr/>
          <p:nvPr/>
        </p:nvSpPr>
        <p:spPr>
          <a:xfrm>
            <a:off x="755640" y="278136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3" name="Прямоугольник 1"/>
          <p:cNvSpPr/>
          <p:nvPr/>
        </p:nvSpPr>
        <p:spPr>
          <a:xfrm>
            <a:off x="611280" y="1268280"/>
            <a:ext cx="79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наблюдению множественным прогрессирующим кариесом 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5" name="Прямоугольник 1"/>
          <p:cNvSpPr/>
          <p:nvPr/>
        </p:nvSpPr>
        <p:spPr>
          <a:xfrm>
            <a:off x="1116000" y="119700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2. Болезни кожи и подкожной клетчатки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00-L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1042920" y="2060640"/>
            <a:ext cx="72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3. Болезни костно-мышечной системы и соединительной ткани. М00-М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755640" y="2997360"/>
            <a:ext cx="7632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иоз – М4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755640" y="1484280"/>
            <a:ext cx="7488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форму 12 не включают сведения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 заболеваниях с кодами по МКБ-10, 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меченных  звездочкой (*).</a:t>
            </a:r>
            <a:br>
              <a:rPr sz="24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9" name="Прямоугольник 1"/>
          <p:cNvSpPr/>
          <p:nvPr/>
        </p:nvSpPr>
        <p:spPr>
          <a:xfrm>
            <a:off x="826920" y="1989000"/>
            <a:ext cx="7705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1" name="Прямоугольник 1"/>
          <p:cNvSpPr/>
          <p:nvPr/>
        </p:nvSpPr>
        <p:spPr>
          <a:xfrm>
            <a:off x="826920" y="1844640"/>
            <a:ext cx="8066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-윤고딕140"/>
              </a:rPr>
              <a:t>М42.1</a:t>
            </a:r>
            <a:r>
              <a:rPr b="1" lang="ru-RU" sz="1800" spc="-1" strike="noStrike" u="sng">
                <a:solidFill>
                  <a:srgbClr val="dafbfe"/>
                </a:solidFill>
                <a:uFillTx/>
                <a:latin typeface="-윤고딕140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-윤고딕140"/>
              </a:rPr>
              <a:t>Остеохондроз позвоночника у взрослы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-윤고딕140"/>
              </a:rPr>
              <a:t>Остеохондроз позвоночник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-윤고딕140"/>
              </a:rPr>
              <a:t>клинические рекоменд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-윤고딕140"/>
              </a:rPr>
              <a:t>(М48.0, М 54, М50.0, М50.1, М50.2, М50.3, М50.8, М50.9, М51.0, М51.1, М51.2, М51.3, М51.8, М51.9, М53.2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3" name="Прямоугольник 1"/>
          <p:cNvSpPr/>
          <p:nvPr/>
        </p:nvSpPr>
        <p:spPr>
          <a:xfrm>
            <a:off x="1258920" y="134136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0-N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4" name="Прямоугольник 2"/>
          <p:cNvSpPr/>
          <p:nvPr/>
        </p:nvSpPr>
        <p:spPr>
          <a:xfrm>
            <a:off x="684360" y="261288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ома простаты – N4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6" name="Прямоугольник 1"/>
          <p:cNvSpPr/>
          <p:nvPr/>
        </p:nvSpPr>
        <p:spPr>
          <a:xfrm>
            <a:off x="826920" y="206064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Строка 15.8 - эндометриоз с Д-учёта снимается посмертно или в глубокой менопауз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.9 - расстройства менструаций – на Д-учёт берётся олиго- и аменорея 1, 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8" name="Прямоугольник 1"/>
          <p:cNvSpPr/>
          <p:nvPr/>
        </p:nvSpPr>
        <p:spPr>
          <a:xfrm>
            <a:off x="900000" y="126828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5. Беременность, роды и послеродовый период. О00-О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826920" y="26128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1" name="Прямоугольник 1"/>
          <p:cNvSpPr/>
          <p:nvPr/>
        </p:nvSpPr>
        <p:spPr>
          <a:xfrm>
            <a:off x="900000" y="1052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6. Отдельные состояния, возникающие в перинатальном периоде. Р00-Р96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755640" y="29210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000 коды МКБ-10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-Р9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4" name="Прямоугольник 1"/>
          <p:cNvSpPr/>
          <p:nvPr/>
        </p:nvSpPr>
        <p:spPr>
          <a:xfrm>
            <a:off x="826920" y="1484280"/>
            <a:ext cx="7705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 графа 4 равна графе 9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ков с прошлого года нет (0) т.к. за год формируется патология, которая кодируется другим классом. Данная строка  д.б. 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клинике кодируем только то, что вынесено в диагноз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текстовые описания кодированию не подлеж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6" name="Прямоугольник 1"/>
          <p:cNvSpPr/>
          <p:nvPr/>
        </p:nvSpPr>
        <p:spPr>
          <a:xfrm>
            <a:off x="755640" y="9349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00-Q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7" name="Прямоугольник 2"/>
          <p:cNvSpPr/>
          <p:nvPr/>
        </p:nvSpPr>
        <p:spPr>
          <a:xfrm>
            <a:off x="826920" y="2565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8. Симптомы, признаки и отклонения от нормы, выявленные пр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их и лабораторных исследованиях, не классифицированные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угих рубриках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00-R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8" name="Прямоугольник 3"/>
          <p:cNvSpPr/>
          <p:nvPr/>
        </p:nvSpPr>
        <p:spPr>
          <a:xfrm>
            <a:off x="1042920" y="38750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класса (стр. 19.0), не должны регистрироватьс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0" name="Прямоугольник 1"/>
          <p:cNvSpPr/>
          <p:nvPr/>
        </p:nvSpPr>
        <p:spPr>
          <a:xfrm>
            <a:off x="611280" y="141300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00-T98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1" name="Прямоугольник 2"/>
          <p:cNvSpPr/>
          <p:nvPr/>
        </p:nvSpPr>
        <p:spPr>
          <a:xfrm>
            <a:off x="539640" y="2781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3" name="Прямоугольник 1"/>
          <p:cNvSpPr/>
          <p:nvPr/>
        </p:nvSpPr>
        <p:spPr>
          <a:xfrm>
            <a:off x="684360" y="177336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шифрования последствий травм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еская посттравматическая  головная боль G44.3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матическая  транзиторная  церебральная  ишемия  G45.8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755640" y="148428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форму 12 не включают сведения о подозрении на заболевание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5" name="Прямоугольник 1"/>
          <p:cNvSpPr/>
          <p:nvPr/>
        </p:nvSpPr>
        <p:spPr>
          <a:xfrm>
            <a:off x="971640" y="112536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6" name="Прямоугольник 2"/>
          <p:cNvSpPr/>
          <p:nvPr/>
        </p:nvSpPr>
        <p:spPr>
          <a:xfrm>
            <a:off x="755640" y="2852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8" name="Прямоугольник 1"/>
          <p:cNvSpPr/>
          <p:nvPr/>
        </p:nvSpPr>
        <p:spPr>
          <a:xfrm>
            <a:off x="971640" y="112536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9" name="Прямоугольник 2"/>
          <p:cNvSpPr/>
          <p:nvPr/>
        </p:nvSpPr>
        <p:spPr>
          <a:xfrm>
            <a:off x="755640" y="2852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1" name="Прямоугольник 1"/>
          <p:cNvSpPr/>
          <p:nvPr/>
        </p:nvSpPr>
        <p:spPr>
          <a:xfrm>
            <a:off x="971640" y="1125360"/>
            <a:ext cx="770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2000, 3000,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: 5.1.1, 5.11, 5.12, 5.13, 5.14, 5.15, 7.8.2, 18.2, 18.5, 18.6, 18.7, 18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рафе 9 – (!) стоит число – представить пояснительную записку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ица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: 5.7, 5.8, 7.10, 13.1, 15.9, 15.1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рафа 9 – (!) стоит число – проверить первичную документацию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2" name="Прямоугольник 2"/>
          <p:cNvSpPr/>
          <p:nvPr/>
        </p:nvSpPr>
        <p:spPr>
          <a:xfrm>
            <a:off x="755640" y="28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4" name="Прямоугольник 1"/>
          <p:cNvSpPr/>
          <p:nvPr/>
        </p:nvSpPr>
        <p:spPr>
          <a:xfrm>
            <a:off x="755640" y="1989000"/>
            <a:ext cx="77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, межформенны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ежгодовой контроли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6" name="Прямоугольник 1"/>
          <p:cNvSpPr/>
          <p:nvPr/>
        </p:nvSpPr>
        <p:spPr>
          <a:xfrm>
            <a:off x="684360" y="765000"/>
            <a:ext cx="7848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Иванович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ьков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тделением статистики  специализированных служб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05 февраля 2018 го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495-618-31-83 доп. 220, 236, 235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06 февраля 2018 го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495-611-51-47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kovYI@mail.ru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Юрий И. Оськов</cp:lastModifiedBy>
  <dcterms:modified xsi:type="dcterms:W3CDTF">2018-12-13T10:07:16Z</dcterms:modified>
  <cp:revision>531</cp:revision>
  <dc:subject/>
  <dc:title>슬라이드 1</dc:title>
</cp:coreProperties>
</file>