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5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1403280" y="907920"/>
          <a:ext cx="6697800" cy="5434200"/>
        </p:xfrm>
        <a:graphic>
          <a:graphicData uri="http://schemas.openxmlformats.org/drawingml/2006/table">
            <a:tbl>
              <a:tblPr/>
              <a:tblGrid>
                <a:gridCol w="744480"/>
                <a:gridCol w="744840"/>
                <a:gridCol w="742680"/>
                <a:gridCol w="744480"/>
                <a:gridCol w="744840"/>
                <a:gridCol w="742680"/>
                <a:gridCol w="744480"/>
                <a:gridCol w="744840"/>
                <a:gridCol w="744480"/>
              </a:tblGrid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1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1.0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2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2.0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3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3.0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5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6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8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.1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.1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.мес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4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.1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.мес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.год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.0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5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.1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,4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1547640" y="1413000"/>
            <a:ext cx="60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</a:t>
            </a:r>
            <a:endParaRPr b="1" lang="en-US" sz="6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500</a:t>
            </a:r>
            <a:endParaRPr b="1" lang="en-US" sz="6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8"/>
          <p:cNvSpPr/>
          <p:nvPr/>
        </p:nvSpPr>
        <p:spPr>
          <a:xfrm>
            <a:off x="91116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" name="Прямоугольник 7"/>
          <p:cNvSpPr/>
          <p:nvPr/>
        </p:nvSpPr>
        <p:spPr>
          <a:xfrm>
            <a:off x="611280" y="549360"/>
            <a:ext cx="7993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аблицы 1500, 1600, 1650 вносится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нформация о детях, которым в 2017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оду исполнился один год.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ответственно родились они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01.01.2016 по 31.12.2016 года.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395280" y="-5883480"/>
            <a:ext cx="8280360" cy="12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дети в подростки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л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дети во взрослые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л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ли кому диагноз был ранее установлен, но на Д-учете не состоял) + (переходные из подростков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5" name="Прямоугольник 20"/>
          <p:cNvSpPr/>
          <p:nvPr/>
        </p:nvSpPr>
        <p:spPr>
          <a:xfrm>
            <a:off x="900000" y="1557360"/>
            <a:ext cx="75596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кодирования состояний у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, страдающих сахарным диабетом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, 2013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Прямоугольник 21"/>
          <p:cNvSpPr/>
          <p:nvPr/>
        </p:nvSpPr>
        <p:spPr>
          <a:xfrm>
            <a:off x="1332000" y="620640"/>
            <a:ext cx="676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Центральный научно-исследовательский институт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и информатизации здравоохранения»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а здравоохранения Российской Федерации]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Прямоугольник 31"/>
          <p:cNvSpPr/>
          <p:nvPr/>
        </p:nvSpPr>
        <p:spPr>
          <a:xfrm>
            <a:off x="468360" y="83664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клинического диагноза не должна пол-ностью совпадать  с  названием  соответствующей  рубрики  или  подрубрики  МКБ,  так  как  последние  являются обобщением,  применяемым   в   статистических   задачах (МКБ- 10, 1995, том 2, стр. 11-12).  Правильность   кодиро-вания заболеваний  врачами  должна  проверяться и кор-ректироваться  медицинскими  статистиками или врача-ми-статистиками, а  при   невозможности  корректировки кодов учетный документ возвращается специалисту для исправления записи диагноза</a:t>
            </a:r>
            <a:r>
              <a:rPr b="1" lang="ru-RU" sz="1000" spc="-1" strike="noStrike">
                <a:solidFill>
                  <a:srgbClr val="000000"/>
                </a:solidFill>
                <a:latin typeface="-윤고딕140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0" name="Прямоугольник 97"/>
          <p:cNvSpPr/>
          <p:nvPr/>
        </p:nvSpPr>
        <p:spPr>
          <a:xfrm>
            <a:off x="395280" y="692280"/>
            <a:ext cx="849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лассу эндокринных заболеваний кодируются цереб-ральные  и  ишемические  болезни  системы  кровообраще-ния (острые  нарушения  мозгового  кровообращения,  ост-рые инфаркты миокарда, и др.). Связь наличия диабета с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ми состояниями является патогенетически достовер-ной и очевидной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Прямоугольник 32"/>
          <p:cNvSpPr/>
          <p:nvPr/>
        </p:nvSpPr>
        <p:spPr>
          <a:xfrm>
            <a:off x="468360" y="69228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м диабета являются следующие острые  или терминальные  болезни  системы   кровообращения,  кото-рыми (при соответствующем сценарии развития летально-го процесса)следует заканчивать описание логической пос-ледовательности  в  части I раздела  19  медицинского сви-детельства о смертися к подрубрика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67.0-I67.5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67.9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4" name="Прямоугольник 30"/>
          <p:cNvSpPr/>
          <p:nvPr/>
        </p:nvSpPr>
        <p:spPr>
          <a:xfrm>
            <a:off x="971640" y="907920"/>
            <a:ext cx="7561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21-I2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й инфаркт мио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24.- Другие формы острой ишемической болезни сердц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26.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очная эмбол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30.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й перикардит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33.- Острый и подострый эндокардит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40.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й миокардит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44.- Предсердно-желудочковая [атриовентрикулярная] блокада 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ада левой ножки пучка Гис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45.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нарушения проводимост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46.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ка сердц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47.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ксизмальная тахикард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48 Фибрилляция и трепетание предсердий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49.- Другие нарушения сердечного ритм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50.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ечная недостаточность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51.8 Другие неточно обозначенные болезни сердц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60-I68 Цереброваскулярные болезни, кроме относящихся к под-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рика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67.0-I67.5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67.9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6" name="Прямоугольник 37"/>
          <p:cNvSpPr/>
          <p:nvPr/>
        </p:nvSpPr>
        <p:spPr>
          <a:xfrm>
            <a:off x="539640" y="83664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у-клиницисту  отводится  право  использования кодов других классов при  кодировании  первоначальной причины обращения  или  смерти, если есть возможность достоверно доказать, что данные состояния  не связаны с наличием фонового диабета (длительная ремиссия и нор-могликемия). Однако такие случаи, скорее, – исключения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9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" name="Прямоугольник 61"/>
          <p:cNvSpPr/>
          <p:nvPr/>
        </p:nvSpPr>
        <p:spPr>
          <a:xfrm>
            <a:off x="468360" y="981000"/>
            <a:ext cx="83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5 таблицы 1500 представляется информация о заболеваниях детей первого месяца жизни из графы 4 (заб-олевания детей первого года жизни-всего). 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 графе 14 представляется информация о выздоровев-ших и умерших.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Выехавшие дети в данной графе не учитываются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 графе 15 представляется информация о детя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щих под диспансерном  наблюдением по заболе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ию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user</cp:lastModifiedBy>
  <dcterms:modified xsi:type="dcterms:W3CDTF">2017-12-01T20:50:48Z</dcterms:modified>
  <cp:revision>432</cp:revision>
  <dc:subject/>
  <dc:title>슬라이드 1</dc:title>
</cp:coreProperties>
</file>