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4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 type="sldNum" idx="4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2FA5D-07B6-4F51-9A98-FCF69BE095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DE79-48ED-455B-B634-4ACA0A734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5DC2-816C-4239-8B17-5F520506390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9D227-0A44-4A25-95FB-919122B4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C9D28-CB87-4409-A453-06986ECD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2BCC9-6DE5-43E4-ACA4-69D09645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B2653-D401-4678-8420-4282E639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58C78-4EE6-4810-A63E-36DD3D1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58E02-22AF-4CD6-9079-E63339A1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806C5-30DD-4139-A25B-395969A5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CFC79-BCA2-4420-88D6-E9746C29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BC75E-800D-49C4-B3AF-83FCF276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40995-F28B-441F-8E50-5C819B4D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A65C-F009-4113-947C-496D84133FF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92194-C0DC-4E9D-A076-5C2C8047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CD539-6433-442D-B7DE-CBCB3807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75CF9-FDFF-42FE-B3C1-C0D8FC8A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E8940-6E5B-4BD0-83E5-6253D52E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5D3C3-366A-4D5A-B87F-545C04E2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B70D9-ED88-48EE-BB71-29B07CFD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17715-A742-4A24-BDA2-B40F5744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DEA34-6C11-4F35-92B0-CA1B92E0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A92D5-3C30-4463-868E-7BCDDD1A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DA284-9432-411C-9D71-FBF90862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A6AB-A712-4A95-AD36-0DB00456356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38D56-2A14-4BCC-A4C9-72898A29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720784-54F7-4CFD-8F33-003B451E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285B3D-4490-4C66-B598-5DFF769E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6F0BBB-BD2D-47C6-9D94-8D51ADEF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8C0A2F-F0D7-4F05-921D-668CD2E9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ABEC89-1281-4694-B64B-EF5701AE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00A821-8514-4F07-B50F-F0CC1781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8088E3-4A95-4CEE-87E9-726DCA51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A96817-8503-4F3C-9E89-F8E6CB86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F6933F-69E8-4C17-AFDC-F2EAA6D6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B4864-BA2D-4D88-88EB-46F8D064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710A5A-D14A-4AFA-B993-3DE917F1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DB1305-F371-402F-97E4-D9536432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AD77EE-EB6B-4277-BF12-DFF3712C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F5CC9-9AC5-4487-8061-1658ADF7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311BD-7098-4B47-8A14-A576DE35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BF853-7930-4711-AE34-1524C8B7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4F65C-4A2F-4B1E-962D-BB373A12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073A7-2335-42FB-99EF-25D1D4C9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8E227-E04F-4F2D-AC0B-0C7A717A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D1F84-B96D-4CFB-8964-67C7004E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D01CF-BC3C-4FBB-B741-F9806415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FF7D2-C566-4ACD-85DE-65FC10D2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519F6-CAB1-477E-AE34-616E5F19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AD66B-0294-493E-BAE1-FAD7C625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793F9-D5FA-4E1E-B631-2E773EF6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5F629-FBE2-4C6F-B724-0EFF213A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048994-437A-4B81-A83A-CBC14C35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558259-D795-4284-8A48-129607C8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C5C1F9-BA4E-49AC-AAB5-EB9EEB2E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123073-9BDE-4B95-9429-18F4B506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DC1222-1576-4672-A098-9F586045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2D535-350B-44B4-A6DF-FF226EFB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AD03D8-E1BE-4AF6-B2E2-58D03964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873FD8-ADB8-42D1-AD13-CE4CB79A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8469AF-7ED0-47DD-A62F-C31C5E3D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14D452-F7D3-4A74-9996-550FCB0D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66F2A3-EC7B-4E02-BD3F-311BF8D5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667DB2-366E-4B4F-8EB1-50E9F324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C48FFB-AE12-442F-9168-2B7C7758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ECE6C7-9EBA-4491-BB1A-B8940B8B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525FB5-59EC-4561-A97A-0B8FCCF9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715F7A-C1D5-41CE-A736-97FB473A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FB7DA-5855-4C02-95DB-6810C31D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B5874F-BA65-46B7-ADFF-7A4C4B20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7EB077-FEDB-4816-916C-4770FDDD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734DAB-4EAD-4D16-AB75-AA38FD52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D31E50-BFEE-41C3-A0A2-BA755573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3BC6C2-30A1-4842-BF26-D4869B72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482D30-53D1-401A-96E5-D5F89686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B41D83-4A83-4B21-BDEC-4D18FB4B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E0C258-562E-4C6E-8514-70976928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C5A461-AEDE-4144-8D4A-9924F65C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7E3182-9645-482A-876B-8EAB512A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AF9F7-7BF2-4C72-84E4-590FB346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732350-3DC4-4965-B476-EB148BA0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233B45-0EBC-4C5A-A340-54BCC2E9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401059-BCF1-4AF8-9018-854F4153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B5CB74-443B-4C05-BA57-24C42C1E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944DB8-F88B-4642-80E8-A440E4F7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80DE8D-DF89-41C0-A9CE-D472C4A4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4C3EDB-0A67-42B5-9F74-BBA2D0E0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4817C0-8E31-4852-A6EA-D3B90385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FBAA98-FA86-4B95-8462-7DD7FD58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201639-919B-41B0-A3F5-2D6CB6A8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1C6D5-2065-4B14-9190-08E3A53A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7ED53B-0FC0-4C33-9488-6533B0CA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202BC-F190-4C11-9A66-F3357678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4B1F-E602-4404-BA75-EE95A139C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EB980-9810-4515-B131-324C6BAC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1923C-0737-41F6-B12B-D337EF65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44BDF-F1BC-4C54-9ACB-2E952438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2FFE8-165A-42CE-890C-CC488C2F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F0A1B-A922-4936-BFD0-708D4CD1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7EAB-F455-4341-B4CC-EB94BC4ABF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7D19-29DA-4B7A-B4BC-D0AB1966C3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60C6-C4BC-44FB-B697-F51ED21287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2B98-FB16-4B88-B945-207CBB04C5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0E71-1C8C-44A6-A1CB-2809EC6C28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F172-DF09-4C1C-95C8-D93A2693C2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B329-3AEA-4DF4-B133-8F552339DE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C53B-7913-46A1-932F-01F5228EF9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CB48-D366-4181-8AA6-799EA29FE2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8178-6FBC-4CD0-B1BF-C298F66364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3DA9-D541-421A-8372-20182CA392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DD80-0558-481B-A359-A4B0CA91FD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4F16-7F52-42DB-80AA-62A611E3EC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591503-218D-49AC-B35D-8682F1A9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0B533-E012-4B0D-924F-5F295517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C0F8D-4585-4739-8E23-6ACA7724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DF31-3AEB-4FEE-A799-544F12F785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8487EA-5203-40C2-A1E2-72F0CBAB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E7EB32-EA87-40EB-81F6-A8AE8AF2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E0B2E3-46CA-40E6-85A8-CBBAE5E1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528E0-F664-414A-A76A-7A7B72E0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5C252-8702-4903-B5FF-8F3D8E88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F408F2-914F-41EB-A558-0C2B9C81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49657-C41E-41BC-A313-AE457BDC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AFD15-DF3A-4910-B811-E42DFDF6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320FBB-C34C-4CC1-A9E0-D22081C8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FB9A28-F482-4136-9295-6F771389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B612-0986-43B2-814E-241C4D61A3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EED5C0-D1EC-406A-9B11-367AFA20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80E74B-4243-4B13-BC52-508ED80A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9B45CA-C63D-428A-8474-E4A8240B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1D5E77-D98C-4AD8-AEB5-EE44E6AF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861174-89FB-4BA9-850E-30619D90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99A951-37C1-426C-B17D-110A766C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427AE8-9B4B-413A-968A-3CF9368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92636F-16D0-40BC-AD70-6DEF116E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108412-B7E9-4776-805F-7C8F2DCB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8CE2B4-A4DD-45D3-8E95-9B33BE00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5981-A803-43C2-B184-7A2B09862EF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4A6939-0B70-458B-8ADE-C9E3DB41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0E329E-74B0-46C3-926B-8A84BDFD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875D6-8927-44E9-8DF0-7DE9F3BB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58964D-6CE0-48BA-86B8-256BD7CA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5387D8-DFC1-4113-9CA6-643023F3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A1AF63-8F0E-4BDA-88C3-1F168001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70C16B-A17E-4012-A25D-328F46F5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473814-512E-4733-ACDE-9DA611BB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EF1879-CC86-4217-979E-9E2498C3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47520E-801D-4E6B-985E-0AEE06B9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91BE-E2E8-4E99-B2BC-73E34B353AD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5272F8-0DD1-4B0F-ADBB-34F1C9F7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D54343-5BAC-4F32-82FE-834160D4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4BAE42-770D-41D8-BED8-5F8C48F7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7283F9-2048-4E4C-8A31-678AABBA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795E72-F53A-4100-90FD-2E42A92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AB9854-D5F8-4A58-85F8-3A831063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A2D4DB-5A44-4985-9C6F-F89B4F0D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FE8BDE-9DB2-45DE-9B2A-CF87C3D5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A68F8B-0E6A-428D-BF59-3F98E67C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0D1844-D8DC-4CA1-A6AB-254D8136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46B8-9835-4C3C-A0E6-455A6133E93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5070E8-4783-4BE0-B5CF-8BB1E8EB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DE89C2-1A32-4EC1-A3A5-B52E13D2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0A9B39-F3DC-4120-AE75-586DBFEA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C8E258-84A9-4571-A44F-59B85856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352F14-6736-4537-996A-7CBDDBA9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E1BCF9-88AC-4469-A883-6C76D44F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53C030-950D-4F4B-A939-55DACEC8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AD851D-4C86-4469-82F1-F58578E6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643FFB-2CC1-4DC9-BC0B-66202849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3E1B2-2347-4746-BE72-680E3A7B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360E8-7ECC-46B6-AFE2-6D938F7352E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652527-B771-4C20-BBFB-D0E806EE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95A480-22A6-40E2-A133-FB8C473E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567FCD-39DC-4642-9DE3-CA5ADF67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C76E62-A878-4771-8530-26803FBC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182240" y="4247640"/>
            <a:ext cx="7769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5DC6A8-247B-4DB0-87BD-07AC78E9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3480" y="201780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24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163480" y="4247640"/>
            <a:ext cx="3791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A7C9C-1BD2-4FD2-97F0-70364238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80880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35720" y="201780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18224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80880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435720" y="4247640"/>
            <a:ext cx="2501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B0DED0-ECC3-4EEF-B309-CD360839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C0A8D-BE9E-49FB-8199-F7170545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5BC42-7D42-4C24-8C6E-DE5E7222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FF2EB-3AD7-46BC-A336-981A8A60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165640" y="6427440"/>
            <a:ext cx="28958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6320" y="6424200"/>
            <a:ext cx="48276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DFDF7-83B4-4F3C-882F-CA56F4B469F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5" descr="SANOFI_Logo_H_2011_Quadri copie"/>
          <p:cNvPicPr/>
          <p:nvPr/>
        </p:nvPicPr>
        <p:blipFill>
          <a:blip r:embed="rId3"/>
          <a:stretch/>
        </p:blipFill>
        <p:spPr>
          <a:xfrm>
            <a:off x="595440" y="6308640"/>
            <a:ext cx="1584360" cy="365040"/>
          </a:xfrm>
          <a:prstGeom prst="rect">
            <a:avLst/>
          </a:prstGeom>
          <a:ln w="0">
            <a:noFill/>
          </a:ln>
        </p:spPr>
      </p:pic>
      <p:pic>
        <p:nvPicPr>
          <p:cNvPr id="5" name="Object 1" descr=""/>
          <p:cNvPicPr/>
          <p:nvPr/>
        </p:nvPicPr>
        <p:blipFill>
          <a:blip r:embed="rId4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FBEA90-FA30-4ED4-BE62-C149432B016D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9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0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1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D829C4-43A9-433C-891C-7E8E75C43EFE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2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3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4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A4B144-D572-4804-8EC7-86011F1BA7BA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5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6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7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3A6202-3CC6-4D3B-B501-CCFD257C2F10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8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9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0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EFADD2-9544-4588-AFDB-82FEC2B26A0B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1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2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3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52F949-8886-4D26-8B40-4522EA5511C7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5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D7F5C-D27E-4F55-9BD8-5EBDFA940B05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9" descr="fond_150dpi_bleu"/>
          <p:cNvPicPr/>
          <p:nvPr/>
        </p:nvPicPr>
        <p:blipFill>
          <a:blip r:embed="rId2"/>
          <a:stretch/>
        </p:blipFill>
        <p:spPr>
          <a:xfrm>
            <a:off x="631800" y="625320"/>
            <a:ext cx="7935840" cy="552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2" descr="SANOFI_Logo_H_2011_Quadri copie"/>
          <p:cNvPicPr/>
          <p:nvPr/>
        </p:nvPicPr>
        <p:blipFill>
          <a:blip r:embed="rId3"/>
          <a:stretch/>
        </p:blipFill>
        <p:spPr>
          <a:xfrm>
            <a:off x="595440" y="6308640"/>
            <a:ext cx="1584360" cy="365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7120" y="283680"/>
            <a:ext cx="785808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89898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8989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26760" y="1390680"/>
            <a:ext cx="7862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bca36a"/>
              </a:buClr>
              <a:buSzPct val="130000"/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44492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51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ed5b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444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49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4449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6"/>
          </p:nvPr>
        </p:nvSpPr>
        <p:spPr>
          <a:xfrm>
            <a:off x="8086320" y="6424200"/>
            <a:ext cx="48276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A3C06-AFB9-4D80-BA14-848FBEB0D69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5165640" y="6427440"/>
            <a:ext cx="28958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97A821-EE79-4DBA-9583-2390C1622E61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1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3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1DAD84-86A5-47EA-AA3F-4117D424AA19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4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5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6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8299C0-1377-4F58-843B-BF5FCE546E18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7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8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9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231081-7F3A-468F-A32E-2AD7ADA715FC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0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1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2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D616A2-602A-4E37-A632-1AA3C1AC2F44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3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4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4492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5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3B257E-5E55-4E65-9C71-E9FB2E93B4BB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90680" y="2211120"/>
            <a:ext cx="7967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Новая отчетная форма №13</a:t>
            </a:r>
            <a:br>
              <a:rPr sz="4800"/>
            </a:br>
            <a:r>
              <a:rPr b="0" i="1" lang="ru-RU" sz="4800" spc="-1" strike="noStrike">
                <a:solidFill>
                  <a:srgbClr val="c00000"/>
                </a:solidFill>
                <a:latin typeface="Tahoma"/>
              </a:rPr>
              <a:t>«Сведения о прерывании беременности»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2166840" y="4471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З.З. Ток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344160" y="1938240"/>
            <a:ext cx="84582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Проблема абортов тесно связана с </a:t>
            </a: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контрацепцией.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Поэтому следует обратить внимание на операции по поводу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32640" indent="-33264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стерилизация женщин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- табл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4 000 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56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13.4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400" indent="-32940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стерилизация женщин с использованием    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эндоскопической аппаратуры 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- табл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4100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70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6-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400" indent="-32940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стерилизация мужчин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– табл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4 000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56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12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400"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44160" y="2101680"/>
            <a:ext cx="8458200" cy="48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таблица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2 401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страниц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39: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1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- состоит под наблюдением на конец года женщин, имеющих внутриматочные спирали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2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- использующих гормональные контрацептивы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3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- введено внутриматочных спиралей (в амбулаторных и стационарных условиях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Прямоугольник 1"/>
          <p:cNvSpPr/>
          <p:nvPr/>
        </p:nvSpPr>
        <p:spPr>
          <a:xfrm>
            <a:off x="1555920" y="239760"/>
            <a:ext cx="69897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№ 30  </a:t>
            </a:r>
            <a:endParaRPr b="0" lang="en-US" sz="54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«Сведения о медицинской организации»: </a:t>
            </a: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344160" y="3274560"/>
            <a:ext cx="84582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таблица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2210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строк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1-2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графа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3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регистрирует 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роды у девочек до 14 лет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и их называют «дети до 14 лет» (включает в себя возраст 14 лет 11 месяцев 29 дней) – из общего числа родов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принято родов у детей до 14 л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Прямоугольник 1"/>
          <p:cNvSpPr/>
          <p:nvPr/>
        </p:nvSpPr>
        <p:spPr>
          <a:xfrm>
            <a:off x="1555920" y="239760"/>
            <a:ext cx="72468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№ 32</a:t>
            </a:r>
            <a:r>
              <a:rPr b="0" i="1" lang="ru-RU" sz="5400" spc="-1" strike="noStrike">
                <a:solidFill>
                  <a:srgbClr val="16165d"/>
                </a:solidFill>
                <a:latin typeface="Calibri"/>
                <a:ea typeface="MS PGothic"/>
              </a:rPr>
              <a:t> </a:t>
            </a:r>
            <a:endParaRPr b="0" lang="en-US" sz="54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«Сведения о медицинской помощи беременным, роженицам и родильницам» </a:t>
            </a: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раздел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2.</a:t>
            </a:r>
            <a:r>
              <a:rPr b="0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 Родовспоможение в стационаре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  </a:t>
            </a:r>
            <a:endParaRPr b="0" lang="en-US" sz="4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44160" y="248400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таблица 5 000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«Диспансерное наблюдение за беременными, роженицами и родильницами, больными ВИЧ-инфекцией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1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 – число беременных женщин¸ больных ВИЧ-инфекцией всего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ahoma"/>
              </a:rPr>
              <a:t>строка 2 </a:t>
            </a:r>
            <a:r>
              <a:rPr b="0" i="1" lang="ru-RU" sz="2800" spc="-1" strike="noStrike">
                <a:solidFill>
                  <a:srgbClr val="7030a0"/>
                </a:solidFill>
                <a:latin typeface="Tahoma"/>
              </a:rPr>
              <a:t>– число женщин, больных ВИЧ-инфекцией, завершивших беременность родами в отчетном год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Прямоугольник 1"/>
          <p:cNvSpPr/>
          <p:nvPr/>
        </p:nvSpPr>
        <p:spPr>
          <a:xfrm>
            <a:off x="1255680" y="239760"/>
            <a:ext cx="75470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  <a:ea typeface="MS PGothic"/>
              </a:rPr>
              <a:t>Форма № 61</a:t>
            </a:r>
            <a:r>
              <a:rPr b="0" i="1" lang="ru-RU" sz="5400" spc="-1" strike="noStrike">
                <a:solidFill>
                  <a:srgbClr val="16165d"/>
                </a:solidFill>
                <a:latin typeface="Calibri"/>
                <a:ea typeface="MS PGothic"/>
              </a:rPr>
              <a:t> </a:t>
            </a:r>
            <a:endParaRPr b="0" lang="en-US" sz="5400" spc="-1" strike="noStrike">
              <a:solidFill>
                <a:srgbClr val="444492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ahoma"/>
                <a:ea typeface="MS PGothic"/>
              </a:rPr>
              <a:t>«Сведения о болезни, вызванной вирусом иммунодефицита человека»:</a:t>
            </a: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841320" y="750600"/>
            <a:ext cx="812808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66/у-02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03-1/у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медицинская карта  прерывания беременности» для всех случаев прерывания кроме аборта по медпоказаниям и при наличии  тяжелых сопутствующих заболеваний;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03/у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медицинская карта стационарного больного» при   производстве аборта по медпоказаниям и при наличии тяжелых  сопутствующих заболеваний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111/у 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индивидуальная карта беременной и родильницы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7030a0"/>
                </a:solidFill>
                <a:latin typeface="Tahoma"/>
              </a:rPr>
              <a:t>- форма № 002/у </a:t>
            </a:r>
            <a:r>
              <a:rPr b="0" i="1" lang="ru-RU" sz="1800" spc="-1" strike="noStrike">
                <a:solidFill>
                  <a:srgbClr val="7030a0"/>
                </a:solidFill>
                <a:latin typeface="Tahoma"/>
              </a:rPr>
              <a:t>«журнал учета приема беременных, рожениц и родильниц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Прямоугольник 1"/>
          <p:cNvSpPr/>
          <p:nvPr/>
        </p:nvSpPr>
        <p:spPr>
          <a:xfrm>
            <a:off x="841320" y="544680"/>
            <a:ext cx="79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MS PGothic"/>
              </a:rPr>
              <a:t>Источники информации</a:t>
            </a:r>
            <a:endParaRPr b="0" lang="en-US" sz="44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67920" y="2443320"/>
            <a:ext cx="838044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другие анормальные продукты зачатия (строка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 самопроизвольный аборт (строка 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 медицинский аборт  (строка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другие виды аборта  (строка 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just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аборт неуточненный (строка 6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Прямоугольник 1"/>
          <p:cNvSpPr/>
          <p:nvPr/>
        </p:nvSpPr>
        <p:spPr>
          <a:xfrm>
            <a:off x="0" y="544680"/>
            <a:ext cx="9144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MS PGothic"/>
              </a:rPr>
              <a:t>Настоящая форма № 13 состоит из 2-х таблиц и 2-х подтабличных строк.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236919"/>
                </a:solidFill>
                <a:latin typeface="Calibri"/>
                <a:ea typeface="MS PGothic"/>
              </a:rPr>
              <a:t>Таблица 1000 «Прерывание беременности в срок до 12 недель» включает рубрики О02-О06: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0" y="860040"/>
            <a:ext cx="9144000" cy="58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роме того, в эту таблицу добавлен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рубрики О00, О01, О07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- внематочная беременность (строка 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      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- пузырный занос (строка 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-333000" algn="ctr">
              <a:lnSpc>
                <a:spcPct val="115000"/>
              </a:lnSpc>
              <a:buClr>
                <a:srgbClr val="333399"/>
              </a:buClr>
              <a:buFont typeface="Calibri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неудачная попытка аборта (строка 9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36919"/>
                </a:solidFill>
                <a:latin typeface="Calibri"/>
                <a:ea typeface="Calibri"/>
              </a:rPr>
              <a:t>В графах 5-9 отражается распределение женщин по возрасту, в графах 10-11 – аборты у первобеременных, у ВИЧ-инфицированн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36919"/>
                </a:solidFill>
                <a:latin typeface="Calibri"/>
                <a:ea typeface="Calibri"/>
              </a:rPr>
              <a:t>В</a:t>
            </a:r>
            <a:r>
              <a:rPr b="1" lang="en-US" sz="2800" spc="-1" strike="noStrike">
                <a:solidFill>
                  <a:srgbClr val="236919"/>
                </a:solidFill>
                <a:latin typeface="Calibri"/>
                <a:ea typeface="Calibri"/>
              </a:rPr>
              <a:t> 1</a:t>
            </a:r>
            <a:r>
              <a:rPr b="1" lang="ru-RU" sz="2800" spc="-1" strike="noStrike">
                <a:solidFill>
                  <a:srgbClr val="236919"/>
                </a:solidFill>
                <a:latin typeface="Calibri"/>
                <a:ea typeface="Calibri"/>
              </a:rPr>
              <a:t>части т.1000 строка 1 равна сумме строк 2-6 по всем графа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15000"/>
              </a:lnSpc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510840" y="1255320"/>
            <a:ext cx="845820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7030a0"/>
                </a:solidFill>
                <a:latin typeface="Tahoma"/>
              </a:rPr>
              <a:t>Медицинский аборт легальный, медицинский аборт  по медицинским показаниям, из них проведено медикаментозным методо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ahoma"/>
              </a:rPr>
              <a:t>Из числа легальных абортов, абортов по медицинским показаниям выполнено в возрастной группе до 14 лет, 15-17 лет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22228b"/>
                </a:solidFill>
                <a:latin typeface="Tahoma"/>
              </a:rPr>
              <a:t>Число первобеременных, ВИЧ-инфицированных в возрастной группе до 14 лет, 15-17 ле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ahoma"/>
              </a:rPr>
              <a:t>Из числа неудачных попыток аборта (О07) проведено медикаментозным методо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сложнения, вызванные абортом (О08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Прямоугольник 1"/>
          <p:cNvSpPr/>
          <p:nvPr/>
        </p:nvSpPr>
        <p:spPr>
          <a:xfrm>
            <a:off x="1228680" y="544680"/>
            <a:ext cx="75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  <a:ea typeface="MS PGothic"/>
              </a:rPr>
              <a:t>Подтабличные строки 1100-1105:</a:t>
            </a:r>
            <a:endParaRPr b="0" lang="en-US" sz="36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04840" y="3193920"/>
            <a:ext cx="850248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Arial"/>
                <a:ea typeface="Calibri"/>
              </a:rPr>
              <a:t>Расположение строк, граф аналогично предыдущей таблице. Строка 1 равна сумме строк 2-6 по всем графа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Прямоугольник 1"/>
          <p:cNvSpPr/>
          <p:nvPr/>
        </p:nvSpPr>
        <p:spPr>
          <a:xfrm>
            <a:off x="1555920" y="293760"/>
            <a:ext cx="6868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MS PGothic"/>
              </a:rPr>
              <a:t>Таблица 2000 «Прерывание беременности в срок с 12 до 22 недель» включает те же рубрики, что и таблица 1000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44160" y="2252160"/>
            <a:ext cx="8458200" cy="47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Медицинский аборт, проведенный по социальным показаниям, по медицинским показаниям – всего, из них медикаментозным методом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Из числа абортов по социальным показаниям, по медицинским показаниям выполнено в возрастной группе до 14 лет, 15-17 лет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Из числа абортов по медицинским показаниям проведено в связи с выявленными врожденными пороками развития плод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Число первобеременных, ВИЧ-инфицированных в возрастной группе до 14 лет, 15-17 ле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Из числа неудачных попыток аборта (О07) проведено медикаментозным методо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ложнения, вызванные абортом (О0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Прямоугольник 1"/>
          <p:cNvSpPr/>
          <p:nvPr/>
        </p:nvSpPr>
        <p:spPr>
          <a:xfrm>
            <a:off x="1555920" y="544680"/>
            <a:ext cx="657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  <a:ea typeface="MS PGothic"/>
              </a:rPr>
              <a:t>Подтабличные строки 2100-2105 </a:t>
            </a:r>
            <a:endParaRPr b="0" lang="en-US" sz="40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344160" y="3301920"/>
            <a:ext cx="84582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 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 издании документа в этой подтабличной строке допущена техническая ошибка – в скобке вместо рубрик О02-О06 напечатано О02-О0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Прямоугольник 1"/>
          <p:cNvSpPr/>
          <p:nvPr/>
        </p:nvSpPr>
        <p:spPr>
          <a:xfrm>
            <a:off x="1555920" y="544680"/>
            <a:ext cx="657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тдельной строкой  3000 выделено число  женщин, умерших от прерывания беременности (О02-О06). </a:t>
            </a:r>
            <a:endParaRPr b="0" lang="en-US" sz="32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344160" y="1828800"/>
            <a:ext cx="845820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ведения о деятельности подразделений медицинской организации, оказывающих медицинскую помощь в </a:t>
            </a:r>
            <a:r>
              <a:rPr b="1" i="1" lang="ru-RU" sz="2400" spc="-1" strike="noStrike">
                <a:solidFill>
                  <a:srgbClr val="236919"/>
                </a:solidFill>
                <a:latin typeface="Times New Roman"/>
                <a:ea typeface="Times New Roman"/>
              </a:rPr>
              <a:t>стационарных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условиях»  (в отличие от формы № 13, учитывающей и амбулаторные аборты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Таблица 4 000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Раздел 3. «Хирургическая работа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организации»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5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1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– внематочная беременность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5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аборт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60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6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-  число абортов с осложнениям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аниц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64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рок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6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– умерло после абор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Прямоугольник 1"/>
          <p:cNvSpPr/>
          <p:nvPr/>
        </p:nvSpPr>
        <p:spPr>
          <a:xfrm>
            <a:off x="695160" y="239760"/>
            <a:ext cx="827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alibri"/>
                <a:ea typeface="MS PGothic"/>
              </a:rPr>
              <a:t>Межформенный контроль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	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  <a:ea typeface="MS PGothic"/>
              </a:rPr>
              <a:t>         Форма № 14  </a:t>
            </a:r>
            <a:endParaRPr b="0" lang="en-US" sz="4800" spc="-1" strike="noStrike">
              <a:solidFill>
                <a:srgbClr val="444492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13:24:50Z</dcterms:created>
  <dc:creator>Юля</dc:creator>
  <dc:description/>
  <dc:language>en-US</dc:language>
  <cp:lastModifiedBy>Valentin Fomin</cp:lastModifiedBy>
  <cp:lastPrinted>2016-06-21T09:02:45Z</cp:lastPrinted>
  <dcterms:modified xsi:type="dcterms:W3CDTF">2017-12-13T06:42:01Z</dcterms:modified>
  <cp:revision>313</cp:revision>
  <dc:subject/>
  <dc:title>Слайд 1</dc:title>
</cp:coreProperties>
</file>