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9E96-BA65-45B6-85BE-637AE1E23B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6876-94F2-4326-93C9-3FEB34318A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614D89-5414-4402-8224-64610A1C76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2581-64B4-4615-84EE-89A3C58C05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D88-5B9E-4E0D-B193-09412AD06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2C72-234B-4986-AEFB-D56C879F46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CA0-58A9-4569-95B1-C1A98A77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B91-231F-4F19-9C6F-C43973DA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148-7189-4EE9-9577-FE11002A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6A1-23B4-4469-BCBC-F0FE8A9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889-6B97-460D-ABBA-F7E309A1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E348-C581-4F32-B707-75A4C146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65E6-0534-4A17-94CF-53E6AB25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EA72-0B1A-4DB1-8C5C-96E512F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D300-C4B0-4109-8FAA-2B0A19A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45E7-57ED-4486-8DDB-8464D086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2A3-FBCB-42F5-8DC4-E15CA71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970-28BE-4E4F-9FE5-13A9925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FA01-5935-41F3-9325-E927ECB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2BA4-A66B-4CAF-9601-1A626F3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2D43-C1CF-4D0A-8B86-4FAD86A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ACF8-F172-4086-A181-3CA528DB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7CA-DE44-4E5E-AE37-669C8CBE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DA5-6685-434C-84B9-CB7249A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612-E216-455C-9669-746FD8A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93D-7170-4E16-8852-0E069027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CD6-88A8-4E84-8EEC-886B455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E03-3E34-4B2A-8C79-D184021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8EC-D660-4094-9E58-3528D44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88C-FF09-4649-B6AB-C890A97C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C1FB-9857-400C-967B-0F2D37BD7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4F2-81D1-4EDB-81E4-B96F44560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7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бригадами скорой медицинской помощи при выезд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медицинская помощь при выездах по возраст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бригад скорой медицинской помощ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помощь общепрофильными фельдшерски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, из них сельских ж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ездов бригад скорой медицинской помощи по времени доезда и затраченному на один выез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 «Число станций (отделений) скорой медицинской помощи, оснащенных автоматизированной системой управления приема и обработки вызов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60 заполняют станции скорой медицинской помощи и медицинские организации, имеющие в своем составе отделения скорой медицинской помощ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(межформенный контроль)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0 табл. 1060 стр.1 гр.3 + стр. 2 гр. 3 + стр.3 гр. 3 + стр. 4 гр. 3 + стр. 5 гр. 3 + стр. 6 гр. 3 + стр. 7 гр. 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форма 47 табл.0400 стр.1 гр. 3 + стр.1 гр.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21428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Прочий персонал станции (отделения) скорой медицинской помощи – это водители и прочий персона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чий персонал включают фармацевтов, провизоров, специалистов с немедицинским образовани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0040" y="642960"/>
            <a:ext cx="8286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государственной статистики (Росстата) № 866 от 27 декабря 2016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99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ездов бригадами скорой медицинской помощи (стр. 1 гр. 3) не включаются безрезультатные выез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к детям (форма 30 табл. 2120 стр. 2 гр. 3) не должно быть больше числа детей, которым оказана медицинская помощь при выездах (форма 30 табл. 2121    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по поводу госпитализации (форма 30 табл. 2120 стр. 1 гр. 10) не должно быть больше числа госпитализированных лиц (форма 30 табл. 2120 стр. 3 гр. 10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в связи с медицинской эвакуации (форма 30 табл. 2120 стр. 1 гр. 7) = форма 47 табл. 0400 стр. 1 гр. 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400" y="2143080"/>
            <a:ext cx="83581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лиц бригадами скорой медицинской помощи (форма 30 табл. 2120 стр. 3 гр. 10) = форма 47 табл. 0400 стр. 1 гр. 1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36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 всего (форма 30 табл. 2121 стр. 1 гр. 1) =  форма 30 табл. 2121 стр. 1 гр. 3 + форма 30 табл. 2121 стр. 1 гр. 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(форма 30 табл. 2121 стр. 1 гр. 1) =  форма 30 табл. 2120 стр. 3 гр. 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8548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50012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71400"/>
            <a:ext cx="84074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скорой медицинской помощи (форма 30 табл. 2200 стр. 1 гр. 5 + стр. 2 гр. 5 + стр. 3 гр. 5 +   стр. 4 гр. 5) =  форма 30 табл. 2120 стр. 3 гр. 3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.1.03. + 30.2200.1.2.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.1.04. + 30.2200.1.2.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.1.05. + 30.2200.1.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.1.03. + 30.2200.2.2.03. + 30.2200.2.3.03. + 30.2200.2.4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.1.04. + 30.2200.2.2.04. + 30.2200.2.3.04. + 30.2200.2.4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.1.05. + 30.2200.2.2.05. + 30.2200.2.3.05. + 30.2200.2.4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3. = 30.2200.3.1.03. + 30.2200.3.2.03. + 30.2200.3.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4. = 30.2200.3.1.04. + 30.2200.3.2.04. + 30.2200.3.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5. = 30.2200.3.1.05. + 30.2200.3.2.05. + 30.2200.3.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амбулаторная медицинская помощь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ездах (форма 47 табл. 0400 стр.1 гр. 9) = форма 30 табл. 2120 стр. 3 гр. 3 + табл. 2202 стр.1 гр.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один выезд на выз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гр. 3 и гр. 4) = число выездов бригад скорой медицинской помощи, затраченному на один выезд (табл. 2300 сумма строк    гр. 5 и гр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по гр. 3 и гр. 4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, затраченному на один выезд (табл. 2300 сумма строк гр. 5 и гр.6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14200" y="571680"/>
          <a:ext cx="8643960" cy="59212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е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смерть наступила в автомобиле скорой  медицинс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в ДТП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езд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мобиле 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за необоснованностью вызов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500120"/>
            <a:ext cx="8301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ереданных в другие медицинские организации необоснованные вызова (строка 4.1. графа 3 и 4) следует расшифровать и предоставить в пояснительной запис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к пациентам, пострадавшим в дорожно-транспортных происшествиях, ед. (строка 5 графа 3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0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1.03. = 30.5450.1.1.04. + 30.5450.1.1.05. + 30.5450.1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2.03. = 30.5450.1.2.04. + 30.5450.1.2.05. + 30.5450.1.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03. = 30.5450.1.3.04. + 30.5450.1.3.05. + 30.5450.1.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1.03. = 30.5450.1.3.1.04.+30.5450.1.3.1.05.+ 30.5450.1.3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4.03. = 30.5450.1.4.04. + 30.5450.1.4.05. + 30.5450.1.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1.03. + 30.5450.1.2.03. + 30.5450.1.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.1.04. + 30.5450.1.2.04. + 30.5450.1.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.1.05. + 30.5450.1.2.05. + 30.5450.1.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.1.06. + 30.5450.1.2.06. + 30.5450.1.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7 г. по сравнению с 2016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для транспортировки или санитарные автомобили оснащены аппаратом искусственной вентиляции легких, кислородным ингалятором, тележкой-каталкой со съемными кресельными носилками, приемным устройством для безопасной погрузки-выгрузки пациента, комплектом шин транспортных складных, фельдшерским наб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экстренной медицинской помощи или автомобили скорой медицинской помощи, предназначенные для проведения лечебных мероприятий скорой медицинской помощи силами общепрофильной врачебной (фельдшерской) бригады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анимобили или автомобили скорой медицинской помощи, предназначенные для проведения лечебных мероприятий скорой медицинской помощи силами реанимационной или специализированной бригады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7-12-11T22:01:43Z</dcterms:modified>
  <cp:revision>2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