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A49-6722-4B2D-A810-B2E95667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BB5-4471-4445-8547-1F696303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3A1-6BD6-4540-8EB1-710D32BB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059-86D4-47FA-A677-D14D1A4E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BA51-AAE8-410F-A837-A7E06C6C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4856-713C-4B23-B910-2625CAE6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60F2-A625-4A7A-9F3C-0A00F5D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B3F3-70A2-4345-ACA0-FD0043E4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6493-09B0-4862-A328-B3C2A73B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81EE-B967-40FA-80B6-CEB07084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5CC2-2F41-44C8-8D00-E82E8B6F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825-48F0-4FD2-A06D-B36CACD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AF70-CB85-43E4-8E79-0D7C41E9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785-E198-4F23-9481-DCE0DB3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ACE6-8D7D-4070-B550-100EF509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6541-AFF4-44B1-AA14-06FD77E0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19F6-0D10-4133-8AD5-1B24C7D4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F66-0450-44D0-9E46-EB79E40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ED6-1FA8-4307-9965-4BC5A3EE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B18-838A-4049-80D4-A6F4CDB8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BD5-3D4D-45D2-B57B-3160F9C8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D8C-78C4-4196-BF1D-2DDE8B5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F6C-4FDA-4B9D-B38C-AB215D95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CB1-6C53-45A2-A450-0F62C5CF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72F9-B1F3-4C9C-9A20-CB6D3DBFC2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8003-84BE-4B31-9A70-98934305262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357120"/>
            <a:ext cx="77929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№ 14 дс «Сведения о деятельности дневных стационаров медицинских организаций» за 2017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1 = форма 30  табл. 1001 стр.16 гр.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2 = форма 30 табл. 1001 стр.17 гр.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172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заполня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052640"/>
          <a:ext cx="8640720" cy="5684760"/>
        </p:xfrm>
        <a:graphic>
          <a:graphicData uri="http://schemas.openxmlformats.org/drawingml/2006/table">
            <a:tbl>
              <a:tblPr/>
              <a:tblGrid>
                <a:gridCol w="1295280"/>
                <a:gridCol w="433440"/>
                <a:gridCol w="647640"/>
                <a:gridCol w="647640"/>
                <a:gridCol w="576360"/>
                <a:gridCol w="720720"/>
                <a:gridCol w="718920"/>
                <a:gridCol w="720720"/>
                <a:gridCol w="719280"/>
                <a:gridCol w="720720"/>
                <a:gridCol w="720720"/>
                <a:gridCol w="719280"/>
              </a:tblGrid>
              <a:tr h="4413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-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-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8"/>
          <p:cNvSpPr/>
          <p:nvPr/>
        </p:nvSpPr>
        <p:spPr>
          <a:xfrm>
            <a:off x="3492360" y="458136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195640" y="494172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195640" y="580536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64000" y="4941720"/>
            <a:ext cx="7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7524720" y="494172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36400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745164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536400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752472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0040" y="1214280"/>
          <a:ext cx="8229600" cy="4316400"/>
        </p:xfrm>
        <a:graphic>
          <a:graphicData uri="http://schemas.openxmlformats.org/drawingml/2006/table">
            <a:tbl>
              <a:tblPr/>
              <a:tblGrid>
                <a:gridCol w="785880"/>
                <a:gridCol w="58572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480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Заголовок 1"/>
          <p:cNvSpPr/>
          <p:nvPr/>
        </p:nvSpPr>
        <p:spPr>
          <a:xfrm>
            <a:off x="500040" y="5715000"/>
            <a:ext cx="8329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Число коек для взрослых на конец года в дневных стационар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Число коек для детей на конец года в дневных стационар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Число выписанных лиц старше трудоспособного возраста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60.46.06. + 47.660.51.06. Число коек (мест) для взрослых на конец год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7. + 47.660.51.07. Число коек (мест) для детей на конец год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8. + 47.660.51.08. Число выписанных взрослых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8. = 47.660.46.09. + 47.660.51.09. Число выписанных лиц старше трудоспособного возраста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10. + 47.660.51.10. 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11. + 47.660.51.11. 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2. + 47.660.51.12. 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3. + 47.660.51.13. 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ах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3. = 47.670.46.06. + 47.670.51.06. Число коек (мест) для взрослых на конец год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5. = 47.670.46.07. + 47.670.51.07. Число коек (мест) для детей на конец год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47.670.46.08. + 47.670.51.08. 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8. = 47.670.46.09. + 47.670.51.09. Число выписанных лиц старше трудоспособного возраста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47.670.46.10. + 47.670.51.10. 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 формы 14дс и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0. = 47.670.46.11. + 47.670.51.11. Число проведенных пациенто-дней взрослы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1. = 47.670.46.12. + 47.670.51.12. Число проведенных пациенто-дней лицами старше трудоспособного возраст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2. = 47.670.46.13. + 47.670.51.13. Число проведенных пациенто-дней деть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92844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 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Число умерших (взрослых и детей) в стационаре на д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=141.3500.1.12. Число умерших детей в стационаре на д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1500120"/>
            <a:ext cx="795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141.3000.1.04. + 141.3000.20.04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141.3500.1.04. + 141.3500.21.04. Число выписанных детей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141.3000.1.07. + 141.3000.20.07. Число выписанных взрослых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141.3500.1.07. + 141.3500.21.07. Число выписанных детей из дневных стационар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141.3000.1.10. + 141.3000.20.10. 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141.3500.1.10. + 141.3500.21.10. 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235160"/>
                <a:gridCol w="42048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61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стациона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 = 141.1000.1.03 + 141.1000.2.03 +141.1000.3.0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5717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1 = форма 47 табл.0650 стр.46 гр.4 + стр.51 гр.4 + табл. 0660 стр.46 гр. 4 + стр.51 гр.4 + табл. 0670 стр.46 гр. 4 + стр.51 гр. 4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41 табл. 1010 стр. 1 гр. 2 = форма 47 табл. 0650 стр.46 гр. 5 + стр.51 гр.5 + табл. 0660 стр.46 гр. 5 + стр.51 гр. 5 + табл. 0670 стр.46 гр. 5 + стр.51 гр. 5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7-12-11T22:04:32Z</dcterms:modified>
  <cp:revision>165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