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DB2B-8F0C-4059-BF9A-AE2637EE60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B4ED-4D9F-4FC4-A931-1488041F851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74B-1575-4317-A421-D59DED7D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E07-5A7F-428C-AD89-0B1CAABE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BFF-4629-4F1E-B21B-49192E07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7B8-2FD7-49FE-AD86-93A2EEC7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F708-402F-49F9-A6F9-2E79DCA1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FBD7-31A1-4228-BDB7-E6EA1C68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09A5-4157-4079-A2B1-CFFB57C2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B902-09BC-4FAC-A572-80F53FFD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B9D7-3717-4E94-8D27-1580D09D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28F9-84B5-4F37-9E9E-71E43279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2D4F-E6FA-47E3-B91B-6A89F1D0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9B0-12DD-46F2-BB83-8E8F5C6C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73FF-03CB-45F0-B0AA-4202DBE9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A3F6-175B-423A-AD6E-E74AEC1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FF9E-5384-435B-B55B-8CDAA394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036E-A06C-4DE6-BDBC-CE9373FB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4822-26D5-442E-A9F5-EEB706CC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9A31-042C-45F6-B56E-68B0D229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3D453-6978-4021-A6D3-8C6156E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3CF0-8B25-4B11-B596-2F1536BB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E7EC-C1CA-477D-9AF5-D12AA784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F8ABF-DD1B-4C92-94A6-3336E0CE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397-2A69-46E7-B33E-165872DF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D69F-8C21-42ED-A4E7-951F36AD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20EB-E3C3-4757-8C28-C37D4BE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7F52-FDF9-4A07-A927-47B8E08E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FE43-2FFB-48BE-9511-78120EED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8077-22F1-4E28-B2BC-C1E38413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50E3-5DB9-4FA5-BDF8-8D05EA4D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EAAF-C96D-4700-B3F5-AC1D8418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2684-570C-422C-AB6A-92CD6D54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FCD51-8CBA-4BA1-B34F-52595F32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25EBC-8B8E-42CA-AFF6-418E1B01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EB4-E296-46FE-B42E-D7B9592F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E8F1-1D4D-488F-A7CC-C86483D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802C-C847-44F9-B65B-80C4344D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30FA-3E41-47D4-B25B-BDA37E44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DEE3-79AC-4726-ADD5-7D2FCFFD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E179-46E8-45F9-8B3E-65E3CEF5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79830-6880-46E5-883C-AEEBEEDC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855B-2E1E-4273-8F4D-54793DFD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48092-223C-4453-8E1B-D8539C12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3278-9C29-49C7-A43D-D8944404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4E2-8BF2-46DD-BED4-B0DE12BA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B40-90A4-40FF-86CF-71D73106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19D-AF09-4F2A-AECB-421E9EC5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546-454F-4C01-BAB3-D3DD093A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196-0F4E-4326-8443-FD82A83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30B-46C0-40B6-9008-AA2A49EE7DD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6812-5904-4E8B-84B1-5FCE6970EB9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DFB3-97B8-44B5-B189-3BD656DDD20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4841-90BF-439B-A4E8-52B4E6B31E7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.начальника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штаба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российской службы медицины катастроф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3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835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36560"/>
            <a:ext cx="78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И 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за  2017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4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6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3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7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743200" cy="3751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&gt;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 &gt;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=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523880" y="946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1951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 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174600" y="24750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3 (4/5) = таблица 4 000  стр. 1 гр. 3 (4/5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277920" y="3048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309600" y="42480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195120" y="4951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Прямоугольник 1"/>
          <p:cNvSpPr/>
          <p:nvPr/>
        </p:nvSpPr>
        <p:spPr>
          <a:xfrm>
            <a:off x="271440" y="55976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533520" y="37908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указываем число формирований задействованных в СМК (на конец отчетного года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538200" y="4800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 указываем количество выездов  формирований СМК  на ликвидацию медико-санитарных последствий ЧС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3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1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3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576360" y="42102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количестве ЧС с медико-санитарными последствиями должны соответствовать, представленным донесениям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576360" y="5257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ехногенных ЧС руководствоваться критериями, принятыми на совещании 5 апреля 2013г. под председательством заместителя Министра здравоохранения РФ Каграманяна Игоря Николаевич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1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2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3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9290"/>
                            </p:stCondLst>
                            <p:childTnLst>
                              <p:par>
                                <p:cTn id="165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6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R249-Y3</cp:lastModifiedBy>
  <cp:lastPrinted>2016-12-07T09:58:05Z</cp:lastPrinted>
  <dcterms:modified xsi:type="dcterms:W3CDTF">2017-12-11T09:06:52Z</dcterms:modified>
  <cp:revision>5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