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  <p:sldId id="338" r:id="rId92"/>
    <p:sldId id="339" r:id="rId93"/>
    <p:sldId id="340" r:id="rId94"/>
    <p:sldId id="341" r:id="rId95"/>
    <p:sldId id="342" r:id="rId96"/>
    <p:sldId id="343" r:id="rId97"/>
    <p:sldId id="344" r:id="rId98"/>
    <p:sldId id="345" r:id="rId9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slide" Target="slides/slide83.xml"/><Relationship Id="rId93" Type="http://schemas.openxmlformats.org/officeDocument/2006/relationships/slide" Target="slides/slide84.xml"/><Relationship Id="rId94" Type="http://schemas.openxmlformats.org/officeDocument/2006/relationships/slide" Target="slides/slide85.xml"/><Relationship Id="rId95" Type="http://schemas.openxmlformats.org/officeDocument/2006/relationships/slide" Target="slides/slide86.xml"/><Relationship Id="rId96" Type="http://schemas.openxmlformats.org/officeDocument/2006/relationships/slide" Target="slides/slide87.xml"/><Relationship Id="rId97" Type="http://schemas.openxmlformats.org/officeDocument/2006/relationships/slide" Target="slides/slide88.xml"/><Relationship Id="rId98" Type="http://schemas.openxmlformats.org/officeDocument/2006/relationships/slide" Target="slides/slide89.xml"/><Relationship Id="rId99" Type="http://schemas.openxmlformats.org/officeDocument/2006/relationships/slide" Target="slides/slide90.xml"/><Relationship Id="rId10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1BCAF-EF47-46C0-B4A3-A3F8F12D01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60994-6117-4869-BB41-09157A6E53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C155-5C6D-432B-B536-F2FE2B47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F3A-A386-4C5F-995C-1102FA46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88AA-0DEC-4F38-A8D2-A04E31C2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F32F-FF2B-4389-97EE-344AA640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6983-AB55-4F54-94F8-A176826B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14BC-940F-4426-92B1-D3FC1DDC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817E-F501-4FEF-982A-482FBCD8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50BD-FBA3-4079-9E73-DB3714DF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F107-D4A1-45E8-9FA7-FA9FD776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56B4-61B8-4270-A7DA-94C0DC55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76BE-6388-4F58-89FE-CB1E6EE1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7D14-5EA6-442A-B0E2-8F4E1958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19CB-D1BE-424A-AF31-BB290A9A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08CF-8C2A-49A9-91C2-AC7B9024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84B4-588A-4F8F-B6F1-EAB5521D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DFB5-AF1C-4188-8F48-11831134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D7A2-4A0C-49E1-90F0-B40D4386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94A4C-8F2C-48E6-A76C-983397E2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A32B4-E471-4A97-9B93-DDA6CDA4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13182-6F6B-4373-878A-59E66888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07F74-F870-483F-A032-48D77D12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E3211-5A48-4A74-9699-B83E3F07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FA4A-5099-48E6-8D04-840AD77D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B70A5-4F24-4D79-A84A-1D0D06B0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CF657-2243-4538-9D4A-923ABC6A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73AFC-951D-4881-B13F-48A3DABA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F4F06-62AE-45FF-9754-0048ACB0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8B07D-9849-42A9-9C41-CBA0B887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474D7-17DF-45CD-8181-ACF326DD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D4A4F-91C5-4A76-8D5B-9F0EE9D4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AB6A3-7568-41C5-82D6-FDD8FE1E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7F7A2-659F-4E33-B400-9DAC0E1B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9D80C-67EF-49AA-B943-959EC10B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F2D0-A2C0-40FC-A3F0-68A05176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E7C24-C440-42E0-832B-0FAE1D49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C8C81-65D3-4B1F-A3B8-955FC0B6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17162-DFA8-451E-BA2E-C8A239AE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86AE7-FCE3-4875-AAD3-815AE7BB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53660-C2F1-4D9B-B75C-64B8CFBC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12957-7CFA-4CBE-8A3F-AF501A33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55629-64D2-47A5-A500-FCC983C8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94DDD-EC10-470A-B7FF-D89E9639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283A6-0334-4222-8293-6CEF1260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F52C7-5E99-4DDF-8A72-E7511BCD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945A-C29C-44D3-A9D6-440E1FA7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5751E-2D3C-4F4F-867F-887052DD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3B375-1E66-467D-B219-DF17B88F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D7795-489C-4172-99DD-B820C215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90278-263C-4F43-9A7D-4E289660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39F56-95A2-4E5C-B44C-2290FB9A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2559F-E3E2-4574-B263-5B546948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07287-9A97-44E8-9AD9-A84ED4AF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A5F25-F6E6-470A-BE68-A03BD119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69FF2-DFF2-470B-8A5E-6AE6CB6F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C93DB-A0B1-4E4C-A917-668A4D59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BE85-DB8E-49DA-8B4D-D1E8A6AC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2F3F5-C0AD-428A-B9A5-CE79753D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18EB3-F1B6-47B8-88CE-C97C98B9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26DD6-344D-411D-9771-BE63DB4D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718F5-55F6-41A6-8C75-0CD2B57A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3A9DE-F2E2-414D-A41D-106EB3A5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27101-4931-4066-B236-C83D9422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F4BB2-1086-4886-8475-70D99757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491DD-5E13-45A0-95D5-E90EF25C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64C9C-BD23-449B-9DB6-BCE8BB74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385C5-2F81-4158-A991-8089CCF6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F130-2F72-4103-8FB0-8BD61306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FBCA0-53D3-40D7-93AE-97433F2B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42403-A0CF-496E-8378-F01D22A1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A3AF3-310F-4D60-A3A4-E188A54D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50E8B-4C16-43AD-A992-D2A66F44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3C8D8-049D-4023-9C4E-1A111732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97391-458E-4451-B31B-4D895BBD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77AF8-C7E3-463D-ADCA-5B048039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DC2C1-8FFD-4185-8A5F-7D754875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238CD-8D07-4780-9AE0-E94A52A9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737EF-9A09-4D5B-A1E8-C25FAEDF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DA05-F499-49D2-A914-9F196E47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AA7EF-0CAD-4D6D-81DB-66ED15FB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BB22E-FD66-49B7-A47E-0F518465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0F1F3-0E2F-4FE1-8C3F-08FC5D40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F2432-DB5A-413C-BFAB-6DF7300E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A0E5B-31FE-481F-8DA7-733259FD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3F95-5A15-465A-879C-21059446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1087560" y="-816120"/>
            <a:ext cx="2184480" cy="1638360"/>
          </a:xfrm>
          <a:custGeom>
            <a:avLst/>
            <a:gdLst>
              <a:gd name="textAreaLeft" fmla="*/ 319680 w 2184480"/>
              <a:gd name="textAreaRight" fmla="*/ 1864800 w 218448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2184401" h="1638300">
                <a:moveTo>
                  <a:pt x="2184401" y="819150"/>
                </a:moveTo>
                <a:lnTo>
                  <a:pt x="2184401" y="819150"/>
                </a:lnTo>
                <a:arcTo wR="1092201" hR="819150" stAng="0" swAng="5402124"/>
                <a:lnTo>
                  <a:pt x="1092201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225360" y="20520"/>
            <a:ext cx="22687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291960" y="957240"/>
            <a:ext cx="1414440" cy="1328760"/>
            <a:chOff x="291960" y="957240"/>
            <a:chExt cx="1414440" cy="132876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91960" y="957240"/>
              <a:ext cx="14144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463320" y="1215720"/>
              <a:ext cx="106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351080" y="0"/>
            <a:ext cx="10841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4BBB82-A0C4-4C6F-A768-2451B448387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1087560" y="-816120"/>
            <a:ext cx="2184480" cy="1638360"/>
          </a:xfrm>
          <a:custGeom>
            <a:avLst/>
            <a:gdLst>
              <a:gd name="textAreaLeft" fmla="*/ 319680 w 2184480"/>
              <a:gd name="textAreaRight" fmla="*/ 1864800 w 218448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2184401" h="1638300">
                <a:moveTo>
                  <a:pt x="2184401" y="819150"/>
                </a:moveTo>
                <a:lnTo>
                  <a:pt x="2184401" y="819150"/>
                </a:lnTo>
                <a:arcTo wR="1092201" hR="819150" stAng="0" swAng="5402124"/>
                <a:lnTo>
                  <a:pt x="1092201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225360" y="20520"/>
            <a:ext cx="22687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291960" y="957240"/>
            <a:ext cx="1414440" cy="1328760"/>
            <a:chOff x="291960" y="957240"/>
            <a:chExt cx="1414440" cy="132876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91960" y="957240"/>
              <a:ext cx="14144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463320" y="1215720"/>
              <a:ext cx="106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351080" y="0"/>
            <a:ext cx="10841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1225440" y="1407960"/>
            <a:ext cx="298440" cy="225720"/>
            <a:chOff x="1225440" y="1407960"/>
            <a:chExt cx="2984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1225440" y="1407960"/>
              <a:ext cx="2984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270080" y="1444680"/>
              <a:ext cx="1983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542960" y="1344600"/>
            <a:ext cx="8568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564285-A522-45F1-89E2-CF3A1B0E7C9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304308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3048120" y="0"/>
            <a:ext cx="101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889360" y="2809800"/>
            <a:ext cx="298440" cy="225360"/>
            <a:chOff x="2889360" y="2809800"/>
            <a:chExt cx="2984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889360" y="2809800"/>
              <a:ext cx="2984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936880" y="2844720"/>
              <a:ext cx="198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3211560" y="2746440"/>
            <a:ext cx="8424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CBBF3-47D9-4D92-B076-BE8797BDDBD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E05D2-2621-427D-82ED-0CFA94CCE77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352520" y="0"/>
            <a:ext cx="1083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40C88F-C3B0-40CC-8C70-ADB7D4C5AE1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A185C5-3187-410C-ABA6-8CF31ABB8C2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901800" y="969840"/>
            <a:ext cx="6327720" cy="4802400"/>
            <a:chOff x="901800" y="969840"/>
            <a:chExt cx="632772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901800" y="969840"/>
              <a:ext cx="632772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015920" y="1066680"/>
              <a:ext cx="609624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528120" y="953640"/>
            <a:ext cx="9144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6672240" y="936360"/>
            <a:ext cx="86508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D13193-F322-4E61-B786-8D14A60E614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1081728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ФЕДЕРАЛЬНОЕ </a:t>
            </a:r>
            <a:r>
              <a:rPr b="1" lang="en-US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C</a:t>
            </a: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ТАТИСТИЧЕСКОЕ НАБЛЮДЕНИЕ</a:t>
            </a:r>
            <a:br>
              <a:rPr sz="2800"/>
            </a:b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Форма №12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542600" y="2241720"/>
            <a:ext cx="10369800" cy="4248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СВЕДЕНИЯ О ЧИСЛЕ ЗАБОЛЕВАНИЙ, ЗАРЕГИСТРИРОВАННЫХ У ПАЦИЕНТОВ, ПРОЖИВАЮЩИХ В РАЙОНЕ ОБСЛУЖИВАНИЯ МЕДИЦИНСКОЙ ОРГАНИЗАЦИИ </a:t>
            </a:r>
            <a:br>
              <a:rPr sz="2800"/>
            </a:br>
            <a:r>
              <a:rPr b="1" i="1" lang="ru-RU" sz="24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за  2016 год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Оськов Ю.И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</a:t>
            </a:r>
            <a:r>
              <a:rPr b="1" lang="ru-RU" sz="12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ФГБУ «ЦНИИОИЗ» Минздрава России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12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г.Москва                                                                                                14 декабря 2016 г</a:t>
            </a:r>
            <a:r>
              <a:rPr b="1" lang="ru-RU" sz="1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1484280" y="757080"/>
          <a:ext cx="10472760" cy="5905800"/>
        </p:xfrm>
        <a:graphic>
          <a:graphicData uri="http://schemas.openxmlformats.org/drawingml/2006/table">
            <a:tbl>
              <a:tblPr/>
              <a:tblGrid>
                <a:gridCol w="3060720"/>
                <a:gridCol w="581040"/>
                <a:gridCol w="779400"/>
                <a:gridCol w="677880"/>
                <a:gridCol w="677880"/>
                <a:gridCol w="754200"/>
                <a:gridCol w="920520"/>
                <a:gridCol w="922320"/>
                <a:gridCol w="719280"/>
                <a:gridCol w="619200"/>
                <a:gridCol w="760320"/>
              </a:tblGrid>
              <a:tr h="182880">
                <a:tc row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воз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 1 ме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станов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иагно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испансер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ыявлено при проф-осмот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2400" rIns="32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 –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32400" rIns="32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32400" rIns="3240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2400" rIns="3240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2400" rIns="32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2400" rIns="3240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05-P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рожденные аномалии (пороки развития), деформации и хромосомные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рубрик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Прямоугольник 2"/>
          <p:cNvSpPr/>
          <p:nvPr/>
        </p:nvSpPr>
        <p:spPr>
          <a:xfrm>
            <a:off x="690480" y="217440"/>
            <a:ext cx="1097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Дети первого года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150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378000"/>
            <a:ext cx="1219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и первого года жизни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кторы, влияющие на состояние здоровья населения и обращения в 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 профилактической и иными целям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16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432080" y="1467000"/>
          <a:ext cx="10523520" cy="4209840"/>
        </p:xfrm>
        <a:graphic>
          <a:graphicData uri="http://schemas.openxmlformats.org/drawingml/2006/table">
            <a:tbl>
              <a:tblPr/>
              <a:tblGrid>
                <a:gridCol w="5891040"/>
                <a:gridCol w="990720"/>
                <a:gridCol w="1380960"/>
                <a:gridCol w="1131840"/>
                <a:gridCol w="1128960"/>
              </a:tblGrid>
              <a:tr h="1857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д МКБ-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 повтор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Z00-Z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ения в медицинские организации для медицинского осмотра и об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Z00-Z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тенциальная опасность для здоровья, связанная с инфекционными болезн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Z20-Z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ения в медицинские организации в связи с необходимостью проведения специфических процедур и получения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Z40-Z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мощь, включающая исполь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абилитационных процед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Z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Z51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тенциальная опасность для здоровья, связанная с социально-экономическими и психосоциальными обстоя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Z55-Z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тенциальная опасность для здоровья, связанная  с личным или семейным анамнезом и определенными обстоятельствами, влияющими на здоровь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Z80-Z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 заболевания в семейном анамнез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7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Z80-Z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 глухота и потеря слу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7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Прямоугольник 6"/>
          <p:cNvSpPr/>
          <p:nvPr/>
        </p:nvSpPr>
        <p:spPr>
          <a:xfrm>
            <a:off x="1432080" y="5900760"/>
            <a:ext cx="1050768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(16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Из стр. 1.7.1.1. таблицы 1600: обследовано на выявление кондуктивной и нейросенсорной потери слуха   1 ___________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оугольник 4"/>
          <p:cNvSpPr/>
          <p:nvPr/>
        </p:nvSpPr>
        <p:spPr>
          <a:xfrm>
            <a:off x="1432080" y="1668600"/>
            <a:ext cx="10455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17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исло новорожденных, поступивших под наблюдение данной организации   – всего  1  _________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432080" y="2536920"/>
          <a:ext cx="10540800" cy="1706400"/>
        </p:xfrm>
        <a:graphic>
          <a:graphicData uri="http://schemas.openxmlformats.org/drawingml/2006/table">
            <a:tbl>
              <a:tblPr/>
              <a:tblGrid>
                <a:gridCol w="5510160"/>
                <a:gridCol w="5030640"/>
              </a:tblGrid>
              <a:tr h="7318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18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смотрено новорожденных на 1 этапе аудиологического скрининга  1 _________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 выявлено с нарушениями слуха  2 ___________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452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числа выявленных с нарушением слуха на I этапе аудиологического скрининга обследовано на 2 этапе аудиологического скрининга  3 _________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 выявлено с нарушениями слуха  4 ___________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2" name="Rectangle 3"/>
          <p:cNvSpPr/>
          <p:nvPr/>
        </p:nvSpPr>
        <p:spPr>
          <a:xfrm>
            <a:off x="1432080" y="3816360"/>
            <a:ext cx="105235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19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числа новорожденных поступивших под наблюдение (табл. 1700)  обследовано на: фенилкетонурию   5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_________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ожденный гипотиреоз  6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__________ ,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дреногенитальный синдром   7 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_____________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алактоземию   8 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____________  ,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муковисцидоз   9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___________ .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"/>
          <p:cNvSpPr/>
          <p:nvPr/>
        </p:nvSpPr>
        <p:spPr>
          <a:xfrm>
            <a:off x="0" y="-755640"/>
            <a:ext cx="12192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(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Таблица 2" descr=""/>
          <p:cNvPicPr/>
          <p:nvPr/>
        </p:nvPicPr>
        <p:blipFill>
          <a:blip r:embed="rId1"/>
          <a:stretch/>
        </p:blipFill>
        <p:spPr>
          <a:xfrm>
            <a:off x="1427040" y="1481040"/>
            <a:ext cx="1059984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"/>
          <p:cNvSpPr/>
          <p:nvPr/>
        </p:nvSpPr>
        <p:spPr>
          <a:xfrm>
            <a:off x="0" y="-268920"/>
            <a:ext cx="12192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(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Таблица 2" descr=""/>
          <p:cNvPicPr/>
          <p:nvPr/>
        </p:nvPicPr>
        <p:blipFill>
          <a:blip r:embed="rId1"/>
          <a:stretch/>
        </p:blipFill>
        <p:spPr>
          <a:xfrm>
            <a:off x="1407960" y="890640"/>
            <a:ext cx="10638000" cy="436392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66640" y="5210280"/>
            <a:ext cx="105058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выявлено при диспансеризации определенных групп взрослого населения (гр. 12) – следует читать</a:t>
            </a:r>
            <a:r>
              <a:rPr b="0" lang="ru-RU" sz="1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выявлено при диспансеризации</a:t>
            </a:r>
            <a:br>
              <a:rPr sz="2200"/>
            </a:br>
            <a:r>
              <a:rPr b="0" lang="ru-RU" sz="1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из заболеваний с впервые в жизни установленным диагнозом (из гр. 10) юноши (гр. 13) –следует читать </a:t>
            </a:r>
            <a:r>
              <a:rPr b="0" lang="ru-RU" sz="1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заболеваний с впервые в жизни установленным диагнозом (из гр. 9) юноши </a:t>
            </a:r>
            <a:br>
              <a:rPr sz="2200"/>
            </a:br>
            <a:br>
              <a:rPr sz="1300"/>
            </a:br>
            <a:br>
              <a:rPr sz="1300"/>
            </a:b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"/>
          <p:cNvSpPr/>
          <p:nvPr/>
        </p:nvSpPr>
        <p:spPr>
          <a:xfrm>
            <a:off x="1432080" y="2027160"/>
            <a:ext cx="105076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(20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Число физических лиц зарегистрированных пациентов – всего  1 _______________, из них с диагнозом, установленн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впервые в жизни  2 _________________ ,   состоит под диспансерным наблюдением на конец отчет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года (из стр.1.0, гр. 15)  3 _____________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,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передано под наблюдение во взрослую поликлинику  4 ______________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"/>
          <p:cNvSpPr/>
          <p:nvPr/>
        </p:nvSpPr>
        <p:spPr>
          <a:xfrm>
            <a:off x="449280" y="-357480"/>
            <a:ext cx="11742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4. Взрослые 18 лет  и бол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(3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467000" y="1467000"/>
          <a:ext cx="10507680" cy="4192560"/>
        </p:xfrm>
        <a:graphic>
          <a:graphicData uri="http://schemas.openxmlformats.org/drawingml/2006/table">
            <a:tbl>
              <a:tblPr/>
              <a:tblGrid>
                <a:gridCol w="3136680"/>
                <a:gridCol w="620640"/>
                <a:gridCol w="900360"/>
                <a:gridCol w="699840"/>
                <a:gridCol w="803520"/>
                <a:gridCol w="699840"/>
                <a:gridCol w="700200"/>
                <a:gridCol w="803160"/>
                <a:gridCol w="803520"/>
                <a:gridCol w="600120"/>
                <a:gridCol w="739800"/>
              </a:tblGrid>
              <a:tr h="230040"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установ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ыявлено при проф-осмот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ыявлено  при  диспан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59400" rIns="59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 –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59400" rIns="59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"/>
          <p:cNvSpPr/>
          <p:nvPr/>
        </p:nvSpPr>
        <p:spPr>
          <a:xfrm>
            <a:off x="708120" y="1158120"/>
            <a:ext cx="1109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5. Взрослые старше трудоспособного возраста (с 55 лет у женщин и с 60 лет у мужч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(4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432080" y="2001960"/>
          <a:ext cx="10523520" cy="3830400"/>
        </p:xfrm>
        <a:graphic>
          <a:graphicData uri="http://schemas.openxmlformats.org/drawingml/2006/table">
            <a:tbl>
              <a:tblPr/>
              <a:tblGrid>
                <a:gridCol w="3141360"/>
                <a:gridCol w="623880"/>
                <a:gridCol w="900360"/>
                <a:gridCol w="699840"/>
                <a:gridCol w="806760"/>
                <a:gridCol w="699840"/>
                <a:gridCol w="700200"/>
                <a:gridCol w="806400"/>
                <a:gridCol w="804960"/>
                <a:gridCol w="600120"/>
                <a:gridCol w="739800"/>
              </a:tblGrid>
              <a:tr h="210960"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установ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ыявлено при проф-осмот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960"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59400" rIns="59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 –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59400" rIns="59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84280" y="1268280"/>
            <a:ext cx="1028232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(5000)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Число студентов, подлежавших диспансеризации в отчетном году  1 _________,   число студентов, прошедших диспансеризацию в отчетном году  2 __________, выявлено у них заболеваний с диагнозом, установленным впервые в жизни – всего  3 _________, из них: взято под диспансерное наблюдение  4 ________ .</a:t>
            </a: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r>
              <a:rPr b="1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(5100)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офилактические медицинские осмотры обучающихся в общеобразовательных организациях и профессиональных образовательных организациях, а также образовательных организациях высшего образования в целях раннего выявления незаконного потребления наркотических средств и психотропных веществ:</a:t>
            </a: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длежало осмотру  1 _____________,  осмотрено 2 ___________ .</a:t>
            </a: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879120" y="6445440"/>
            <a:ext cx="10209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320e04"/>
              </a:solidFill>
              <a:latin typeface="Corbel"/>
            </a:endParaRPr>
          </a:p>
        </p:txBody>
      </p:sp>
      <p:sp>
        <p:nvSpPr>
          <p:cNvPr id="365" name="Rectangle 1"/>
          <p:cNvSpPr/>
          <p:nvPr/>
        </p:nvSpPr>
        <p:spPr>
          <a:xfrm>
            <a:off x="0" y="4320"/>
            <a:ext cx="1219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6. Диспансеризация студентов высш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учебных учре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1720" y="2215800"/>
            <a:ext cx="10351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Графы в таблицах сопоставимы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909440" y="1544400"/>
            <a:ext cx="9875880" cy="29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62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203"/>
                </a:solidFill>
                <a:latin typeface="Times New Roman"/>
              </a:rPr>
              <a:t>Заболеваемость - важнейший показатель состояния обществен-</a:t>
            </a: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</a:rPr>
              <a:t>ного здоровья, характеризующий </a:t>
            </a:r>
            <a:r>
              <a:rPr b="1" lang="ru-RU" sz="2800" spc="-1" strike="noStrike">
                <a:solidFill>
                  <a:srgbClr val="4b2203"/>
                </a:solidFill>
                <a:latin typeface="Times New Roman"/>
              </a:rPr>
              <a:t>распространенность, струк-</a:t>
            </a:r>
            <a:br>
              <a:rPr sz="2800"/>
            </a:br>
            <a:r>
              <a:rPr b="1" lang="ru-RU" sz="2800" spc="-1" strike="noStrike">
                <a:solidFill>
                  <a:srgbClr val="4b2203"/>
                </a:solidFill>
                <a:latin typeface="Times New Roman"/>
              </a:rPr>
              <a:t>туру и динамику зарегистрированных врачами болезней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</a:rPr>
              <a:t> среди населения в целом или в отдельных его группах (возрас-</a:t>
            </a: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</a:rPr>
              <a:t>тных, половых, территориальных, профессиональных и др.) и </a:t>
            </a:r>
            <a:r>
              <a:rPr b="1" lang="ru-RU" sz="2800" spc="-1" strike="noStrike">
                <a:solidFill>
                  <a:srgbClr val="4b2203"/>
                </a:solidFill>
                <a:latin typeface="Times New Roman"/>
              </a:rPr>
              <a:t>служащий одним из критериев оценки работы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</a:rPr>
              <a:t> врача, меди-</a:t>
            </a: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</a:rPr>
              <a:t>цинской организации, органа здравоохранения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1720" y="691920"/>
            <a:ext cx="104727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тчет представляется в 2 разрезах: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00 – о заболеваниях всего населения 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субъекта РФ 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01 – о заболеваниях сельского   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населения субъекта РФ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328400" y="4508280"/>
            <a:ext cx="1050588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рещенные графоклетки не заполняются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57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Городское население</a:t>
            </a:r>
            <a:br>
              <a:rPr sz="3600"/>
            </a:br>
            <a:r>
              <a:rPr b="0" lang="ru-RU" sz="3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Сельское населени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1720" y="274680"/>
            <a:ext cx="101502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соответствии с Указаниями по заполнению формы федерального статистического наблюдения №12</a:t>
            </a:r>
            <a:br>
              <a:rPr sz="4300"/>
            </a:br>
            <a:r>
              <a:rPr b="0" lang="ru-RU" sz="43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се таблицы формы заполняются по всем строкам и графам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09480" y="6021000"/>
            <a:ext cx="1097280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97160" y="274320"/>
            <a:ext cx="1018512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rbel"/>
              </a:rPr>
              <a:t>ИСКЛЮЧЕНИЕ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09480" y="5805000"/>
            <a:ext cx="10972800" cy="3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97160" y="691920"/>
            <a:ext cx="10199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ключение:</a:t>
            </a:r>
            <a:br>
              <a:rPr sz="4300"/>
            </a:br>
            <a:r>
              <a:rPr b="0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а 10.4.1.1 – </a:t>
            </a:r>
            <a:r>
              <a:rPr b="0" lang="en-US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20.0 –</a:t>
            </a:r>
            <a:r>
              <a:rPr b="0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стабильная стенокардия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аполняется 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 физическим лицам 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графы 4 и 9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9480" y="5877000"/>
            <a:ext cx="10972800" cy="24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346040" y="1052280"/>
            <a:ext cx="102362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b2203"/>
                </a:solidFill>
                <a:latin typeface="Corbel"/>
              </a:rPr>
              <a:t>ЗАПОЛНЕНИЕ ФОРМЫ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66640" y="360360"/>
            <a:ext cx="10318680" cy="60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</a:t>
            </a:r>
            <a:r>
              <a:rPr b="0" lang="ru-RU" sz="22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Форма федерального статистического наблюдения № 12 «Сведения о числе заболеваний, зарегистрированных у пациентов, проживающих в районе обслуживания медицинской организации», составляется всеми медицинскими организациями, входящие в номенклатуру медицинских организаций, оказывающие медицинскую помощь в амбулаторных условиях (приказ Минздрава России от 6 августа 2013 г. № 529н «Об утверждении номенклатуры медицинских организаций», зарегистрирован Министерством юстиции Российской Федерации 13.09.2013 № 29950), в соответствии с приказом от 21 июля 2016 года № 355 «Об утверждении статистического инструментария для организации Министерством здравоохранения Российской Федерации федерального статистического наблюдения в сфере охраны здоровья» Федеральной службы государственной статистики. </a:t>
            </a:r>
            <a:br>
              <a:rPr sz="2200"/>
            </a:br>
            <a:br>
              <a:rPr sz="2200"/>
            </a:br>
            <a:br>
              <a:rPr sz="2500"/>
            </a:br>
            <a:r>
              <a:rPr b="0" lang="ru-RU" sz="25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</a:t>
            </a:r>
            <a:br>
              <a:rPr sz="1100"/>
            </a:b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896400" y="5552640"/>
            <a:ext cx="1036980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14080" y="274320"/>
            <a:ext cx="1054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ЕЕМСТВЕННОСТЬ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22520" y="274680"/>
            <a:ext cx="10247040" cy="58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  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сещение - это контакт пациента с врачом амбулаторно-поликлинического учреждения (подразделения) или стационара (без последующей госпитализации) по любому поводу с последующей записью в "Медицинской карте амбулаторного больного", включающей жалобы, анамнез, объективные данные, диагнозы с кодированием  их по МКБ-10, группу здоровья, данные обследования и динамического наблюдения, назначенное лечение, рекомендации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69480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Организация, имеющая в своем составе подразделения, оказывающие медицинскую помощь в амбулаторных условиях и ведущая только консультативный прием (в основном областные учреждения), составляет форму 12 по соответствующим строкам лишь в том случае, если в данной организации у пациентов не только выявляются эти заболевания, но и осуществляется их лечение, а также и диспансерное наблюдение за пациентами.</a:t>
            </a: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В остальных случаях они обязаны всю информацию о больном передать в медицинскую организацию по месту жительства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 flipV="1">
            <a:off x="8504280" y="3610800"/>
            <a:ext cx="1309680" cy="320760"/>
          </a:xfrm>
          <a:prstGeom prst="rect">
            <a:avLst/>
          </a:prstGeom>
          <a:solidFill>
            <a:srgbClr val="f2f2f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540160" y="258840"/>
          <a:ext cx="7111800" cy="198360"/>
        </p:xfrm>
        <a:graphic>
          <a:graphicData uri="http://schemas.openxmlformats.org/drawingml/2006/table">
            <a:tbl>
              <a:tblPr/>
              <a:tblGrid>
                <a:gridCol w="7111800"/>
              </a:tblGrid>
              <a:tr h="19836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ФЕДЕРАЛЬНОЕ СТАТИСТИЧЕСКОЕ НАБЛЮД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2540160" y="533520"/>
          <a:ext cx="7111800" cy="244440"/>
        </p:xfrm>
        <a:graphic>
          <a:graphicData uri="http://schemas.openxmlformats.org/drawingml/2006/table">
            <a:tbl>
              <a:tblPr/>
              <a:tblGrid>
                <a:gridCol w="7111800"/>
              </a:tblGrid>
              <a:tr h="24444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КОНФИДЕНЦИАЛЬНОСТЬ ГАРАНТИРУЕТСЯ ПОЛУЧАТЕЛЕМ ИНФОРМ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2381400" y="884160"/>
          <a:ext cx="7540560" cy="838440"/>
        </p:xfrm>
        <a:graphic>
          <a:graphicData uri="http://schemas.openxmlformats.org/drawingml/2006/table">
            <a:tbl>
              <a:tblPr/>
              <a:tblGrid>
                <a:gridCol w="7540560"/>
              </a:tblGrid>
              <a:tr h="8384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арушение порядка представления статистической информации, а равно представление недостоверной статистической информации влечет ответственность, установленную статьей 13.19 Кодекса Российской Федерации об административных правонарушениях 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от 30.12.2001 № 195-ФЗ, а также статьей 3 Закона Российской Федерации от 13.05.1992 № 2761-1 “Об ответственности за нарушение порядка представления государственной статистической отчетности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32" name="Rectangle 1"/>
          <p:cNvSpPr/>
          <p:nvPr/>
        </p:nvSpPr>
        <p:spPr>
          <a:xfrm>
            <a:off x="0" y="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2540160" y="1722600"/>
          <a:ext cx="7111800" cy="198360"/>
        </p:xfrm>
        <a:graphic>
          <a:graphicData uri="http://schemas.openxmlformats.org/drawingml/2006/table">
            <a:tbl>
              <a:tblPr/>
              <a:tblGrid>
                <a:gridCol w="7111800"/>
              </a:tblGrid>
              <a:tr h="19836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ОЗМОЖНО ПРЕДОСТАВЛЕНИЕ В ЭЛЕКТРОННОМ ВИ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2031840" y="2027160"/>
          <a:ext cx="8128080" cy="487440"/>
        </p:xfrm>
        <a:graphic>
          <a:graphicData uri="http://schemas.openxmlformats.org/drawingml/2006/table">
            <a:tbl>
              <a:tblPr/>
              <a:tblGrid>
                <a:gridCol w="1528920"/>
                <a:gridCol w="5308560"/>
                <a:gridCol w="1290600"/>
              </a:tblGrid>
              <a:tr h="487440"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ВЕДЕНИЯ О ЧИСЛЕ ЗАБОЛЕВАНИЙ, ЗАРЕГИСТРИРОВАННЫХ У ПАЦИЕНТОВ, ПРОЖИВАЮЩИХ В РАЙОНЕ ОБСЛУЖИВАНИЯ МЕДИЦИНСКОЙ ОРГАНИЗАЦИИ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за  20___  г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2016000" y="2590920"/>
          <a:ext cx="8128080" cy="2193840"/>
        </p:xfrm>
        <a:graphic>
          <a:graphicData uri="http://schemas.openxmlformats.org/drawingml/2006/table">
            <a:tbl>
              <a:tblPr/>
              <a:tblGrid>
                <a:gridCol w="4339440"/>
                <a:gridCol w="1736280"/>
                <a:gridCol w="115200"/>
                <a:gridCol w="1937160"/>
              </a:tblGrid>
              <a:tr h="14112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редоставляют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роки предоставл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Форма № 1</a:t>
                      </a:r>
                      <a:r>
                        <a:rPr b="1" lang="en-US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72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юридические лица - медицинские организации, оказывающие медицинскую помощь в амбулаторных условиях и медицинские организации, имеющие подразделения, оказывающие медицинскую помощь в амбулаторных условия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- органу местного самоуправления, осуществляющему полномочия  в сфере охраны здоровь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органы местного самоуправления, осуществляющие полномочия  в сфере охраны здоровья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- органу исполнительной власти субъекта Российской Федерации, осуществляющему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олномочия  в сфере охраны здоровь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органы исполнительной власти субъекта Российской Федерации, осуществляющие полномочия в сфере охраны здоровья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- Министерству здравоохранения Российской Федерац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- территориальному органу Росстата в субъекте Российской Федерации по установленному им адрес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0 январ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о 20 феврал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о 5 мар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5 мар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риказ Росстата: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Об утверждении формы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от 21.07.2016 № 3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О внесении изменений (при наличи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от  __________ № ___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от  __________ № ___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Годов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1986120" y="4846680"/>
          <a:ext cx="9039240" cy="1814400"/>
        </p:xfrm>
        <a:graphic>
          <a:graphicData uri="http://schemas.openxmlformats.org/drawingml/2006/table">
            <a:tbl>
              <a:tblPr/>
              <a:tblGrid>
                <a:gridCol w="974520"/>
                <a:gridCol w="2687760"/>
                <a:gridCol w="2687400"/>
                <a:gridCol w="2689560"/>
              </a:tblGrid>
              <a:tr h="216000">
                <a:tc gridSpan="4">
                  <a:txBody>
                    <a:bodyPr lIns="39960" rIns="3996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аименование отчитывающейся организации</a:t>
                      </a: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______________________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4">
                  <a:txBody>
                    <a:bodyPr lIns="39960" rIns="3996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очтовый адрес</a:t>
                      </a: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_________________________________________________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формы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о ОКУ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отчитывающейся организаци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о ОК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060934</a:t>
                      </a:r>
                      <a:r>
                        <a:rPr b="0" lang="en-US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66640" y="414360"/>
            <a:ext cx="10420200" cy="60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Если пациент обратился за медицинской помощью, минуя поликлинику, в больницу, то «Талон  амбулаторного пациента» (далее - Талон) заполняют в поликлинике после выписки пациента из стационара на основании "Выписного эпикриза". При этом если пациент пришел на прием, то в Талоне производится отметка о регистрации всех заболеваний для включения этих сведений в форму федерального статистического наблюдения № 12 и вносится отметка о посещении. Если пациент на прием не пришел, то в Талоне регистрируются все заболевания без отметки о посещении.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В Талоне также должно быть зарегистрировано обращение по поводу заболевания, включающее в себя одно или несколько посещений, в результате которых цель обращения достигнута.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При заполнении Талона врач также делает отметки о дате впервые выявленного основного и сопутствующих заболеваний, взятии и снятии с диспансерного учета. Эта данные необходимы для заполнения формы федерального статистического наблюдения № 12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исьма Министерства здравоохранения Российской Федерации: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от 26 апреля 2011 г. № 14-9/10/2-4150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от 14 марта 2013 г. № 13-7/10/2-1691 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казания по заполнению формы 12 за 1991 год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14480" y="914040"/>
            <a:ext cx="9996480" cy="52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По отдельным узким специальностям – включаются сведения о всех случаях зарегистрированных заболеваний у больных и обо всех больных, состоящих под диспансерным наблюдением, проживающих не только на территории, закрепленной для обслуживания за данной медицинской организацией в целом, но и на территории, закрепленной за отдельными специалистами, которая может быть шире и охватывать территорию обслуживания других поликлиник, если они не имеют в своих штатах соответствующих специалистов. 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84280" y="274320"/>
            <a:ext cx="1038528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 форму не включают сведения о заболеваниях с кодами по МКБ-10, отмеченных  звездочкой (*)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в Форму включают один раз в год сведения об основном, фоновом, конкурирующем и сопутствующем заболеваниях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сведения об осложнениях основного и других заболеваний в Форму не включают</a:t>
            </a:r>
            <a:br>
              <a:rPr sz="2800"/>
            </a:br>
            <a:br>
              <a:rPr sz="40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при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обострении хронических заболеваний регистрируют эти хронические заболевания, а не их острые формы</a:t>
            </a:r>
            <a:br>
              <a:rPr sz="40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34680" y="1197000"/>
            <a:ext cx="10317240" cy="32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ациенты, имеющие два и более заболевания, показываются по 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соответствующим строкам по числу выявленных и 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зарегистрированных заболеваний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828440" y="6065280"/>
            <a:ext cx="8534520" cy="2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orbel"/>
              </a:rPr>
              <a:t>     </a:t>
            </a: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Corbel"/>
              </a:rPr>
              <a:t>        </a:t>
            </a:r>
            <a:r>
              <a:rPr b="0" lang="ru-RU" sz="2800" spc="-1" strike="noStrike">
                <a:solidFill>
                  <a:srgbClr val="4b2203"/>
                </a:solidFill>
                <a:latin typeface="Corbel"/>
              </a:rPr>
              <a:t>Ф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орма 12 должна совпадать со специализированными формами по количеству зарегистрированных заболеваний. Движение диспансерных групп в данных формах совпадает с движением диспансерных групп в форме 12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1720" y="620640"/>
            <a:ext cx="10334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аблицы 1000, 2000, 3000, 4000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графа 4 - заболевания, зарегистрированные у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пациентов впервые в жизни и повторно один  раз в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году (+ и -)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графа 5 – в возрасте 0-4 года, из графы 4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графа 6 – в возрасте 5-9 лет, из графы 4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при этом графа 4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графам 5+6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графа 8 – взято под диспансерное наблюдение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в течение года, из графы 4 «всего» (+ и -)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графа 9 - заболевания, зарегистрированные у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пациентов впервые в жизни (+),  из графы 4 </a:t>
            </a:r>
            <a:br>
              <a:rPr sz="2800"/>
            </a:b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84280" y="274680"/>
            <a:ext cx="10098000" cy="59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 графа 10 - взято под диспансерное наблюдение  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в течение года (+) , из графы 9 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 графа 11 – выявлено при профосмотре, из графы 9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 графа 12 – выявлено  при  диспансеризации определенных групп   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взрослого населения, из графы 9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таблице 2000 - выявлено  при  диспансеризации 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 графа 14 – снято с диспансерного наблюдения 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 графа 15 – состоит под диспансерным наблюдением на конец     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отчетного года 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 графы 7,13,16 - в таблице 2000 – все данные о юношах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01920" y="845640"/>
            <a:ext cx="1045368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ласс 9. «Болезни системы кровообращения»  </a:t>
            </a:r>
            <a:br>
              <a:rPr sz="28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Пациенты  с  острой  ревматической лихорадкой наблюдаются в течение 3-х месяцев, поэтому в графе 15 таблиц 1000, 2000, 3000 и 4000 показывают только тех пациентов, которые заболели в четвертом квартале отчетного года. Графа 4 таблиц 1000, 2000, 3000 и 4000 должна быть равна графе 9 по строке 10.1. Если заболевание перешло в хроническую форму, то пациента по строке 10.1 с учета снимают, а по строке 10.2 берут на учет, как впервые выявленное хроническое заболевание.</a:t>
            </a:r>
            <a:br>
              <a:rPr sz="2500"/>
            </a:br>
            <a:br>
              <a:rPr sz="25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828440" y="6208920"/>
            <a:ext cx="853452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49000" y="810720"/>
            <a:ext cx="10455480" cy="60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ласс 9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Продолжительность стенокардии в МКБ-10 не определена, поэтому стенокардия (таблицы 2000, 3000 и 4000, строка 10.4.1) регистрируется как самостоятельное заболевание, впервые выявленное – первый раз в жизни, а затем – один раз в год со знаком (–).   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Случаи приступов стенокардии при атеросклеротической болезни сердца как самостоятельные заболевания не регистрируются. Графы 4 и 9 не равны.</a:t>
            </a:r>
            <a:br>
              <a:rPr sz="2800"/>
            </a:br>
            <a:br>
              <a:rPr sz="2800"/>
            </a:br>
            <a:br>
              <a:rPr sz="1800"/>
            </a:b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1600"/>
            </a:br>
            <a:br>
              <a:rPr sz="1800"/>
            </a:b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1828440" y="6524280"/>
            <a:ext cx="8534520" cy="73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1720" y="441360"/>
            <a:ext cx="1015020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азделы формы №12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1. Дети (0-14 лет включительно) – таблица 1000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2. Дети первого года жизни – таблица 1500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3.Дети  (15-17 лет включительно) – таблица 2000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4. Взрослые 18 лет  и старше - таблица 3000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5. Взрослые старше трудоспособного возраста (с 55 лет у женщин и с 60 лет у мужчин) – таблица 4000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6. Диспансеризация студентов высших учебных 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учреждений </a:t>
            </a:r>
            <a:br>
              <a:rPr sz="1600"/>
            </a:br>
            <a:br>
              <a:rPr sz="39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67000" y="836280"/>
            <a:ext cx="101152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Класс 9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203"/>
                </a:solidFill>
                <a:latin typeface="Corbe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203"/>
                </a:solidFill>
                <a:latin typeface="Corbel"/>
              </a:rPr>
              <a:t>         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Пациенты с острыми, повторными инфарктами миокарда и острыми нарушениями мозгового кровообращения наблюдаются в течение 28-30 дней, а затем снимаются с диспансерного учета, поэтому в графе 15 таблиц 2000, 3000 и 4000 отмечают только тех пациентов, которые заболели в декабре месяце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87240" y="549360"/>
            <a:ext cx="988524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ласс 9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трока 10.6.7 «последствия цереброваскулярных болезней» диагноз используется только в случае смерти пациента.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В строке 10.6.7 заполняются графы 4, 9 и они равны. 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828440" y="5298120"/>
            <a:ext cx="853452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200240" y="1052280"/>
            <a:ext cx="99835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Класс 10. «Болезни органов дыхания</a:t>
            </a:r>
            <a:r>
              <a:rPr b="1" lang="ru-RU" sz="32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Пациенты с острыми пневмониями наблюдаются в течение 6 месяцев, а затем снимаются с диспансерного учета, поэтому в графе 15 таблиц 1000, 2000, 3000 и 4000 показываются только те пациенты, которые заболели во втором полугодии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В таблице 1500 показываются дети которые заболели пневмонией во второй половине  первого года жизни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17760" y="1501560"/>
            <a:ext cx="1031688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вторно возникающие в течение года острые пневмонии, острая ревматическая лихорадка, острые и повторные инфаркты миокарда, острые нарушения мозгового кровообращения регистрируются как острые (со знаком  +).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По этим строкам графы 4 и 9 таблиц 1000, 2000, 3000 и 4000 равны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828440" y="6208920"/>
            <a:ext cx="853452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52320" y="896400"/>
            <a:ext cx="104202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Класс 17. «Отдельные состояния, возникающие в перинатальном периоде»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У детей, регистрируются как острые (таблица 1000, графа 4 должна быть равна графе 9), дети наблюдаются в течение 1 месяца, поэтому в графе 15 на конец отчетного периода показы-</a:t>
            </a: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вают только тех детей, у которых эти состояния развились в декабре месяце. </a:t>
            </a:r>
            <a:br>
              <a:rPr sz="2800"/>
            </a:br>
            <a:br>
              <a:rPr sz="2200"/>
            </a:br>
            <a:br>
              <a:rPr sz="21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569600" y="5865840"/>
            <a:ext cx="1016172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320e04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672920" y="654120"/>
            <a:ext cx="10099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Класс 17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Строка 17.0 (таблиц 2000 и 3000) заполняется только в случаях перинатальной смертности и касается состояния здоровья матери. В этих случаях состояния матери кодируются кодами Р00-Р04, а не кодами </a:t>
            </a:r>
            <a:r>
              <a:rPr b="0" lang="en-US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XV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класса.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-40680"/>
            <a:ext cx="109728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517400" y="1196640"/>
            <a:ext cx="10434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Класс 18. «Симптомы, признаки и отклонения от нормы, выявленные при клинических и лабораторных исследованиях, не классифицированные в других рубриках».</a:t>
            </a: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Состояния из 18 класса (стр. 19.0), как правило, не должны регистрироваться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78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«Состояния, входящие в стр. 19.0 (</a:t>
            </a:r>
            <a:r>
              <a:rPr b="0" lang="en-US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XVIII</a:t>
            </a: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класс МКБ-10), как правило, не должны регистрироваться (могут быть единичные случаи, когда не было возможности установить диагноз заболевания), и на учет не берутся».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Наблюдение по поводу бессимптомного инфекционного статуса, вызванного ВИЧ, кодируется </a:t>
            </a:r>
            <a:r>
              <a:rPr b="0" lang="en-US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21, а не </a:t>
            </a:r>
            <a:r>
              <a:rPr b="0" lang="en-US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75, и включается в таблицы 1100, 2100, 3100 и 4100, а не в строку 19.0!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Ребенок, рожденный от ВИЧ-инфицированной матери подлежит обследованию. Если тест положительный, ребенок обследован и заболевание установлено, код В20 – В24. Если ребенок обследован и требуется наблюдение и дальнейшее обследование (неоконченный тест на ВИЧ), показывается ребенок в таб.1100 по Z-классу.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Наблюдение при подозрениях на какое-либо заболевание кодируется рубрикой </a:t>
            </a:r>
            <a:r>
              <a:rPr b="0" lang="en-US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03: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- на туберкулез – </a:t>
            </a:r>
            <a:r>
              <a:rPr b="0" lang="en-US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03.0;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- на ВИЧ-инфекцию, сахарный диабет – </a:t>
            </a:r>
            <a:r>
              <a:rPr b="0" lang="en-US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03.8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Эти состояния включаются в таблицы 1100, 2100, 3100 и 4100, а не в строку 19.0!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Результаты проведенных анализов, исследований, проб и т.д. (</a:t>
            </a:r>
            <a:r>
              <a:rPr b="0" lang="en-US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73, </a:t>
            </a:r>
            <a:r>
              <a:rPr b="0" lang="en-US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75 и т.д.)  кодируются в классе </a:t>
            </a:r>
            <a:r>
              <a:rPr b="0" lang="en-US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XVIII</a:t>
            </a: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, в строку 19.0 не включаются и на учет не берутся!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83920" y="811080"/>
            <a:ext cx="104886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ласс 19. Травмы, отравления и некоторые другие последствия воздействия внешних причин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Графа 4 и 9 могут быть не равны, в случае наличия вибрационной болезни, терапевтически и хирургических последствий и травм лечение, которых превышает года. 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    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следствия травм относятся к 19 классу и кодируются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одами Т90-Т98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828440" y="5298120"/>
            <a:ext cx="853452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66640" y="1017360"/>
            <a:ext cx="991044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       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       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Некоторые острые заболевания и состояния (острый отит, острый миокардит, острые респираторные инфекции верхних и нижних дыхательных путей, грипп, а также травмы, за исключением последствий и др.) регистрируются столько раз, сколько они возникают в течение отчетного года. При этом графа 4 должна быть равна графе 9 по соответствующим строкам таблиц 1000, 2000, 3000 и 4000. Это не относится к тем заболеваниям, при которых острые формы могут переходить в хронические. При обострении хронических заболеваний регистрируют эти хронические заболевания, а не их острые формы.</a:t>
            </a:r>
            <a:br>
              <a:rPr sz="2200"/>
            </a:br>
            <a:br>
              <a:rPr sz="24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828440" y="6246000"/>
            <a:ext cx="85345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09440" y="360000"/>
            <a:ext cx="987588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ЗМЕНЕНИЯ В ФОРМ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564920" y="2069640"/>
            <a:ext cx="9448920" cy="19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-40680"/>
            <a:ext cx="109728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487160" y="1197000"/>
            <a:ext cx="85453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21 декабря 2012 г. № 1344н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6 декабря 2012 г. № 1011н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30 ноября 2009 г. № 93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12 июля 2013 г. № 457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11 апреля 2013 г. № 216н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3 марта 2011 г. № 163н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15 февраля 2013 г. № 72н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31 января 2012 г. № 70н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4 февраля 2010 г. № 55н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3 февраля 2015 г. № 36ан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21 декабря 2012 г. № 1346н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Дети первого года жизни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57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аблицы 1500, 1600, 1650 заполняются с 01 января 2015 года по 31 декабря 2016 года </a:t>
            </a: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дети, которым исполнился год, начиная с 01 января 2016 года - они входят в отчет данный отчет, соответственно все заболевания, которые были зарегистрированы с 01 января 2015 года)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аблицы 1700, 1800, 1900 заполняются с 01 января по 31 декабря 2016 года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1535040" y="757080"/>
          <a:ext cx="10153800" cy="5916600"/>
        </p:xfrm>
        <a:graphic>
          <a:graphicData uri="http://schemas.openxmlformats.org/drawingml/2006/table">
            <a:tbl>
              <a:tblPr/>
              <a:tblGrid>
                <a:gridCol w="2968560"/>
                <a:gridCol w="561960"/>
                <a:gridCol w="755640"/>
                <a:gridCol w="657360"/>
                <a:gridCol w="657360"/>
                <a:gridCol w="731880"/>
                <a:gridCol w="892080"/>
                <a:gridCol w="893880"/>
                <a:gridCol w="698400"/>
                <a:gridCol w="598320"/>
                <a:gridCol w="738360"/>
              </a:tblGrid>
              <a:tr h="182880">
                <a:tc row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в воз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до 1 ме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установ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диагно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диспансер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выявлено при проф-осмот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2400" rIns="32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 –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32400" rIns="32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32400" rIns="3240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2400" rIns="3240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2400" rIns="32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2400" rIns="3240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P05-P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врожденные аномалии (пороки развития), деформации и хромосомные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8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рубрик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9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2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Прямоугольник 2"/>
          <p:cNvSpPr/>
          <p:nvPr/>
        </p:nvSpPr>
        <p:spPr>
          <a:xfrm>
            <a:off x="690480" y="217440"/>
            <a:ext cx="1097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2. Дети первого года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(150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17400" y="274680"/>
            <a:ext cx="1033452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аблица 1500 заполняется на детей, которым в 2016 году исполнился год. Соответственно данная таблица заполняется с 01 января 2015 года по 31 декабря 2016 года. Медицинская органи-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ация включает в таблицу 1500 информацию о заболеваниях заре-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гистрированных  у детей, которым на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мент проживания на дан-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й территории исполнился год.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Графа 4 равна графе 9.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84280" y="274680"/>
            <a:ext cx="10437840" cy="59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 графе 5 таблицы 1500 представляется информация о заболеваниях детей первого месяца жизни из графы 4 (заболевания детей первого года жизни - всего)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В графе 14 представляется информация о </a:t>
            </a: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ыздоровевших и умерших. </a:t>
            </a:r>
            <a:br>
              <a:rPr sz="28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ехавшие дети не учитываются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В графе 15 представляется информация о детях состоящих под диспансерном  наблюдением по заболеванию.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0" y="170280"/>
            <a:ext cx="1219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Дети первого года жизни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Факторы, влияющие на состояние здоровья населения и обращения в 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(с профилактической и иными целям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(16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1501920" y="1233360"/>
          <a:ext cx="10437840" cy="3942000"/>
        </p:xfrm>
        <a:graphic>
          <a:graphicData uri="http://schemas.openxmlformats.org/drawingml/2006/table">
            <a:tbl>
              <a:tblPr/>
              <a:tblGrid>
                <a:gridCol w="5843520"/>
                <a:gridCol w="982440"/>
                <a:gridCol w="1368720"/>
                <a:gridCol w="1122120"/>
                <a:gridCol w="1121040"/>
              </a:tblGrid>
              <a:tr h="1828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Код МКБ-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Обращ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них: повтор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Z00-Z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обращения в медицинские организации для медицинского осмотра и об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Z00-Z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потенциальная опасность для здоровья, связанная с инфекционными болезн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Z20-Z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обращения в медицинские организации в связи с необходимостью проведения специфических процедур и получения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Z40-Z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помощь, включающая исполь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реабилитационных процед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Z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Z51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потенциальная опасность для здоровья, связанная с социально-экономическими и психосоциальными обстоя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Z55-Z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потенциальная опасность для здоровья, связанная  с личным или семейным анамнезом и определенными обстоятельствами, влияющими на здоровь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Z80-Z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них: заболевания в семейном анамнез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7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Z80-Z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них: глухота и потеря слу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7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8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6" name="Прямоугольник 6"/>
          <p:cNvSpPr/>
          <p:nvPr/>
        </p:nvSpPr>
        <p:spPr>
          <a:xfrm>
            <a:off x="1484280" y="5472000"/>
            <a:ext cx="1043784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(16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611617"/>
                </a:solidFill>
                <a:latin typeface="Arial"/>
              </a:rPr>
              <a:t>Из стр. 1.7.1.1. таблицы 1600: обследовано на выявление кондуктивной и нейросенсорной потер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611617"/>
                </a:solidFill>
                <a:latin typeface="Arial"/>
              </a:rPr>
              <a:t>слуха   1 ___________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оугольник 4"/>
          <p:cNvSpPr/>
          <p:nvPr/>
        </p:nvSpPr>
        <p:spPr>
          <a:xfrm>
            <a:off x="1517760" y="1668600"/>
            <a:ext cx="10107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611617"/>
                </a:solidFill>
                <a:latin typeface="Arial"/>
              </a:rPr>
              <a:t>(17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611617"/>
                </a:solidFill>
                <a:latin typeface="Arial"/>
              </a:rPr>
              <a:t>Число новорожденных, поступивших под наблюдение данной организации   – всего  1  _________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501920" y="2536920"/>
          <a:ext cx="10690200" cy="1706400"/>
        </p:xfrm>
        <a:graphic>
          <a:graphicData uri="http://schemas.openxmlformats.org/drawingml/2006/table">
            <a:tbl>
              <a:tblPr/>
              <a:tblGrid>
                <a:gridCol w="5141880"/>
                <a:gridCol w="5548320"/>
              </a:tblGrid>
              <a:tr h="7318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(18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Осмотрено новорожденных на 1 этапе аудиологического скрининга  1 _________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них: выявлено с нарушениями слуха  2 ___________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452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числа выявленных с нарушением слуха на I этапе аудиологического скрининга обследовано на 2 этапе аудиологического скрининга  3 _________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них: выявлено с нарушениями слуха  4 ___________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Rectangle 3"/>
          <p:cNvSpPr/>
          <p:nvPr/>
        </p:nvSpPr>
        <p:spPr>
          <a:xfrm>
            <a:off x="1517760" y="4070880"/>
            <a:ext cx="102312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(19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Из числа новорожденных поступивших под наблюдение (табл. 1700)  обследовано на: фенилкетонурию   5</a:t>
            </a:r>
            <a:r>
              <a:rPr b="0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_________ </a:t>
            </a:r>
            <a:r>
              <a:rPr b="0" lang="en-US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врожденный гипотиреоз  6</a:t>
            </a:r>
            <a:r>
              <a:rPr b="0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__________ ,</a:t>
            </a:r>
            <a:r>
              <a:rPr b="0" lang="en-US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адреногенитальный синдром   7  </a:t>
            </a:r>
            <a:r>
              <a:rPr b="0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_____________ </a:t>
            </a: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, </a:t>
            </a:r>
            <a:r>
              <a:rPr b="0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галактоземию   8  </a:t>
            </a:r>
            <a:r>
              <a:rPr b="0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____________  ,</a:t>
            </a:r>
            <a:r>
              <a:rPr b="0" lang="en-US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муковисцидоз   9</a:t>
            </a:r>
            <a:r>
              <a:rPr b="0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___________ .</a:t>
            </a:r>
            <a:r>
              <a:rPr b="0" lang="en-US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34680" y="1052280"/>
            <a:ext cx="103698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АБЛИЦЫ 1100,  1600, 2100, 3100,4100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Источником информации для заполнения таблиц 1100,  1600, 2100, 3100 и 4100 служит «Талон пациента, получающего медици-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нскую помощь в амбулаторных условиях»(учетная форма 025-1/у)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828440" y="5225400"/>
            <a:ext cx="853452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Прямоугольник 10"/>
          <p:cNvSpPr/>
          <p:nvPr/>
        </p:nvSpPr>
        <p:spPr>
          <a:xfrm>
            <a:off x="1517760" y="907920"/>
            <a:ext cx="1042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ТАЛОН ПАЦИЕНТА, ПОЛУЧАЮЩЕГО МЕДИЦИНСКУЮ ПОМОЩ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В АМБУЛАТОРНЫХ УСЛОВИЯХ, № 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21. Посещения: по заболеваниям (коды А00-Т98) - 1, из них: в неотложной форме - 1.1;  активное посещение - 1.2; диспансерное наблюдение-1.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с профилактической целью (коды </a:t>
            </a:r>
            <a:r>
              <a:rPr b="0" lang="en-US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Z</a:t>
            </a: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00-</a:t>
            </a:r>
            <a:r>
              <a:rPr b="0" lang="en-US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Z</a:t>
            </a: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99) – 2: медицинский осмотр - 2.1;  диспансеризация - 2.2; комплексный медицинский осмотр - 2.3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аллиативная медицинская помощь - 2.4;  патронаж - 2.5; другие обстоятельства - 2.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22. Обращение (цель): по заболеванию (коды А00-Т98) – 1, с профилактической целью (коды </a:t>
            </a:r>
            <a:r>
              <a:rPr b="0" lang="en-US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Z</a:t>
            </a: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00-</a:t>
            </a:r>
            <a:r>
              <a:rPr b="0" lang="en-US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Z</a:t>
            </a: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99) –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23. Обращение (законченный случай лечения): да – 1; нет – 2   24. Обращение: первичное – 1, повторное – 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25. Результат обращения: выздоровление – 1, без изменения – 2, улучшение – 3, ухудшение – 4, летальный исход – 5, дано направ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на госпитализацию – 6, из них: по  экстренным показаниям – 7, в дневной стационар – 8, на обследование – 9, на консультацию – 1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на санаторно-курортное лечение – 11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1432080" y="1447920"/>
          <a:ext cx="10540800" cy="4389480"/>
        </p:xfrm>
        <a:graphic>
          <a:graphicData uri="http://schemas.openxmlformats.org/drawingml/2006/table">
            <a:tbl>
              <a:tblPr/>
              <a:tblGrid>
                <a:gridCol w="2844720"/>
                <a:gridCol w="695160"/>
                <a:gridCol w="895320"/>
                <a:gridCol w="595440"/>
                <a:gridCol w="598320"/>
                <a:gridCol w="695520"/>
                <a:gridCol w="696960"/>
                <a:gridCol w="696960"/>
                <a:gridCol w="695160"/>
                <a:gridCol w="684360"/>
                <a:gridCol w="645840"/>
                <a:gridCol w="797040"/>
              </a:tblGrid>
              <a:tr h="250560"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воз-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-4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воз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-9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установ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59400" rIns="59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 –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59400" rIns="59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Rectangle 1"/>
          <p:cNvSpPr/>
          <p:nvPr/>
        </p:nvSpPr>
        <p:spPr>
          <a:xfrm flipV="1" rot="10800000">
            <a:off x="-360" y="567000"/>
            <a:ext cx="1219212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4b2203"/>
              </a:buClr>
              <a:buFont typeface="Times New Roman"/>
              <a:buAutoNum type="arabicPeriod"/>
              <a:tabLst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Дети (0-14 лет включительн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4b2203"/>
              </a:buClr>
              <a:buFont typeface="Times New Roman"/>
              <a:buAutoNum type="arabicPeriod"/>
              <a:tabLst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(1000) </a:t>
            </a:r>
            <a:r>
              <a:rPr b="1" lang="ru-RU" sz="1200" spc="-1" strike="noStrike">
                <a:solidFill>
                  <a:srgbClr val="4b2203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b2203"/>
                </a:solidFill>
                <a:latin typeface="Arial"/>
                <a:ea typeface="Times New Roman"/>
              </a:rPr>
              <a:t>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17400" y="475920"/>
            <a:ext cx="100076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рядок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аполнения учетной формы 025-1/у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«Талон пациента, получающего медицинскую помощь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 амбулаторных условиях»</a:t>
            </a:r>
            <a:br>
              <a:rPr sz="1800"/>
            </a:b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552320" y="1915920"/>
            <a:ext cx="10402920" cy="4321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ункт 23</a:t>
            </a: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. Обращение как законченный случай представляет собой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- при первичной врачебной медико-санитарной помощи и первичной специализированной медико-санитарной помощи - это одно обращение и одно или несколько посещений пациента(ки), в результате которых цель обращения достигнута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- при паллиативной медицинской помощи - это одно обращение пациента(ки) и одно (разовое) посещение, при котором цель обращения достигнут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Если цель обращения достигнута не была, случай отмечают как не законченный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В </a:t>
            </a:r>
            <a:r>
              <a:rPr b="1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ункте 24</a:t>
            </a: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отмечают первичное или повторное в текущем календарном году обращение пациента(ки) с одной и той же целью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22160" y="1915920"/>
            <a:ext cx="102121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бязательно проводить внутриформенный, межформенный и межгодовой контроли. </a:t>
            </a:r>
            <a:br>
              <a:rPr sz="2900"/>
            </a:b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828440" y="5262480"/>
            <a:ext cx="853452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14120" y="274680"/>
            <a:ext cx="9293400" cy="62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ля проверки формы 12 по разрезам 00 и 01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 окне  КОНТРОЛИ есть новое кнопка КОНТРОЛЬ ДЛЯ ФОРМ С РАЗРЕЗОМ 00-01, межформенный контроль по ф12 проводите через данное окно. Перед началом контро-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ля в окне РАЗРЕЗ ФОРМЫ необходимо поставить разрез 00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Внутриформенный контроль таблицы 2000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«всего» (гр.4) – «из них: юноши» (гр.7) = «всего девушки»;</a:t>
            </a: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«с впервые в жизни …» (гр.9) – «из заболеваний … юноши» (гр.13) = «девушки впервые»</a:t>
            </a: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Итого: «всего девушки» - «девушки впервые» - не должно быть отрицательных значений 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87600" y="378000"/>
            <a:ext cx="10368000" cy="58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ежгодовой контроль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вижение диспансерной группы: 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графа 13 таблиц 1000,2000,3000,4000 за 2015 год + графа 8 таблиц  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1000,2000,3000,4000 за 2016 год – графа 14 таблиц 1000,2000,3000,4000 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за 2016 год = графе 15 таблиц 1000,2000,3000,4000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Таблица 1500  - диспансерная группа на начало года всегда имеет 0.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1914480" y="2277720"/>
            <a:ext cx="874728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17200" y="274680"/>
            <a:ext cx="10193400" cy="60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 острым заболеваниям по которым динамическое наблюдение не устанавливается (ОРВИ и др.) графа взятия на Д-учет не заполняется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«Постинфарктный кардиосклероз» - диагноз устанавливается через четыре недели после острого инфаркта миокарда, на основании жалоб пациента, осмотра и дополнительного обследования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731600" y="274320"/>
            <a:ext cx="1017900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кусы клеща  - Т14.0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96520" y="274320"/>
            <a:ext cx="10695240" cy="58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ТРОКИ 10.6.1 - 10.6.4 </a:t>
            </a:r>
            <a:br>
              <a:rPr sz="28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стрые нарушения мозгового кровообращения – всегда первичные (+)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Графа 4 равна графе 9. С данным диагнозом больные подлежат диспансерному наблюдению на протяжении 30 дней от момента начальных проявлений или более в пределах одного случая лечения. В дальнейшем диспансерное наблюдение осуществляется по последствиям инсульта — парезы, параличи, энцефалопатия, речевые нарушения и т.д.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1379520" y="822240"/>
          <a:ext cx="10490040" cy="5499360"/>
        </p:xfrm>
        <a:graphic>
          <a:graphicData uri="http://schemas.openxmlformats.org/drawingml/2006/table">
            <a:tbl>
              <a:tblPr/>
              <a:tblGrid>
                <a:gridCol w="2830680"/>
                <a:gridCol w="693720"/>
                <a:gridCol w="888840"/>
                <a:gridCol w="593640"/>
                <a:gridCol w="594000"/>
                <a:gridCol w="691920"/>
                <a:gridCol w="693720"/>
                <a:gridCol w="693720"/>
                <a:gridCol w="690840"/>
                <a:gridCol w="682560"/>
                <a:gridCol w="644400"/>
                <a:gridCol w="792000"/>
              </a:tblGrid>
              <a:tr h="210240"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воз-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0-4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воз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-9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установ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адреногенитальные расстрой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Е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Е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ах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5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ожир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E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фенилкетону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Е7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арушения обмена галакто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(галактозем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Е7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болезнь Го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E7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арушения обмена гликозаминогликанов (мукополисахаридоз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Е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муковисцид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E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635120" y="274680"/>
            <a:ext cx="10275840" cy="60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Церебральный паралич (G80-G83) – используется, как основное заболевание и кодируется кодом последствий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одирование заболевания, если пациент умер, будет зависеть даты смерти от начала заболевания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од </a:t>
            </a:r>
            <a:r>
              <a:rPr b="0" lang="en-US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69 используется только в случае смерти больного. 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2735280" y="720720"/>
            <a:ext cx="6721560" cy="9079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Arial"/>
              </a:rPr>
              <a:t>КОДИРОВАНИЕ ОСТР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f271c"/>
                </a:solidFill>
                <a:latin typeface="Arial"/>
              </a:rPr>
              <a:t>ЦЕРЕБРОВАСКУЛЯРНЫХ БОЛЕЗН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Arial"/>
              </a:rPr>
              <a:t>И ИХ ПОСЛЕД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3"/>
          <p:cNvSpPr/>
          <p:nvPr/>
        </p:nvSpPr>
        <p:spPr>
          <a:xfrm>
            <a:off x="2973240" y="1685880"/>
            <a:ext cx="481320" cy="303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4"/>
          <p:cNvSpPr/>
          <p:nvPr/>
        </p:nvSpPr>
        <p:spPr>
          <a:xfrm>
            <a:off x="1776240" y="2030400"/>
            <a:ext cx="2880000" cy="139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5"/>
          <p:cNvSpPr/>
          <p:nvPr/>
        </p:nvSpPr>
        <p:spPr>
          <a:xfrm>
            <a:off x="6095880" y="1857240"/>
            <a:ext cx="480960" cy="1211400"/>
          </a:xfrm>
          <a:prstGeom prst="downArrow">
            <a:avLst>
              <a:gd name="adj1" fmla="val 50000"/>
              <a:gd name="adj2" fmla="val 99781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6"/>
          <p:cNvSpPr/>
          <p:nvPr/>
        </p:nvSpPr>
        <p:spPr>
          <a:xfrm>
            <a:off x="8977320" y="1685880"/>
            <a:ext cx="479520" cy="303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7"/>
          <p:cNvSpPr/>
          <p:nvPr/>
        </p:nvSpPr>
        <p:spPr>
          <a:xfrm>
            <a:off x="8015400" y="2216160"/>
            <a:ext cx="2400120" cy="987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8"/>
          <p:cNvSpPr/>
          <p:nvPr/>
        </p:nvSpPr>
        <p:spPr>
          <a:xfrm>
            <a:off x="1776240" y="2349360"/>
            <a:ext cx="288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АЦИЕНТЫ, НАХОДЯЩИЕСЯ ПОД НАБЛЮДЕНИЕМ И СЛУЧАИ ЛЕТАЛЬНОГО ИСХОДА В СРОКИ ДО 30 СУ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9"/>
          <p:cNvSpPr/>
          <p:nvPr/>
        </p:nvSpPr>
        <p:spPr>
          <a:xfrm>
            <a:off x="8015400" y="2478240"/>
            <a:ext cx="24001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ЛУЧАИ ЛЕТАЛЬНОГО ИСХОДА В СРОКИ 30 СУТОК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ОЛЕ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0"/>
          <p:cNvSpPr/>
          <p:nvPr/>
        </p:nvSpPr>
        <p:spPr>
          <a:xfrm>
            <a:off x="1776240" y="3189240"/>
            <a:ext cx="479520" cy="477720"/>
          </a:xfrm>
          <a:prstGeom prst="downArrow">
            <a:avLst>
              <a:gd name="adj1" fmla="val 50000"/>
              <a:gd name="adj2" fmla="val 33148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1"/>
          <p:cNvSpPr/>
          <p:nvPr/>
        </p:nvSpPr>
        <p:spPr>
          <a:xfrm>
            <a:off x="9936000" y="3125880"/>
            <a:ext cx="479520" cy="303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12"/>
          <p:cNvSpPr/>
          <p:nvPr/>
        </p:nvSpPr>
        <p:spPr>
          <a:xfrm>
            <a:off x="814320" y="3666960"/>
            <a:ext cx="2400480" cy="120204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13"/>
          <p:cNvSpPr/>
          <p:nvPr/>
        </p:nvSpPr>
        <p:spPr>
          <a:xfrm>
            <a:off x="8977320" y="3429000"/>
            <a:ext cx="2400120" cy="1079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4"/>
          <p:cNvSpPr/>
          <p:nvPr/>
        </p:nvSpPr>
        <p:spPr>
          <a:xfrm>
            <a:off x="9456840" y="3789360"/>
            <a:ext cx="1439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5"/>
          <p:cNvSpPr/>
          <p:nvPr/>
        </p:nvSpPr>
        <p:spPr>
          <a:xfrm>
            <a:off x="8977320" y="3643200"/>
            <a:ext cx="24001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6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 соответствующими четвертыми зна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6"/>
          <p:cNvSpPr/>
          <p:nvPr/>
        </p:nvSpPr>
        <p:spPr>
          <a:xfrm>
            <a:off x="814320" y="3789360"/>
            <a:ext cx="24004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Д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60-I6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 соответствующими четвертыми зна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ilecab2"/>
          <p:cNvSpPr/>
          <p:nvPr/>
        </p:nvSpPr>
        <p:spPr>
          <a:xfrm>
            <a:off x="4656240" y="3233880"/>
            <a:ext cx="3359160" cy="879480"/>
          </a:xfrm>
          <a:custGeom>
            <a:avLst/>
            <a:gdLst>
              <a:gd name="textAreaLeft" fmla="*/ 155880 w 3359160"/>
              <a:gd name="textAreaRight" fmla="*/ 3194640 w 3359160"/>
              <a:gd name="textAreaTop" fmla="*/ 20520 h 879480"/>
              <a:gd name="textAreaBottom" fmla="*/ 804960 h 879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0" y="0"/>
                </a:lnTo>
                <a:lnTo>
                  <a:pt x="0" y="10800"/>
                </a:lnTo>
                <a:lnTo>
                  <a:pt x="0" y="20367"/>
                </a:lnTo>
                <a:lnTo>
                  <a:pt x="5807" y="20367"/>
                </a:lnTo>
                <a:lnTo>
                  <a:pt x="5807" y="20637"/>
                </a:lnTo>
                <a:lnTo>
                  <a:pt x="5970" y="20818"/>
                </a:lnTo>
                <a:lnTo>
                  <a:pt x="6133" y="20968"/>
                </a:lnTo>
                <a:lnTo>
                  <a:pt x="6404" y="21239"/>
                </a:lnTo>
                <a:lnTo>
                  <a:pt x="6567" y="21419"/>
                </a:lnTo>
                <a:lnTo>
                  <a:pt x="7055" y="21510"/>
                </a:lnTo>
                <a:lnTo>
                  <a:pt x="7544" y="21600"/>
                </a:lnTo>
                <a:lnTo>
                  <a:pt x="8141" y="21600"/>
                </a:lnTo>
                <a:lnTo>
                  <a:pt x="10800" y="21600"/>
                </a:lnTo>
                <a:lnTo>
                  <a:pt x="13188" y="21600"/>
                </a:lnTo>
                <a:lnTo>
                  <a:pt x="13948" y="21600"/>
                </a:lnTo>
                <a:lnTo>
                  <a:pt x="14436" y="21510"/>
                </a:lnTo>
                <a:lnTo>
                  <a:pt x="14708" y="21419"/>
                </a:lnTo>
                <a:lnTo>
                  <a:pt x="15033" y="21239"/>
                </a:lnTo>
                <a:lnTo>
                  <a:pt x="15359" y="20968"/>
                </a:lnTo>
                <a:lnTo>
                  <a:pt x="15522" y="20818"/>
                </a:lnTo>
                <a:lnTo>
                  <a:pt x="15684" y="20637"/>
                </a:lnTo>
                <a:lnTo>
                  <a:pt x="15684" y="20367"/>
                </a:lnTo>
                <a:lnTo>
                  <a:pt x="21600" y="20367"/>
                </a:lnTo>
                <a:lnTo>
                  <a:pt x="21600" y="10800"/>
                </a:lnTo>
                <a:lnTo>
                  <a:pt x="21600" y="0"/>
                </a:lnTo>
                <a:lnTo>
                  <a:pt x="10800" y="0"/>
                </a:lnTo>
                <a:close/>
                <a:moveTo>
                  <a:pt x="7055" y="20367"/>
                </a:moveTo>
                <a:lnTo>
                  <a:pt x="7055" y="20547"/>
                </a:lnTo>
                <a:lnTo>
                  <a:pt x="7055" y="20637"/>
                </a:lnTo>
                <a:lnTo>
                  <a:pt x="7218" y="20728"/>
                </a:lnTo>
                <a:lnTo>
                  <a:pt x="7381" y="20818"/>
                </a:lnTo>
                <a:lnTo>
                  <a:pt x="7544" y="20908"/>
                </a:lnTo>
                <a:lnTo>
                  <a:pt x="7707" y="20968"/>
                </a:lnTo>
                <a:lnTo>
                  <a:pt x="7815" y="20968"/>
                </a:lnTo>
                <a:lnTo>
                  <a:pt x="8141" y="20968"/>
                </a:lnTo>
                <a:lnTo>
                  <a:pt x="13188" y="20968"/>
                </a:lnTo>
                <a:lnTo>
                  <a:pt x="13459" y="20968"/>
                </a:lnTo>
                <a:lnTo>
                  <a:pt x="13785" y="20968"/>
                </a:lnTo>
                <a:lnTo>
                  <a:pt x="13948" y="20908"/>
                </a:lnTo>
                <a:lnTo>
                  <a:pt x="14111" y="20818"/>
                </a:lnTo>
                <a:lnTo>
                  <a:pt x="14273" y="20728"/>
                </a:lnTo>
                <a:lnTo>
                  <a:pt x="14273" y="20637"/>
                </a:lnTo>
                <a:lnTo>
                  <a:pt x="14436" y="20547"/>
                </a:lnTo>
                <a:lnTo>
                  <a:pt x="14436" y="20367"/>
                </a:lnTo>
                <a:lnTo>
                  <a:pt x="7055" y="20367"/>
                </a:lnTo>
                <a:close/>
              </a:path>
              <a:path w="21600" h="21600">
                <a:moveTo>
                  <a:pt x="7055" y="20367"/>
                </a:moveTo>
                <a:lnTo>
                  <a:pt x="5807" y="20367"/>
                </a:lnTo>
                <a:lnTo>
                  <a:pt x="21600" y="20367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8"/>
          <p:cNvSpPr/>
          <p:nvPr/>
        </p:nvSpPr>
        <p:spPr>
          <a:xfrm>
            <a:off x="4656240" y="3276720"/>
            <a:ext cx="335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У ПАЦИЕНТОВ, НАХОДЯЩИХСЯ ПОД НАБЛЮДЕНИЕМ С ПОСЛЕДСТВИЯМИ ОСТРЫХ ЦВБ В СРОКИ 30 СУТОК И БОЛЕ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9"/>
          <p:cNvSpPr/>
          <p:nvPr/>
        </p:nvSpPr>
        <p:spPr>
          <a:xfrm>
            <a:off x="6095880" y="4175280"/>
            <a:ext cx="480960" cy="333360"/>
          </a:xfrm>
          <a:prstGeom prst="downArrow">
            <a:avLst>
              <a:gd name="adj1" fmla="val 50000"/>
              <a:gd name="adj2" fmla="val 27421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20"/>
          <p:cNvSpPr/>
          <p:nvPr/>
        </p:nvSpPr>
        <p:spPr>
          <a:xfrm>
            <a:off x="4176720" y="4794120"/>
            <a:ext cx="4319640" cy="15145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1"/>
          <p:cNvSpPr/>
          <p:nvPr/>
        </p:nvSpPr>
        <p:spPr>
          <a:xfrm>
            <a:off x="4656240" y="4906800"/>
            <a:ext cx="33591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2"/>
          <p:cNvSpPr/>
          <p:nvPr/>
        </p:nvSpPr>
        <p:spPr>
          <a:xfrm>
            <a:off x="4176720" y="4951440"/>
            <a:ext cx="431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ДИРУЮТСЯ ОСТАТОЧНЫЕ СОМАТИЧЕСКИЕ СОСТОЯНИЯ  ОСТРЫХ ЦЕРЕБРОВАСКУЛЯРНЫХ БОЛЕЗ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Статистика заболеваемости в амбулаторно-поликлинических учреждениях базируется на регистрации и кодировании всех болезней и других причин обращения за медицинской помощью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Учет статистической информации о заболеваемости в амбулаторно-поликлинических</a:t>
            </a:r>
            <a:r>
              <a:rPr b="0" lang="en-US" sz="1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учреждениях осуществляется для формирования государственной статистической отчетности учреждений здравоохранения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914120" y="1869840"/>
            <a:ext cx="4876920" cy="61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СОСТОЯНИЯ ПОДЛЕЖАЩИЕ КОДИРОВАНИЮ ПОСЛЕ ОКОНЧАНИЯ ОСТРОГО ПЕРИОД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361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(через 30 дней)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1. Параличи и парезы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2. Изменения тонуса мышц      паретичных конечностей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3. Постинсультные трофические нарушени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4. Нарушение чувствительности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5. Центральный болевой синдром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6. Речевые нарушени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7. Нарушения высших психических функций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8. Зрительные нарушени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7033680" y="2050920"/>
            <a:ext cx="48769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-447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rbel"/>
              </a:rPr>
              <a:t>ВОЗМОЖНЫЕ ВТОРИЧНЫЕ ОСЛОЖНЕНИЯ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447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447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orbel"/>
              </a:rPr>
              <a:t>Контрактуры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447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orbel"/>
              </a:rPr>
              <a:t>Пневмонии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447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orbel"/>
              </a:rPr>
              <a:t>Пролежни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447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orbel"/>
              </a:rPr>
              <a:t>Деменция (слабоумие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447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orbel"/>
              </a:rPr>
              <a:t>Эпилепсия (судороги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447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orbel"/>
              </a:rPr>
              <a:t>Нарушение функции тазовых органов (задержка или недержание мочи, кала) и др.</a:t>
            </a:r>
            <a:r>
              <a:rPr b="0" lang="ru-RU" sz="2000" spc="-1" strike="noStrike">
                <a:solidFill>
                  <a:srgbClr val="6633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447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14480" y="415440"/>
            <a:ext cx="9996480" cy="626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Corbel"/>
              </a:rPr>
              <a:t>ПОСЛЕДСТВИЯ ИНФАРКТА МОЗГА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Двигательные нарушения, слабость или паралич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– это может привести к трудностям при движении, ходьбе и координации. Нарушения движения на одной стороне тела называются гемипарез или гемиплегия. </a:t>
            </a: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Нарушение глотания.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Нарушение акта глотания может привести к попаданию пищи и жидкости не в пищевод, а в дыхательное горло и легкие, становясь тем самым причиной тяжелого воспаления легких. Нарушение глотания может привести так же к запорам и обезвоживанию организма. </a:t>
            </a: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Нарушение речи.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Нарушение воспроизведения и понимания речи, в том числе трудности в чтении, письме, счете происходят в результате повреждения левого полушария головного мозга. </a:t>
            </a: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Проблемы восприятия.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При нормальном зрении человек не в состоянии понять, что он видит. Нарушения восприятия затрудняют использование человеком предметов обыденного обихода. Например, человек не может взять стакан и налить в него воду и затем выпить её. </a:t>
            </a: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Когнитивные нарушения.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Нарушается способность к умственному восприятию и переработке внешней информации. Нарушается ясное и логическое мышление, ухудшается память, утрачивается способность к обучению, принятию решений и перспективному планированию. </a:t>
            </a: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Нарушения поведения.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Может появиться агрессия, замедленная реакция, пугливость, эмоциональная нестабильность, дезорганизация. </a:t>
            </a: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Нарушение мочеиспускания и дефекации.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Трудности с кишечником или мочевым пузырем (недержание или задержка мочи, недержания кала) может быть вызвано целым рядом различных проблем после инсульта. </a:t>
            </a: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Психологические нарушения.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Резкие колебания настроения, депрессия, раздражительность, беспричинный смех или плач. Депрессия очень частая проблема у людей перенесших инсульт и часто сопровождается потерей аппетита, беспричинным смехом или плачем, бессонницей, низкой самооценкой и повышенным чувством тревоги… </a:t>
            </a: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Эпилепсия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развивается у 7-20 % людей, перенесших инсульт. </a:t>
            </a: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Болевой синдром.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После инсульта у небольшого количества людей, развиваются болевые приступы в виде горения, стреляющих, пульсирующих болей, которые не снимаются обезболивающими препаратами. </a:t>
            </a:r>
            <a:br>
              <a:rPr sz="1600"/>
            </a:br>
            <a:endParaRPr b="0" lang="en-US" sz="1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2" name=""/>
          <p:cNvGraphicFramePr/>
          <p:nvPr/>
        </p:nvGraphicFramePr>
        <p:xfrm>
          <a:off x="1550880" y="1125360"/>
          <a:ext cx="10404720" cy="5202360"/>
        </p:xfrm>
        <a:graphic>
          <a:graphicData uri="http://schemas.openxmlformats.org/drawingml/2006/table">
            <a:tbl>
              <a:tblPr/>
              <a:tblGrid>
                <a:gridCol w="10404720"/>
              </a:tblGrid>
              <a:tr h="73332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1. </a:t>
                      </a:r>
                      <a:r>
                        <a:rPr b="1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Нарушение координации движений, общая слабость или даже паралич.</a:t>
                      </a: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 Причем двигательная активность может быть нарушена, как полностью, так и частично (в зависимости от того, какие именно отделы головного мозга были поражены вследствие кровоизлияния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2. </a:t>
                      </a:r>
                      <a:r>
                        <a:rPr b="1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Нарушения речи.</a:t>
                      </a: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 Это </a:t>
                      </a: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также</a:t>
                      </a: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 достаточно распространенная проблема, с которой сталкиваются многие люди, перенесшие геморрагический инсульт. Причем, помимо речи, у пациента могут возникать также сложности с чтением и письм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3. </a:t>
                      </a:r>
                      <a:r>
                        <a:rPr b="1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Поведенческие и психологические нарушения.</a:t>
                      </a: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 Если человек перенес рассматриваемое заболевание, то у него могут наблюдаться неадекватные реакции на изменения условий окружающей среды. Кроме того, родственники такого больного могут столкнуться с немотивированными вспышками агрессии, излишней пугливостью, разнообразными мания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4. </a:t>
                      </a:r>
                      <a:r>
                        <a:rPr b="1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Нарушения глотания.</a:t>
                      </a: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 Это распространенное и достаточно опасное последствие болезни, поскольку пища или напитки, потребляемые пациентом, могут попадать в его дыхательное горл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32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5. </a:t>
                      </a:r>
                      <a:r>
                        <a:rPr b="1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Нарушения восприятия.</a:t>
                      </a: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 Больной, даже обладая идеальным зрением, может не понимать, что именно он видит. А также у таких пациентов нередко возникают проблемы с использованием самых обыкновенных бытовых предме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00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6. </a:t>
                      </a:r>
                      <a:r>
                        <a:rPr b="1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Эпилепсия или сильные боли.</a:t>
                      </a: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 Эти последствия инфаркта мозга наблюдаются у пациентов достаточно редко, но все-таки они заслуживают внимания. Причем болевые ощущения, вызванные рассматриваемым заболеванием, как правило, невозможно ликвидировать с помощью медикаментозных средств (даже самых сильных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7. </a:t>
                      </a:r>
                      <a:r>
                        <a:rPr b="1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Нарушение функций мочевого пузыря и кишечника.</a:t>
                      </a: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 Они могут быть самыми разнообразными, но чаще всего у больных наблюдается именно недержание мочи или кал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37920" y="274680"/>
            <a:ext cx="103633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b2203"/>
                </a:solidFill>
                <a:latin typeface="Corbel"/>
              </a:rPr>
              <a:t>САМЫЕ РАСПРОСТРАНЕННЫЕ ПОСЛЕДСТВИЯ ВНУТРИМОЗГОВОГО КРОВОИЗЛИЯНИЯ</a:t>
            </a: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Болезни органов дыхания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стрый, подострый бронхит – </a:t>
            </a:r>
            <a:r>
              <a:rPr b="0" lang="en-US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J20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Бронхит, не уточненный как острый или хронический :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у детей до 15 лет - </a:t>
            </a:r>
            <a:r>
              <a:rPr b="0" lang="en-US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J20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у лиц старше 15 лет - </a:t>
            </a:r>
            <a:r>
              <a:rPr b="0" lang="en-US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J40</a:t>
            </a:r>
            <a:br>
              <a:rPr sz="2800"/>
            </a:br>
            <a:r>
              <a:rPr b="0" lang="en-US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J21-J22 -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спользуются для кодирования включенных в них состояний независимо от возраста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60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Стоматология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иказ от 30 мая 1986 г. № 770 "О порядке проведения всеобщей диспансеризации населения«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роки развития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Болезни ротовой полости, включая гнойные заболевания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лоский лишай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ножественный кариес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расный плоский лишай и др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еретинопатии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61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трока 5.9 – Рахит – строка проходит по таблицам 1000 и 1500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яжелые заболевания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дкие заболевания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(регистры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икрепленный участок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оцент взятия на диспансерный учет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1449360" y="966960"/>
          <a:ext cx="10523520" cy="5010120"/>
        </p:xfrm>
        <a:graphic>
          <a:graphicData uri="http://schemas.openxmlformats.org/drawingml/2006/table">
            <a:tbl>
              <a:tblPr/>
              <a:tblGrid>
                <a:gridCol w="2840040"/>
                <a:gridCol w="693720"/>
                <a:gridCol w="895320"/>
                <a:gridCol w="593640"/>
                <a:gridCol w="595440"/>
                <a:gridCol w="696960"/>
                <a:gridCol w="695160"/>
                <a:gridCol w="695520"/>
                <a:gridCol w="693720"/>
                <a:gridCol w="684360"/>
                <a:gridCol w="645840"/>
                <a:gridCol w="793800"/>
              </a:tblGrid>
              <a:tr h="210240"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воз-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0-4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воз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-9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установ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F01, F03-F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, связанные с употреблением психоактивных веще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F10-F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тский аутизм, атипичный аутизм, синдром Ретта, дезинтегративное расстройство детского возрас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84.0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Благодарность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14480" y="0"/>
            <a:ext cx="9996480" cy="62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  </a:t>
            </a: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Центральный федеральный округ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Белгород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Брян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ладимир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оронеж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ванов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алуж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остром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ур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Липец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осков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рловская область 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Рязанская область 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Смолен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амбов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вер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уль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Ярослав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осква </a:t>
            </a:r>
            <a:br>
              <a:rPr sz="2800"/>
            </a:b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 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еверо-Западный федеральный округ 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Карелия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Коми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рхангель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ологод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алининград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Ленинград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урман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Новгород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сков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анкт-Петербург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Ненецкий автономный округ 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62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 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Южный федеральный округ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Адыгея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Калмыкия 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Крым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раснодарский край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страхан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олгоград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остовская область 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евастополь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  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еверо-Кавказский федеральный округ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Дагестан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Ингушетия 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абардино-Балкарская Республика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арачаево-Черкесская Республика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Северная Осетия - Алания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Чеченская Республика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тавропольский край 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 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иволжский федеральный округ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Башкортостан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Марий Эл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Мордовия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Татарстан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дмуртская Республика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Чувашская Республика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ермский край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иров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Нижегородская область 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Оренбург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ензенская область 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Самарская область 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Саратов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льяновская область 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 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ральский федеральный округ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урган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вердлов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юмен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Челябин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Ханты-Мансийский автономный округ — Югра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Ямало-Ненецкий автономный округ 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  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ибирский федеральный округ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Алтай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Бурятия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Тыва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Хакасия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лтайский край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абайкальский край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расноярский край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ркут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емеров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Новосибир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м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омская область 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61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 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альневосточный федеральный округ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Саха (Якутия)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амчатский край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иморский край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Хабаровский край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мур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агадан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ахалин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Еврейская автономн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Чукотский автономный округ 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17760" y="690120"/>
            <a:ext cx="10369440" cy="65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ru-RU" sz="4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Юрий Иванович</a:t>
            </a:r>
            <a:br>
              <a:rPr sz="4800"/>
            </a:br>
            <a:r>
              <a:rPr b="0" lang="ru-RU" sz="4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ськов</a:t>
            </a:r>
            <a:br>
              <a:rPr sz="3900"/>
            </a:br>
            <a:br>
              <a:rPr sz="3900"/>
            </a:b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о 05 февраля 2017 года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8-495-618-31-83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 06 февраля 2017 года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8-495-611-51-47</a:t>
            </a:r>
            <a:br>
              <a:rPr sz="3900"/>
            </a:b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OskovYI@mail.ru</a:t>
            </a: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828440" y="5262480"/>
            <a:ext cx="853452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1449360" y="2530440"/>
          <a:ext cx="10490400" cy="1020960"/>
        </p:xfrm>
        <a:graphic>
          <a:graphicData uri="http://schemas.openxmlformats.org/drawingml/2006/table">
            <a:tbl>
              <a:tblPr/>
              <a:tblGrid>
                <a:gridCol w="5675400"/>
                <a:gridCol w="4815000"/>
              </a:tblGrid>
              <a:tr h="102096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10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остоит под диспансерным наблюдением на конец отчетного года (из стр. 1.0 гр. 15) детей  в возраст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-4 года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 __________,       5-9 лет    2  _________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802880" y="731520"/>
            <a:ext cx="999828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2203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4b2203"/>
                </a:solidFill>
                <a:latin typeface="Times New Roman"/>
              </a:rPr>
              <a:t>Благодарю за внимание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9T08:18:36Z</dcterms:created>
  <dc:creator>Елена Д. Дмитриева</dc:creator>
  <dc:description/>
  <dc:language>en-US</dc:language>
  <cp:lastModifiedBy>u.oskov</cp:lastModifiedBy>
  <dcterms:modified xsi:type="dcterms:W3CDTF">2016-12-14T11:23:29Z</dcterms:modified>
  <cp:revision>140</cp:revision>
  <dc:subject/>
  <dc:title>Презентация PowerPoint</dc:title>
</cp:coreProperties>
</file>