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23D6-4B25-4EEC-907C-099A6ACB0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CCF8-28F5-460B-85A5-A392DAE768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4987-8632-4A13-BD7B-E80CE37A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AAAE-E103-4F09-819B-83F742A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C4A0-1590-42BA-B1C2-D3898B61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A615-3526-419B-B0CC-709CA112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8811-D6F7-4FCF-A8B0-C92B69D0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77BA-508C-4EBC-858E-F9865C2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41C9-8809-407A-B8F1-C393AD2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0EF6-1BC5-4F2B-8763-1BC1F63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39F-EED7-4559-A9C0-50021891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C04-66E0-489B-B39F-42A95809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5B4-2598-42D2-AACA-C29FFE60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1DAD-4EA4-4E6E-8ABC-B704BFA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9D7B-A191-4620-991A-2B3AF5B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A93F-0C41-4A42-904F-92C807DD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2B1A-CF10-42FF-AB8F-96744C3E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FEE-6843-4A10-A1B5-2369856E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D673-8428-48DD-AD55-DCD40A58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D7E4-C2F3-4143-8AD3-B97F5CA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90C1-77DC-4922-82AE-3AC6FAD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CD1E-C122-4539-9858-5138B3A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EB10-E91D-4328-9CDE-AD087721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BA0C-3ECB-4616-A752-3AA4CD5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8EA6-846B-4A34-BF98-8FABE22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C3F7-DE1D-48E7-9E5E-3B1EA389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07BB-1E15-4E98-AA3F-E1E492B542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9F9B-6F80-4447-B19D-1183837259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925211098" TargetMode="External"/><Relationship Id="rId2" Type="http://schemas.openxmlformats.org/officeDocument/2006/relationships/hyperlink" Target="http://docs.cntd.ru/document/493592134" TargetMode="External"/><Relationship Id="rId3" Type="http://schemas.openxmlformats.org/officeDocument/2006/relationships/hyperlink" Target="http://docs.cntd.ru/document/493549233" TargetMode="External"/><Relationship Id="rId4" Type="http://schemas.openxmlformats.org/officeDocument/2006/relationships/hyperlink" Target="http://docs.cntd.ru/document/677081899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493536804" TargetMode="External"/><Relationship Id="rId2" Type="http://schemas.openxmlformats.org/officeDocument/2006/relationships/hyperlink" Target="http://docs.cntd.ru/document/493536805" TargetMode="External"/><Relationship Id="rId3" Type="http://schemas.openxmlformats.org/officeDocument/2006/relationships/hyperlink" Target="http://docs.cntd.ru/document/493536806" TargetMode="External"/><Relationship Id="rId4" Type="http://schemas.openxmlformats.org/officeDocument/2006/relationships/hyperlink" Target="http://docs.cntd.ru/document/473976015" TargetMode="External"/><Relationship Id="rId5" Type="http://schemas.openxmlformats.org/officeDocument/2006/relationships/hyperlink" Target="http://docs.cntd.ru/document/493536807" TargetMode="External"/><Relationship Id="rId6" Type="http://schemas.openxmlformats.org/officeDocument/2006/relationships/hyperlink" Target="http://docs.cntd.ru/document/493536808" TargetMode="External"/><Relationship Id="rId7" Type="http://schemas.openxmlformats.org/officeDocument/2006/relationships/hyperlink" Target="http://docs.cntd.ru/document/493536809" TargetMode="External"/><Relationship Id="rId8" Type="http://schemas.openxmlformats.org/officeDocument/2006/relationships/hyperlink" Target="http://docs.cntd.ru/document/493536810" TargetMode="External"/><Relationship Id="rId9" Type="http://schemas.openxmlformats.org/officeDocument/2006/relationships/hyperlink" Target="http://docs.cntd.ru/document/493536810" TargetMode="External"/><Relationship Id="rId10" Type="http://schemas.openxmlformats.org/officeDocument/2006/relationships/hyperlink" Target="http://docs.cntd.ru/document/493536811" TargetMode="External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1. Должности руков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главный врач (начальник)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директор больницы (дома) сестринского ухода, хоспи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заместитель руководителя (начальника)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заведующий (начальник) структурного подразделения (отд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тделения, лаборатории, кабинета, отряда и другое) медиц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рганизации - врач-специали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(главный врач, начальник) структурного подразд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уществляющего медицинскую деятельность, ино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главная медицинская сестра (главная акушерка, главный фельдшер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876920"/>
            <a:ext cx="8991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Единый квалификационный справочник должностей руководителей, специалистов и служащих, утвержденный приказом Министерства здравоохранения и социального развития Российской Федерации от 23.07.2010 года №541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Примеч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аименование должности врача формируется с учетом специальности, по которой работник имеет соответствующую подготовку и работа по которой вменяется в круг его обязанностей. Например, "врач-терапевт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. Наименования должностей заведующих (начальников) структурных подразделений (отделов, отделений, лабораторий, кабинетов, отрядов и другое) дополняются наименованием должности врача, соответствующей профилю структурного подразделения. Например, "заведующий хирургическим отделением - врач-хирург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В медицинской организации, оказывающей специализированную медицинскую помощь, или при наличии в медицинской организации структурного подразделения, оказывающего специализированную медицинскую помощь, наименование должности "врач приемного отделения" дополняется наименованием должности врача соответствующей специальности. Например, "врач приемного отделения - врач скорой медицинской помощи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аблицу включаются сведения о должностях, физических лицах отделений (кабинетов) </a:t>
            </a:r>
            <a:r>
              <a:rPr b="1" lang="ru-RU" sz="1800" spc="-1" strike="noStrike">
                <a:solidFill>
                  <a:srgbClr val="cc0066"/>
                </a:solidFill>
                <a:latin typeface="Times New Roman"/>
              </a:rPr>
              <a:t>платных услу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 о должностях и физических лицах специалистов, в том числе, станции (отделения скорой медицинской помощ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ы 9, 10 и 11 «Число физических лиц основных работников на занятых должностях» включаются только основные работники (т.е. те, кто имеет трудовые книжки в данной организац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, находящиеся в декретном отпуске или длительной командировке, указываются по тем должностям, с которых состоялся декретный отпуск, команд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ие совместители в графы с 9 по 11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число физических лиц специалистов с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высшим немедицинским  образованием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основных работников, занимающих должности врачей клинической лабораторной диагностики, врачей-статистиков и врачей по лечебной физкультуре указывается в строках 223-225 в графе 9. Штатные и занятые должности, занимаемые ими показываются по соответствующим строкам врачебных дол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вакантные должности в поликлинике или в стационаре (разность между штатными и занятыми должностями) не может быть больше, чем в целом по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57200" y="60948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1100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, имеющих в своем составе подразделения (для оказания медицинской помощи в амбулаторных, стационарных условиях), в графах 3 и 4 показывают общую штатную численность персонала юридического лица в целом по организации в соответствии со штатным распис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ах 5 и 6 (из граф 3 и 4 соответственно) - штатную численность подразделений,  оказывающих медицинскую помощь в амбулаторных условиях, включая вспомогательные отделения и 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ах 7 и 8 (из граф 3 и 4) – штатную численность подразделений, оказывающих медицинскую помощь в стационарных  условиях, включая вспомогательные отделения и каби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8600" y="32004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се должности врачей в туберкулезных больницах,  противотуберкулезных диспансерах, фтизиопульмонологических центрах (кроме должностей вспомогательных отделений  - рентгеновского, физиотерапевтического, лабораторий и т.д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</a:rPr>
              <a:t>и специалистов-консультантов не фтизиатров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, туберкулезных отделениях (кабинетах) больниц и поликлиник относятся к должностям фтизиат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онкологических диспансерах и онкологических больницах (кроме должностей радиолого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других должностей консультантов-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онкологических отделениях и кабинетах других больниц и поликлиник относятся к должностям врачей-онколо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ей - заведующих отделениями (кабинетами) показывают как специалистов в соответствующих строках (терапевтическими отделениями – как терапевтов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685800"/>
          <a:ext cx="8686800" cy="3032280"/>
        </p:xfrm>
        <a:graphic>
          <a:graphicData uri="http://schemas.openxmlformats.org/drawingml/2006/table">
            <a:tbl>
              <a:tblPr/>
              <a:tblGrid>
                <a:gridCol w="3619440"/>
                <a:gridCol w="706320"/>
                <a:gridCol w="990720"/>
                <a:gridCol w="959040"/>
                <a:gridCol w="1057320"/>
                <a:gridCol w="1353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538"/>
          <p:cNvSpPr/>
          <p:nvPr/>
        </p:nvSpPr>
        <p:spPr>
          <a:xfrm>
            <a:off x="228600" y="403848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ы 12-14 заполняются на основании удостоверений о присвоении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ие и фармацевтические работники, имеющие категории по нескольким специальностям, показываются в отчете 1 раз – по основной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а 15 заполняется на основании сертификатов специали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76320" y="533520"/>
          <a:ext cx="891540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609480"/>
                <a:gridCol w="685800"/>
                <a:gridCol w="685800"/>
                <a:gridCol w="609840"/>
                <a:gridCol w="685800"/>
                <a:gridCol w="609480"/>
                <a:gridCol w="106668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08"/>
          <p:cNvSpPr/>
          <p:nvPr/>
        </p:nvSpPr>
        <p:spPr>
          <a:xfrm>
            <a:off x="228600" y="396252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пок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клинической специальности, которую  он име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76320" y="533520"/>
          <a:ext cx="8915400" cy="508932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609480"/>
                <a:gridCol w="685800"/>
                <a:gridCol w="685800"/>
                <a:gridCol w="609840"/>
                <a:gridCol w="685800"/>
                <a:gridCol w="609480"/>
                <a:gridCol w="106668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здравпун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общей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рай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3"/>
          <p:cNvSpPr/>
          <p:nvPr/>
        </p:nvSpPr>
        <p:spPr>
          <a:xfrm>
            <a:off x="228600" y="57150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И так далее по строкам – 70,72,74,97,98,99,100,110,147,171,186,1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76320" y="533520"/>
          <a:ext cx="8915400" cy="5029200"/>
        </p:xfrm>
        <a:graphic>
          <a:graphicData uri="http://schemas.openxmlformats.org/drawingml/2006/table">
            <a:tbl>
              <a:tblPr/>
              <a:tblGrid>
                <a:gridCol w="1633320"/>
                <a:gridCol w="500040"/>
                <a:gridCol w="617760"/>
                <a:gridCol w="657000"/>
                <a:gridCol w="706680"/>
                <a:gridCol w="639720"/>
                <a:gridCol w="691920"/>
                <a:gridCol w="623880"/>
                <a:gridCol w="86364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подро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1534"/>
          <p:cNvSpPr/>
          <p:nvPr/>
        </p:nvSpPr>
        <p:spPr>
          <a:xfrm>
            <a:off x="152280" y="57150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ковые терапевты, работающих в амбулаториях, показываются по строке 97 и в 99 строку не вход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строка 99 заполняется если в амбулатории есть должности терапев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38"/>
          <p:cNvSpPr/>
          <p:nvPr/>
        </p:nvSpPr>
        <p:spPr>
          <a:xfrm>
            <a:off x="2743200" y="3581280"/>
            <a:ext cx="5486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2280" y="533520"/>
          <a:ext cx="8763120" cy="58435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866520"/>
                <a:gridCol w="879480"/>
                <a:gridCol w="1025640"/>
              </a:tblGrid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рачи клинических  специаль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</a:t>
                      </a: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AutoShape 627"/>
          <p:cNvSpPr/>
          <p:nvPr/>
        </p:nvSpPr>
        <p:spPr>
          <a:xfrm>
            <a:off x="2286000" y="4800600"/>
            <a:ext cx="6553080" cy="685800"/>
          </a:xfrm>
          <a:prstGeom prst="wedgeRoundRectCallout">
            <a:avLst>
              <a:gd name="adj1" fmla="val 15648"/>
              <a:gd name="adj2" fmla="val 9583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28"/>
          <p:cNvSpPr/>
          <p:nvPr/>
        </p:nvSpPr>
        <p:spPr>
          <a:xfrm>
            <a:off x="2590920" y="3962520"/>
            <a:ext cx="518148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 :  Сумма строк 124 и 125 равна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29"/>
          <p:cNvSpPr/>
          <p:nvPr/>
        </p:nvSpPr>
        <p:spPr>
          <a:xfrm>
            <a:off x="2286000" y="3124080"/>
            <a:ext cx="57150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 врачам клинических специальнос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ятся: 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 и ортопеды, урологи, урологи-андрологи детские, колопроктологи, челюстно-лицевые хирурги, акушеры-гинекологи, педиатры, неонатологи, офтальмологи, отоларингологи, фтизиатры, неврологи, психиатры, гериатры, психиатры-наркологи, дерматовенерологи, врачи скорой медицинской помощи, инфекционисты, врачи общей практики (семейные), врачи по рентгеноваскулярной диагностики и л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дчиненности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Федеральное, подчин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бъекта Российской Федерации) медицинские организации распределяются по состоянию на конец отчет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ФФСН №3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всеми медицинскими организациями, входящими в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оменклатуру медицинских организа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риказ Минздрава России от 06.08.2013 № 529н, зарегистрирован в Министерстве юстиции Российской Федерации 13.09.2013 № 2995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ФСН №30 заполняется всеми юридическими лицами в целом по организации, включая структурные подразделения (районные больницы, участковые больницы, амбулатории, филиалы, обособленные подразделения); каждым структурным подразделением юридического лица и отдельно по юридическому лицу без учета структурных подразд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038480"/>
          <a:ext cx="4267080" cy="21542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д по юридическому лицу (районн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нтральная)), включая структурные подраздел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больница (центральна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обленное подраз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4114800"/>
          <a:ext cx="4038840" cy="10666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зиопульмонологически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зиопульмонологически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3. Должности специалистов с высшим профессиональным (немедицинским) образование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би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зо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структор-методист по лечебной физкульту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медицинский псих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медицинский физ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удебный эксперт (эксперт-биохимик, эксперт-генетик, эксперт-химик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химик-эксперт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эксперт-физик по контролю за источниками ионизирующи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неионизирующих излучен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эмбри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нтом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76320" y="457200"/>
          <a:ext cx="8839080" cy="5802480"/>
        </p:xfrm>
        <a:graphic>
          <a:graphicData uri="http://schemas.openxmlformats.org/drawingml/2006/table">
            <a:tbl>
              <a:tblPr/>
              <a:tblGrid>
                <a:gridCol w="2057400"/>
                <a:gridCol w="457200"/>
                <a:gridCol w="609480"/>
                <a:gridCol w="609480"/>
                <a:gridCol w="685800"/>
                <a:gridCol w="533520"/>
                <a:gridCol w="685800"/>
                <a:gridCol w="609480"/>
                <a:gridCol w="838440"/>
                <a:gridCol w="838080"/>
                <a:gridCol w="9144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915"/>
          <p:cNvSpPr/>
          <p:nvPr/>
        </p:nvSpPr>
        <p:spPr>
          <a:xfrm>
            <a:off x="2666880" y="2666880"/>
            <a:ext cx="62485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127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не включаю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ведения о специалистах с высшим немедицинским образованием, занимающих врачебные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17"/>
          <p:cNvSpPr/>
          <p:nvPr/>
        </p:nvSpPr>
        <p:spPr>
          <a:xfrm>
            <a:off x="2743200" y="4038480"/>
            <a:ext cx="609588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а 127 может быть больше суммы строк со 128 по 134 за счет: биолог, зоолог, эксперт-физик, эмбриолог, энтомоло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Если строка 127 больше суммы строк, то разницу  расшиф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280" y="762120"/>
          <a:ext cx="8763120" cy="5546520"/>
        </p:xfrm>
        <a:graphic>
          <a:graphicData uri="http://schemas.openxmlformats.org/drawingml/2006/table">
            <a:tbl>
              <a:tblPr/>
              <a:tblGrid>
                <a:gridCol w="1681200"/>
                <a:gridCol w="528840"/>
                <a:gridCol w="685800"/>
                <a:gridCol w="761760"/>
                <a:gridCol w="609840"/>
                <a:gridCol w="685800"/>
                <a:gridCol w="609480"/>
                <a:gridCol w="685800"/>
                <a:gridCol w="838080"/>
                <a:gridCol w="838440"/>
                <a:gridCol w="8380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 по специальностя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ономика фа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химия и фармакогно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710"/>
          <p:cNvSpPr/>
          <p:nvPr/>
        </p:nvSpPr>
        <p:spPr>
          <a:xfrm>
            <a:off x="2362320" y="4114800"/>
            <a:ext cx="647676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у 135 заполнить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13"/>
          <p:cNvSpPr/>
          <p:nvPr/>
        </p:nvSpPr>
        <p:spPr>
          <a:xfrm>
            <a:off x="2819520" y="5638680"/>
            <a:ext cx="60958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135 равна сумме строк со 136 по 138 по графе 9. Остальные графы по строкам с 136 по 138 не заполня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4. Должности специалистов со средним профессиональным (медицинским) образованием (средний медицинский персона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уш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гиенист стоматологическ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молочной кух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здравпунктом - фельдшер (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фельдшерско-акушерским пунктом - фельдшер (акуш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кабинетом медицинской профилактики – фельдш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производством учреждений (отделов, отдел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ий) зубопротез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280" y="685800"/>
          <a:ext cx="8839440" cy="601992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09480"/>
                <a:gridCol w="762120"/>
                <a:gridCol w="609480"/>
                <a:gridCol w="533520"/>
                <a:gridCol w="762120"/>
                <a:gridCol w="685800"/>
                <a:gridCol w="761760"/>
                <a:gridCol w="914400"/>
                <a:gridCol w="8384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39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719"/>
          <p:cNvSpPr/>
          <p:nvPr/>
        </p:nvSpPr>
        <p:spPr>
          <a:xfrm>
            <a:off x="2743200" y="5715000"/>
            <a:ext cx="6172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персона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720"/>
          <p:cNvSpPr/>
          <p:nvPr/>
        </p:nvSpPr>
        <p:spPr>
          <a:xfrm>
            <a:off x="2133720" y="6095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21"/>
          <p:cNvSpPr/>
          <p:nvPr/>
        </p:nvSpPr>
        <p:spPr>
          <a:xfrm>
            <a:off x="2666880" y="3200400"/>
            <a:ext cx="61722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Медицинские сестры с высшим образованием, занимающие должности врачей в строку 13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не включ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28"/>
          <p:cNvSpPr/>
          <p:nvPr/>
        </p:nvSpPr>
        <p:spPr>
          <a:xfrm>
            <a:off x="2743200" y="4419720"/>
            <a:ext cx="59436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умма строк 141 и 142 равна строке 1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320" y="609480"/>
          <a:ext cx="8915400" cy="5715000"/>
        </p:xfrm>
        <a:graphic>
          <a:graphicData uri="http://schemas.openxmlformats.org/drawingml/2006/table">
            <a:tbl>
              <a:tblPr/>
              <a:tblGrid>
                <a:gridCol w="1676160"/>
                <a:gridCol w="500040"/>
                <a:gridCol w="795600"/>
                <a:gridCol w="761760"/>
                <a:gridCol w="609840"/>
                <a:gridCol w="685800"/>
                <a:gridCol w="609480"/>
                <a:gridCol w="685800"/>
                <a:gridCol w="914400"/>
                <a:gridCol w="83808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стр. 139):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 фельдшерско-акушерским пунк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ники 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719"/>
          <p:cNvSpPr/>
          <p:nvPr/>
        </p:nvSpPr>
        <p:spPr>
          <a:xfrm>
            <a:off x="2362320" y="2590920"/>
            <a:ext cx="65530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4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хней; заведующий здравпунктом –фельдшер (медицинская сестра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едующий ФАП – фельдшер (акушер, медицинская сестра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едующий кабинетом медпрофилактики – фельдшер (медицин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стра); заведующий отделом, отделением, лабораторией, кабине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убопротез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04"/>
          <p:cNvSpPr/>
          <p:nvPr/>
        </p:nvSpPr>
        <p:spPr>
          <a:xfrm>
            <a:off x="2362320" y="4495680"/>
            <a:ext cx="647676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9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игиене, врача по общей гигиене, врача по радиационной гигие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ощник энтомолога, и т.д. в соответствии с действующ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менклатурой долж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76320" y="457200"/>
          <a:ext cx="8915400" cy="6469200"/>
        </p:xfrm>
        <a:graphic>
          <a:graphicData uri="http://schemas.openxmlformats.org/drawingml/2006/table">
            <a:tbl>
              <a:tblPr/>
              <a:tblGrid>
                <a:gridCol w="1819080"/>
                <a:gridCol w="432000"/>
                <a:gridCol w="657000"/>
                <a:gridCol w="638280"/>
                <a:gridCol w="836640"/>
                <a:gridCol w="755640"/>
                <a:gridCol w="679320"/>
                <a:gridCol w="604800"/>
                <a:gridCol w="830520"/>
                <a:gridCol w="831600"/>
                <a:gridCol w="830520"/>
              </a:tblGrid>
              <a:tr h="10065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859"/>
          <p:cNvSpPr/>
          <p:nvPr/>
        </p:nvSpPr>
        <p:spPr>
          <a:xfrm>
            <a:off x="2362320" y="4724280"/>
            <a:ext cx="647676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4 по 166. То есть специалисты с высш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62"/>
          <p:cNvSpPr/>
          <p:nvPr/>
        </p:nvSpPr>
        <p:spPr>
          <a:xfrm>
            <a:off x="2362320" y="2743200"/>
            <a:ext cx="6629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ах 164-169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63"/>
          <p:cNvSpPr/>
          <p:nvPr/>
        </p:nvSpPr>
        <p:spPr>
          <a:xfrm>
            <a:off x="2362320" y="5486400"/>
            <a:ext cx="64767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7 по 169. То есть специалисты со средн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80"/>
          <p:cNvSpPr/>
          <p:nvPr/>
        </p:nvSpPr>
        <p:spPr>
          <a:xfrm>
            <a:off x="2362320" y="3962520"/>
            <a:ext cx="6553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трока 163 может быть больше или равна сумме строк со 164 по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52280" y="457200"/>
          <a:ext cx="8763120" cy="6218280"/>
        </p:xfrm>
        <a:graphic>
          <a:graphicData uri="http://schemas.openxmlformats.org/drawingml/2006/table">
            <a:tbl>
              <a:tblPr/>
              <a:tblGrid>
                <a:gridCol w="1667160"/>
                <a:gridCol w="542880"/>
                <a:gridCol w="546120"/>
                <a:gridCol w="641160"/>
                <a:gridCol w="687600"/>
                <a:gridCol w="625320"/>
                <a:gridCol w="671400"/>
                <a:gridCol w="609840"/>
                <a:gridCol w="736560"/>
                <a:gridCol w="1008000"/>
                <a:gridCol w="102708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3: анестез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885"/>
          <p:cNvSpPr/>
          <p:nvPr/>
        </p:nvSpPr>
        <p:spPr>
          <a:xfrm>
            <a:off x="2362320" y="3200400"/>
            <a:ext cx="65530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суммы строк со 170 по 1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85"/>
          <p:cNvSpPr/>
          <p:nvPr/>
        </p:nvSpPr>
        <p:spPr>
          <a:xfrm>
            <a:off x="2895480" y="5257800"/>
            <a:ext cx="57150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е медсестра включаются только в строку 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6320" y="581040"/>
          <a:ext cx="8915400" cy="6161040"/>
        </p:xfrm>
        <a:graphic>
          <a:graphicData uri="http://schemas.openxmlformats.org/drawingml/2006/table">
            <a:tbl>
              <a:tblPr/>
              <a:tblGrid>
                <a:gridCol w="1844640"/>
                <a:gridCol w="538200"/>
                <a:gridCol w="614160"/>
                <a:gridCol w="692280"/>
                <a:gridCol w="614160"/>
                <a:gridCol w="692280"/>
                <a:gridCol w="614520"/>
                <a:gridCol w="615960"/>
                <a:gridCol w="920520"/>
                <a:gridCol w="846360"/>
                <a:gridCol w="9223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252"/>
          <p:cNvSpPr/>
          <p:nvPr/>
        </p:nvSpPr>
        <p:spPr>
          <a:xfrm>
            <a:off x="3124080" y="5334120"/>
            <a:ext cx="4724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а 213 показывается из строки 15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28"/>
          <p:cNvSpPr/>
          <p:nvPr/>
        </p:nvSpPr>
        <p:spPr>
          <a:xfrm>
            <a:off x="3124080" y="3200400"/>
            <a:ext cx="434340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умма строк 210 и 211 равна строке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28"/>
          <p:cNvSpPr/>
          <p:nvPr/>
        </p:nvSpPr>
        <p:spPr>
          <a:xfrm>
            <a:off x="3048120" y="4191120"/>
            <a:ext cx="51814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ресты в строках с 210 по 212 убрать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5. Иные должности медицинских рабо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ладший медицинский персонал)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ая медицинская сестра по уходу за боль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ит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итар-вод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стра-хозяй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371600"/>
            <a:ext cx="1523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БУ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48320" y="91440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1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48320" y="175248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2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48320" y="251460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905120" y="914400"/>
            <a:ext cx="2209680" cy="22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собл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уктур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раз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191120" y="83808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733920" y="30481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779f92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295280" y="3886200"/>
            <a:ext cx="6553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Юридическое лицо – 1 (ОГБУЗ Детская больница №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обособленных структурных подразделения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заведующих поликлин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295280" y="5029200"/>
            <a:ext cx="6705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ФСН №30 предоставляется по юридическому лицу без учета структурных подразделений и по каждому обособленному подразд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088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л-ие отделен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циона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52280" y="457200"/>
          <a:ext cx="8839440" cy="374976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58800"/>
                <a:gridCol w="648000"/>
                <a:gridCol w="695160"/>
                <a:gridCol w="628560"/>
                <a:gridCol w="677880"/>
                <a:gridCol w="614520"/>
                <a:gridCol w="74448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сестры по уходу за бо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550"/>
          <p:cNvSpPr/>
          <p:nvPr/>
        </p:nvSpPr>
        <p:spPr>
          <a:xfrm>
            <a:off x="2362320" y="2743200"/>
            <a:ext cx="65530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14 может быть больше суммы строк 215+216 (санитар-водитель, сестра-хозяйка, младший фармацевтический персонал - фасовщик, санитар (мойщи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52"/>
          <p:cNvSpPr/>
          <p:nvPr/>
        </p:nvSpPr>
        <p:spPr>
          <a:xfrm>
            <a:off x="152280" y="4267080"/>
            <a:ext cx="883944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 (полное) общее образование, дополнительную подготовку на курсах младших медицинских сестер по уходу за больными и стаж  работы  по профилю не менее 2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53"/>
          <p:cNvSpPr/>
          <p:nvPr/>
        </p:nvSpPr>
        <p:spPr>
          <a:xfrm>
            <a:off x="152280" y="5715000"/>
            <a:ext cx="87631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, но в зависимости от выполняемой работы может потребоваться предварительная подготовка в виде курсов, обучения по специальным программам (санитар судмедэкспертизы, отдела лучевой диагностики и т.д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52280" y="685800"/>
          <a:ext cx="8763120" cy="45529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601"/>
          <p:cNvSpPr/>
          <p:nvPr/>
        </p:nvSpPr>
        <p:spPr>
          <a:xfrm>
            <a:off x="2286000" y="3124080"/>
            <a:ext cx="65530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217 включаются: 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02"/>
          <p:cNvSpPr/>
          <p:nvPr/>
        </p:nvSpPr>
        <p:spPr>
          <a:xfrm>
            <a:off x="457200" y="5486400"/>
            <a:ext cx="6858000" cy="762120"/>
          </a:xfrm>
          <a:prstGeom prst="wedgeRoundRectCallout">
            <a:avLst>
              <a:gd name="adj1" fmla="val -32245"/>
              <a:gd name="adj2" fmla="val -92916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у 220 включаются: программисты, операторы ЭВМ, администраторы компьютерных сетей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52280" y="609480"/>
          <a:ext cx="8839440" cy="545652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60600"/>
                <a:gridCol w="646200"/>
                <a:gridCol w="695160"/>
                <a:gridCol w="630360"/>
                <a:gridCol w="676080"/>
                <a:gridCol w="615960"/>
                <a:gridCol w="74304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            лаборан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694"/>
          <p:cNvSpPr/>
          <p:nvPr/>
        </p:nvSpPr>
        <p:spPr>
          <a:xfrm>
            <a:off x="2362320" y="2895480"/>
            <a:ext cx="56386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с 222 по 225 заполняются по графам 9, 10, 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с 222 по 225 по графам с 3 по 8 не заполня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99"/>
          <p:cNvSpPr/>
          <p:nvPr/>
        </p:nvSpPr>
        <p:spPr>
          <a:xfrm>
            <a:off x="2362320" y="373392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0"/>
          <p:cNvSpPr/>
          <p:nvPr/>
        </p:nvSpPr>
        <p:spPr>
          <a:xfrm>
            <a:off x="53352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го физических лиц равно сумме строк 221+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762120"/>
          <a:ext cx="8763120" cy="2987640"/>
        </p:xfrm>
        <a:graphic>
          <a:graphicData uri="http://schemas.openxmlformats.org/drawingml/2006/table">
            <a:tbl>
              <a:tblPr/>
              <a:tblGrid>
                <a:gridCol w="5715000"/>
                <a:gridCol w="990720"/>
                <a:gridCol w="205740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омплекс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228"/>
          <p:cNvSpPr/>
          <p:nvPr/>
        </p:nvSpPr>
        <p:spPr>
          <a:xfrm>
            <a:off x="4572000" y="1752480"/>
            <a:ext cx="4419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оверка доступности первичной медико-санитарной помощ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численность населения) : (нормати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нности населения на участке)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нность штатных должностей участков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и этом могут быть откло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29"/>
          <p:cNvSpPr/>
          <p:nvPr/>
        </p:nvSpPr>
        <p:spPr>
          <a:xfrm>
            <a:off x="4114800" y="617220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28"/>
          <p:cNvSpPr/>
          <p:nvPr/>
        </p:nvSpPr>
        <p:spPr>
          <a:xfrm>
            <a:off x="380880" y="3886200"/>
            <a:ext cx="82296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оличество терапевтических, педиатрических участков и участков вр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общей практики указанное в данной таблице, должно быть сопоставимо с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штатной численностью соответствующих должностей, указанных в таблиц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2895480"/>
            <a:ext cx="8915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от 15.05.2012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№ 543н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“Об утверждении Положения об организации оказания первичной медико-санитарной помощи взрослому населению” могут быть организованы следующие участк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рапевтический, с численностью прикрепленного взрослого населения (18 лет и старше) в количестве 17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а общей практики, с численностью прикрепленного взрослого на- селения (18 лет и старше) в количестве 12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мейного врача, с численностью прикрепленного взрослого и детского населения в количестве 15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, с численностью прикрепленного населения (взрослого и детского) в количестве 2000 ч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 от 16.04.2012 №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366н 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 утверждении Порядка оказания педиатрической помощи" рекомендовано на 1 врача-педиатра участкового 800 прикрепленного детского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3962520" y="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5335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омплексный терапевтический участ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обслуживается врачом терапевтом участковым, медсестрой и фельдшером (акушеркой), ФАП, Ф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Комплексный терапевтический участ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ируется из населения врачебного участка с недостаточной численностью прикрепленного населения (малокомплектный участок) или населения, обслуживаемого врачом-терапевтом амбулатории и населения, обслуживаемого фельдшерско-акушерскими пунктами (фельдшерскими пункт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малокомплектным участкам относят участки,  численность прикрепленного населения на которых на 200 человек ниже установленных норматив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33520" y="32004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аблице отражаются сведения и числе физических лиц медицинских работников на комплексных врачебных участках из числа указанных в таблице 1107, строке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соответствующие данные таблицы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990720"/>
          <a:ext cx="8610480" cy="17366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медицинских работников на </a:t>
                      </a: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омплексных врачебны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а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ов  1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ок 2.___________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сестер 3.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7"/>
          <p:cNvSpPr/>
          <p:nvPr/>
        </p:nvSpPr>
        <p:spPr>
          <a:xfrm>
            <a:off x="4572000" y="1905120"/>
            <a:ext cx="37339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, 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олнена строка 2 таблицы 11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14400"/>
          <a:ext cx="8763120" cy="5273640"/>
        </p:xfrm>
        <a:graphic>
          <a:graphicData uri="http://schemas.openxmlformats.org/drawingml/2006/table">
            <a:tbl>
              <a:tblPr/>
              <a:tblGrid>
                <a:gridCol w="2262240"/>
                <a:gridCol w="519120"/>
                <a:gridCol w="352440"/>
                <a:gridCol w="803160"/>
                <a:gridCol w="804960"/>
                <a:gridCol w="820800"/>
                <a:gridCol w="789120"/>
                <a:gridCol w="801720"/>
                <a:gridCol w="804600"/>
                <a:gridCol w="80496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38"/>
          <p:cNvSpPr/>
          <p:nvPr/>
        </p:nvSpPr>
        <p:spPr>
          <a:xfrm>
            <a:off x="3429000" y="2286000"/>
            <a:ext cx="54100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по полу по должностям в таблице должны быть равны  соответствующим данным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раст работников берется по состоянию на конец отчетного (полн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40"/>
          <p:cNvSpPr/>
          <p:nvPr/>
        </p:nvSpPr>
        <p:spPr>
          <a:xfrm>
            <a:off x="3352680" y="5486400"/>
            <a:ext cx="55627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11 и 12 по графе 4 должна быть равна строке 127 +222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42"/>
          <p:cNvSpPr/>
          <p:nvPr/>
        </p:nvSpPr>
        <p:spPr>
          <a:xfrm>
            <a:off x="3429000" y="4648320"/>
            <a:ext cx="5410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457200" y="19810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раздела включают сведения о работе врачей осуществляющих прием пациентов в амбулаторных условиях и на дому, а также консультативный пр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ем врачей (среднего медицинского персонала на самостоятельном приеме) отделений (кабинетов) платных услуг включаются во все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рачи-интерны ведут прием под руководством врача-специалиста и в его присутствии, то сведения о посещениях учитывают толь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троке,  соответствующей занимаемой должности врача-специа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ях, когда интерны ведут самостоятельный прием пациентов, сведения показывают в строке 122 «прочие» независимо от специальности, по которой врач проходит интерн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т деятельности специалистов  вспомогательных отделений (кабинетов), лабораторий и других вышеуказанных подразделений соответствует требованиям  Общероссийскому классификатору единиц измерения (ОКЕИ), показывается один раз в соответствующих таблицах и учитывается в «единицах», «человеках», «исследованиях», «процедурах» и т.д. Двойной учет одного вида деятельности в разных таблицах не допус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у единиц измерения (ОКЕИ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остановлением Госстандарта России от 26.12.1994 N 366 (ред. от 28.03.201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сещ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щ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повод визита пациента в поликлинику. Цель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или нескольких посещений пациента, в результате которых цель обращения достиг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ми жител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в сельских населенных пунктах, входящих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ой местностью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имаются сельские поселения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(Реестр административно-территориальных единиц субъекта Российской Федераци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их сельских населенных пунктов на территории субъекта Российской Федерации определяется и утверждается исполнительным органом государственной власти субъекта Российской Федерации. Указанный Реестр можно найти на официальных сайтах органов исполнительной власти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948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, при заполнении ФФСН №30, следует иметь в ви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у подлежат следующие посе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 любых  специальностей,  ведущих прием в амбулаторных условиях,  в том числе  консультативный  прием  (терапевтов,  педиатров,  хирургов, акушеров-гинекологов, урологов и т.д., включая заведующих отделениями) в медицинских организациях и вне медицинских организаций  с ведением медицинской карты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пунктов (отделений) неотложной медицинск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здравпунктов, цеховых терапевтов, акушеров-гинекологов и других, ведущих прием в амбулаторных условиях на  здравпунктах в часы, специально выделенные для амбулаторного при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  в   специально выделенные  дни для  приема 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при выездах в другие медицинские организации (районные больницы, участковые больницы, амбулатории, фельдшерско-акушерские пунк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психотерапевтов  при  проведении  групповых  занятий  (число посещений учитывается по числу пациентов, занимающихся в групп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стоматологов ,осуществляющих прием в стоматологических кабинетах в больничных организациях (госпитали, диспансеры, психиатрические и психоневрологические больницы, фтизиопульмонологические центры), а также сана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ачей-инфекционистов, проводящих подворные обходы  во  время вспышки  инфекционных  заболеваний,  осмотры  контактных  в  очаге (семье) инфекционного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ческие осмотры детей в детских дошкольных учреждениях, школах, профилактические осмотры  населения, включая периодические осмотры рабочих промышленных предприятий, работников других предприятий (учреждений), независимо от того, проведены ли они в стенах подразделения, оказывающего медицинскую помощь в амбулаторных условиях или непосредственно на предприятия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учреждения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я учитываются только при наличии соответствующей записи в медицинской карте пациента, получающего медицинскую помощь в амбулаторных условиях и заполненного талона пациента, получающего медицинскую помощь в амбулаторных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врачей медицинской организации 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320" y="1066680"/>
          <a:ext cx="8839080" cy="5608800"/>
        </p:xfrm>
        <a:graphic>
          <a:graphicData uri="http://schemas.openxmlformats.org/drawingml/2006/table">
            <a:tbl>
              <a:tblPr/>
              <a:tblGrid>
                <a:gridCol w="1166760"/>
                <a:gridCol w="385560"/>
                <a:gridCol w="712800"/>
                <a:gridCol w="782640"/>
                <a:gridCol w="609840"/>
                <a:gridCol w="533160"/>
                <a:gridCol w="574920"/>
                <a:gridCol w="519120"/>
                <a:gridCol w="658800"/>
                <a:gridCol w="685800"/>
                <a:gridCol w="761760"/>
                <a:gridCol w="685800"/>
                <a:gridCol w="76212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рослыми 18 лет и старш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 дет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ортопе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96"/>
          <p:cNvSpPr/>
          <p:nvPr/>
        </p:nvSpPr>
        <p:spPr>
          <a:xfrm>
            <a:off x="1828800" y="38098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рачей-стоматологов, включая деятельность врачей-стоматологов передвижных установок и кабинетов в образовательных учреждениях,  показывают в таблице 2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ах с 86 по 90 соответственно занятым должностям. Деятельность стоматологов заполняется по всем граф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7"/>
          <p:cNvSpPr/>
          <p:nvPr/>
        </p:nvSpPr>
        <p:spPr>
          <a:xfrm>
            <a:off x="184680" y="735120"/>
            <a:ext cx="14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838080"/>
          <a:ext cx="8763120" cy="3946680"/>
        </p:xfrm>
        <a:graphic>
          <a:graphicData uri="http://schemas.openxmlformats.org/drawingml/2006/table">
            <a:tbl>
              <a:tblPr/>
              <a:tblGrid>
                <a:gridCol w="6248520"/>
                <a:gridCol w="878040"/>
                <a:gridCol w="163656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неотложной медицинской помощи на дому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отделениях, кабине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льскому насел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Rectangle 54"/>
          <p:cNvSpPr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solidFill>
            <a:srgbClr val="cc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неотложной медицинской помощи на дому,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а также в отделениях и кабинетах неотложн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строки 4 выделяется число посещений, выполненных сельскими жите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строки 4 указываются посещения выполненные к взрослому населению, детск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7315200" y="1981080"/>
            <a:ext cx="1523880" cy="1676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с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е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население 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расте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 месяцев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280" y="838080"/>
          <a:ext cx="8686800" cy="16462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врачами пунктов неотложной медицинской помощи на дому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кабинетов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 таблицы 2100)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(18 лет и старше) 1___, детьми (0-17 лет) 2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Включить посещения, выполненные к врачам отделений и кабинетов неотложной пом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12"/>
          <p:cNvSpPr/>
          <p:nvPr/>
        </p:nvSpPr>
        <p:spPr>
          <a:xfrm>
            <a:off x="15228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 врачами пунктов неотложной медицинской помощи на дому, в том случае, если пункт неотложной помощи на дому организован в медицинской организации в соответствии с требованиями нормати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нкт  неотложной помощи  на дому является структурным подразделением поликлиники и организован для оказания медицинской помощи при внезапных острых заболеваниях, обострении хронических заболеваний, неопасных для жизни и не требующих экстренной медицинской 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атная численность персонала и режим работы пункта неотложной помощи на дому устанавливается руководителем медицинской организации в соответствии с положением о работе пун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тложная помощь на дому осуществляется в течение не более 2 часов после поступления обращения больного или иного лица об оказании неотложной медицинской помощи на дому либо от работника станции скор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066680"/>
          <a:ext cx="8458200" cy="207324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914400"/>
                <a:gridCol w="1218960"/>
                <a:gridCol w="990720"/>
                <a:gridCol w="114300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ещения к врачам центров здоровья и комплексные об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гр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гр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(из табл.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мплекс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41"/>
          <p:cNvSpPr/>
          <p:nvPr/>
        </p:nvSpPr>
        <p:spPr>
          <a:xfrm>
            <a:off x="380880" y="3581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строке 1 таблицы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, должны соответствовать отчету по форме №68 «Сведения о деятельности центров здоровья» за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из табл. 2100, стр.1, гр. 3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поводу заболе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2100, стр.1, гр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оду заболе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2100, стр.1, гр. 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Rectangle 34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ываются посещения лиц старше трудоспособного возраста, то есть посещения женщин  возрасте 55 лет и старше и мужчин в возрасте 60 лет и стар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762120"/>
          <a:ext cx="8763120" cy="530532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 иными целями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127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1 должна </a:t>
            </a:r>
            <a:r>
              <a:rPr b="1" lang="ru-RU" sz="1400" spc="-1" strike="noStrike" u="sng">
                <a:solidFill>
                  <a:srgbClr val="990033"/>
                </a:solidFill>
                <a:uFillTx/>
                <a:latin typeface="Times New Roman"/>
              </a:rPr>
              <a:t>быть больш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ммы строк 2+3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5 должна быть равна сумме строк с 6 по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8"/>
          <p:cNvSpPr/>
          <p:nvPr/>
        </p:nvSpPr>
        <p:spPr>
          <a:xfrm>
            <a:off x="4495680" y="1905120"/>
            <a:ext cx="4496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29"/>
          <p:cNvSpPr/>
          <p:nvPr/>
        </p:nvSpPr>
        <p:spPr>
          <a:xfrm>
            <a:off x="4495680" y="4876920"/>
            <a:ext cx="4419720" cy="990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30"/>
          <p:cNvSpPr/>
          <p:nvPr/>
        </p:nvSpPr>
        <p:spPr>
          <a:xfrm>
            <a:off x="152280" y="6095880"/>
            <a:ext cx="87631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графе 3 строка 1 должна быть равна сумме граф 7+8+11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графе 3 сумма строк 1+5 должна быть равна сумме граф 3+9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дицинской помощи лицам, обратившимся с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знаками неотложных состоя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 внезапных острых заболеваниях, состояниях, обострении хронических заболеваний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опасных для жизни и не требующих экстренной медицинской помощ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ициативе вр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инамическое наблюд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упреждения ослож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бострений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33520" y="1066680"/>
          <a:ext cx="8381880" cy="140184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12"/>
          <p:cNvSpPr/>
          <p:nvPr/>
        </p:nvSpPr>
        <p:spPr>
          <a:xfrm>
            <a:off x="228600" y="27432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676520" y="198108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II.  ШТАТ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МЕДИЦИНСК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5715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стоматологического каби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2280" y="914400"/>
          <a:ext cx="8763120" cy="40924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16028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70"/>
          <p:cNvSpPr/>
          <p:nvPr/>
        </p:nvSpPr>
        <p:spPr>
          <a:xfrm>
            <a:off x="152280" y="5867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1"/>
          <p:cNvSpPr/>
          <p:nvPr/>
        </p:nvSpPr>
        <p:spPr>
          <a:xfrm>
            <a:off x="4343400" y="2438280"/>
            <a:ext cx="45720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2"/>
          <p:cNvSpPr/>
          <p:nvPr/>
        </p:nvSpPr>
        <p:spPr>
          <a:xfrm>
            <a:off x="4343400" y="4419720"/>
            <a:ext cx="44956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3"/>
          <p:cNvSpPr/>
          <p:nvPr/>
        </p:nvSpPr>
        <p:spPr>
          <a:xfrm>
            <a:off x="152280" y="5029200"/>
            <a:ext cx="87631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4+5 по всем графам во всех медицинских организациях, оказывающих стоматологические услуги населению, за исключением детских стоматологических поликлини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(разница на взрослы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4"/>
          <p:cNvSpPr/>
          <p:nvPr/>
        </p:nvSpPr>
        <p:spPr>
          <a:xfrm>
            <a:off x="228600" y="609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0 (продолжен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52280" y="990720"/>
          <a:ext cx="8763120" cy="3738600"/>
        </p:xfrm>
        <a:graphic>
          <a:graphicData uri="http://schemas.openxmlformats.org/drawingml/2006/table">
            <a:tbl>
              <a:tblPr/>
              <a:tblGrid>
                <a:gridCol w="1067040"/>
                <a:gridCol w="457200"/>
                <a:gridCol w="838080"/>
                <a:gridCol w="685800"/>
                <a:gridCol w="685800"/>
                <a:gridCol w="457200"/>
                <a:gridCol w="533520"/>
                <a:gridCol w="691920"/>
                <a:gridCol w="809640"/>
                <a:gridCol w="569880"/>
                <a:gridCol w="525600"/>
                <a:gridCol w="720720"/>
                <a:gridCol w="7207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80"/>
          <p:cNvSpPr/>
          <p:nvPr/>
        </p:nvSpPr>
        <p:spPr>
          <a:xfrm>
            <a:off x="1752480" y="3962520"/>
            <a:ext cx="7086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1"/>
          <p:cNvSpPr/>
          <p:nvPr/>
        </p:nvSpPr>
        <p:spPr>
          <a:xfrm>
            <a:off x="1752480" y="571500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врачей - стоматологов 27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8"/>
          <p:cNvSpPr/>
          <p:nvPr/>
        </p:nvSpPr>
        <p:spPr>
          <a:xfrm>
            <a:off x="152280" y="5638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9"/>
          <p:cNvSpPr/>
          <p:nvPr/>
        </p:nvSpPr>
        <p:spPr>
          <a:xfrm>
            <a:off x="152280" y="4495680"/>
            <a:ext cx="876312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4+5 по всем графам во всех медицинских организациях, оказывающих стоматологические услуги населению, за исключением детских стоматологических поликлини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(разница на взрослы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4920" y="990720"/>
          <a:ext cx="8381880" cy="3217680"/>
        </p:xfrm>
        <a:graphic>
          <a:graphicData uri="http://schemas.openxmlformats.org/drawingml/2006/table">
            <a:tbl>
              <a:tblPr/>
              <a:tblGrid>
                <a:gridCol w="4343400"/>
                <a:gridCol w="685800"/>
                <a:gridCol w="1971720"/>
                <a:gridCol w="1380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(из таблицы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из данного раздела включают сведения о должностях врачей, специалистов с высшим немедицинским образованием и среднего медицинского персонала, провизоров, фармацевтов, а также младшего (в соответстви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казом Минздрава России от 20.12.2012 г. № 1183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и прочего персонала, а также о физических лицах всех работников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ие лица основных работников пок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дин раз по основн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физические лица внешних совместителей не п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их совместителей показывают как физические лица только один раз по основной занимаемой должности (занятые должности без указания физического 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 работает на неполную ставку и его трудовая книжка находится в медицинской организации, то его показывают как основного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если работник, помимо основной должности, занимает по совместительству часть штатной должности в одном из структурных подразделений организации, то занятая им должность по совместительству показывается по соответствующей строке, без указания физ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0492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33520" y="4572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85800" y="1371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медицинские организации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заполняют таблицы раздела в соответствии со штатным расписанием, утвержденным руководителем медицинской организации в установленном поряд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14400" y="30481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р.15 включить специалистов, имеющих свидетельство об аккредитации  (стоматологи, провизоры)  и указать их количество в пояснительной запис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и и физические лица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143000"/>
          <a:ext cx="8763120" cy="4741920"/>
        </p:xfrm>
        <a:graphic>
          <a:graphicData uri="http://schemas.openxmlformats.org/drawingml/2006/table">
            <a:tbl>
              <a:tblPr/>
              <a:tblGrid>
                <a:gridCol w="1371600"/>
                <a:gridCol w="304920"/>
                <a:gridCol w="838080"/>
                <a:gridCol w="762120"/>
                <a:gridCol w="766800"/>
                <a:gridCol w="631800"/>
                <a:gridCol w="677880"/>
                <a:gridCol w="614160"/>
                <a:gridCol w="966960"/>
                <a:gridCol w="914400"/>
                <a:gridCol w="914400"/>
              </a:tblGrid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96"/>
          <p:cNvSpPr/>
          <p:nvPr/>
        </p:nvSpPr>
        <p:spPr>
          <a:xfrm>
            <a:off x="2743200" y="3733920"/>
            <a:ext cx="624852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составл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штатные должности организаций особого типа, при э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такая организация имеет поликлинику , 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и поликлиники показываются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е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штатные должности центров, станций и отделений скор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ой помощи, переливания крови, санаторно-курорт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и,  молочные кухн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Аналогично для граф по занятым должностям и физическ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9"/>
          <p:cNvSpPr/>
          <p:nvPr/>
        </p:nvSpPr>
        <p:spPr>
          <a:xfrm>
            <a:off x="268200" y="8380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 и физические лица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таблица 1100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990720"/>
          <a:ext cx="8839440" cy="5303880"/>
        </p:xfrm>
        <a:graphic>
          <a:graphicData uri="http://schemas.openxmlformats.org/drawingml/2006/table">
            <a:tbl>
              <a:tblPr/>
              <a:tblGrid>
                <a:gridCol w="1503360"/>
                <a:gridCol w="406440"/>
                <a:gridCol w="833400"/>
                <a:gridCol w="752760"/>
                <a:gridCol w="752400"/>
                <a:gridCol w="750960"/>
                <a:gridCol w="771480"/>
                <a:gridCol w="750600"/>
                <a:gridCol w="793800"/>
                <a:gridCol w="68580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611"/>
          <p:cNvSpPr/>
          <p:nvPr/>
        </p:nvSpPr>
        <p:spPr>
          <a:xfrm>
            <a:off x="2133720" y="4114800"/>
            <a:ext cx="67816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13"/>
          <p:cNvSpPr/>
          <p:nvPr/>
        </p:nvSpPr>
        <p:spPr>
          <a:xfrm>
            <a:off x="2133720" y="5486400"/>
            <a:ext cx="67816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лавный врач, заместитель главного врача больничной организации и общебольничный персонал показываются из граф 3, 4, 9 по графам 7, 8,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d.nesvetaylo</cp:lastModifiedBy>
  <dcterms:modified xsi:type="dcterms:W3CDTF">2016-12-14T06:17:08Z</dcterms:modified>
  <cp:revision>6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